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9FB-CC88-4601-A331-1FB1458A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803-3CE6-47B7-8E5B-7DE689D6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A23-A6BF-4D6D-B6CE-02479FBF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AA5-D8F7-40B2-9A3B-193EAE48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E585-7D12-42D1-957D-227AE2E1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840A-57A3-4E6A-A475-E34EDEEC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0A9D-C9E3-4CCE-A139-0946D03D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EFD9-C55D-4DFA-97FF-965D664B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F214-0C4B-4F84-8DEC-1B5DD140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67B2-DDB8-42DD-82FE-5CCB9ABF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998C-F798-4E42-B3DC-30B7BD06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495-3890-48D0-A03E-0AA9DEFA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B078-DCE2-4416-9479-63CB0541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A282-08E5-42C2-B117-AC9F09C0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3014-D78C-49B6-91EB-73BD3A70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813B-3715-4E11-A8D8-D9B034AE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38C6-8644-4A79-BE04-D11D2FC8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46B-B23E-4979-87CC-CAA0F2D5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615-DF37-401F-80CF-E8C752BC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C22-D121-4295-816D-23E082FB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1C3-C28A-4658-B704-D65C25AD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46E-979A-4E4A-8BA0-48AC0837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D8B7-324B-4C55-B303-EE415A3F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28A-B0F5-44EA-8930-4BAC0F25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2773-AF67-451F-BDBF-718172B0707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CCD4-70F4-4E01-BE60-A871080DA9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990720"/>
            <a:ext cx="9009000" cy="1052280"/>
            <a:chOff x="0" y="9907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098360"/>
              <a:ext cx="711360" cy="474480"/>
              <a:chOff x="290520" y="10983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0983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0983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520640"/>
              <a:ext cx="737640" cy="474480"/>
              <a:chOff x="414360" y="15206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5206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5206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4475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8118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938A-EE6C-4C5E-A3CC-07041AD90E3C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CC36-99E4-4284-9EDA-F51DCC4F98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3.org/Protocols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C 2206 Internet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TTP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w3.org/Protocols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ive Path (no leading /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document whose absolute URL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cs.laurentian.ca/badams/c2206/test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this document contains the lin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 href="test.php"&gt;...&lt;/a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 href="jsp/index.html"&gt;...&lt;/a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the absolute URL's 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cs.laurentian.ca/badams/c2206/test.ph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cs.laurentian.ca/badams/c2206/jsp/index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EAD-34A0-44FB-877C-0478443370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D3DAB-AA47-4201-88A2-2A1AE0696FC4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ive Path (leading /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document whose absolute URL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cs.laurentian.ca/badams/c2206/test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this document contains the lin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 href="/test.php"&gt;...&lt;/a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 href="/jsp/index.html"&gt;...&lt;/a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the absolute URL's 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cs.laurentian.ca/test.ph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cs.laurentian.ca/jsp/index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222-1285-4785-B251-3BECE5E867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02E00-10C9-4786-B0AC-CA46901B0C88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ry String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query string is an encoded string of name value pairs with the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?name1=value1&amp;name2=value2&amp;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encoding is needed to include special characters such as =, # and /. Each special character is encoded as %HH where HH is the hex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ces can be encoded as + characters or as %2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11C-3C2F-404A-B43B-192C590CC7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6B9DD-FC78-4CC5-A340-31749F668935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ry String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de the charac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 / ? : @ &amp; = + $ 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ce character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%2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ers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 &gt; # % 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 } | \ ^ [ ] `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HP there is a special function call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wurlenc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at can do this. Other web languages have similar fun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647-433F-476B-B806-21DF5FBB00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366FD-3F09-4D3B-B897-475F150AFE25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ry String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T request from a client the name-value pairs are sent to the server and are made available to a script such as a PHP script, or to a Java servl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ther way to send values to the server that does not use a query string is using a POST requ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on GET and POST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371-7FC9-4944-97F9-29A587EA0F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CDA78-B546-46E9-8DC0-91EAD528DF5E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HTTP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sends information to the server using an HTTP requ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three ways to send the requ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a link in an HTML document that corresponds to a URL on the serv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either retrieve document or execut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a URL into the browsers location or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a form submission but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7CD-E4F6-4EDC-A97B-C00E0CCD49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A8249-CF74-4FCE-8574-FC951E6DABFC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TP Request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important methods 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several other methods that are not often us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, OPTION, TRACE, 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908-A27F-485F-8E99-2305B6CBFE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EF7D8-77EE-4B45-9C50-A87980D1F6A0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TP GET Metho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to retrieve a document or execute a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pposed to modify data stored on the web server or in an associated datab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o return static or dynamic HTML documents and images, results of database que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bookmarked since query string is part of the UR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6F5-73C1-4A80-ADED-07ACE57DD0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6839D-2FC7-4B1D-A375-D609017B77AC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TP HEAD Metho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information about a document such as its last modified date so browser can decide whether to fetch it from server or from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's like a GET request but no document is sent back by the ser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C1B-DAFF-4D11-BF6B-DC279D3B6FD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099ED-8BC0-49BC-A223-8F94B7369AA7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TP POST Metho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in conjunction with HTML forms to send form data (name-value pairs) to the ser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the blank line at end of headers the form data is sent as name-value pai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is method if data stored on the server is modified (e.g, rows in database tab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bookmark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866-240F-43F8-83FA-3919D5A127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F8EA0-7363-40F3-B56B-3607DDFE2997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CP/I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3560" y="1371240"/>
            <a:ext cx="842184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: Transmission Control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: Internet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network protocols provide a standard method for sending and receiving messages over the Internet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 sits on top of TCP/IP as an application layer protocol that provides client-server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881-A05D-4225-8B0F-D08EDF78F0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6D9C5-29D0-42A9-AA8F-B483A13728E9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HTTP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 index.html HTTP/1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ost: local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ccept: image/gif, image/jpg, */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ccept-Language: 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nection: Keep-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er-Agent: browser info goes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5105520"/>
            <a:ext cx="3886200" cy="1143000"/>
          </a:xfrm>
          <a:prstGeom prst="wedgeEllipseCallout">
            <a:avLst>
              <a:gd name="adj1" fmla="val -46078"/>
              <a:gd name="adj2" fmla="val -70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value pai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d by a co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447920"/>
            <a:ext cx="74674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B34-0D83-4B45-BE4F-38AE4F588A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8CF77-94DE-4A3B-9B02-4BE38CE0113A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quest Head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types the browser will 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-Char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haracter sets the browser underst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-Enc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s such as gzip that browser ac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-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such as en that browser ac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796-13A0-4713-8EDE-C5CF334D35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D18E3-B3F5-4F6E-A01A-977A6E2394A6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quest Head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name/password of browser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cates if browser can handle persistent connections for multiple file/image 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-leng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bytes in request content: used only by POST request to give size of post data being sent on server's standard input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FFA-07D5-430B-A743-B0DF16E08EE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4D89D-86ED-4427-94A9-715FD8B0E603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quest Head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k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name/value pair to server that was set by server on a previous conn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ostname of the target (requir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-Modified-Si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ge should be send only if it has been modified since the specified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AFC-7088-4287-9549-4AF923D836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0AA32-1D5C-4ED8-BBE3-A2CF2B543505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quest Head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-Unmodified-Si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posite of If-Modified-Since (for PUT reques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that referred user to specified re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pelling mistake must be mad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Use Referer not Referr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-Ag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on browser making th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110-EC2F-4855-BBFC-C4D524CC50F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6ED08-AAA4-4147-A8BD-CEA73B68AB14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HTTP Respon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ate: date information goes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rver: Apache/1.3.23 (Uni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ast-Modified: date info goes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tent-Length: 14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TML document index.html goes he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3429000"/>
            <a:ext cx="2209680" cy="914400"/>
          </a:xfrm>
          <a:prstGeom prst="wedgeEllipseCallout">
            <a:avLst>
              <a:gd name="adj1" fmla="val -99569"/>
              <a:gd name="adj2" fmla="val 2413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nk li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990720"/>
            <a:ext cx="2210040" cy="609480"/>
          </a:xfrm>
          <a:prstGeom prst="wedgeEllipseCallout">
            <a:avLst>
              <a:gd name="adj1" fmla="val -140949"/>
              <a:gd name="adj2" fmla="val 4062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869-905B-474B-B4EC-A2F253535D1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3EB63-3EA9-47D8-B8AC-7BB8C1979E0D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rver Response Status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-199: informational c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-299: The request was succ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00-309: File has mo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header indicates the new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1 means that browser will automatically submit a new request for the redirected re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00-499: Client error was m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00-599: Server error was m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50A-F6C3-4024-A2F1-4FE9A287EF9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E80C8-9BA8-4DE6-91DF-2AA638D93799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Status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 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 request for a doc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ocument is included in th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4 No Con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01 Moved Perman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02 Found (Location head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04 Not F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00 Internal Server Err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94E-E3C3-4A22-B61B-B1A7924C3F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A2782-2088-4F59-9D9A-455810F4E8EE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M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art internet mail ex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/plain, text/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/gif, image/jpg, image/p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/x-gz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/z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38E-2893-4380-A3A2-3E40149998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A8081-3D87-4C90-BF62-A799BD3055BA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onse Head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methods such as GET, POST  that server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-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ous options for client side c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ther to use persistent connections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06D-BEA0-4E3F-B7F5-E16C85D8BAD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411B6-3C43-4408-B900-BD3DB0480BDB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HTT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3560" y="1371240"/>
            <a:ext cx="842184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ertext Transport Protocol (1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protocol that web servers and clients use to communicate on th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eb client is normally a browser on a client mach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er is a server such as Apache that receives HTTP requests from a client and sends an HTTP response back to a cli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C7A8-2F3C-4605-A2D9-0F844041FB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89D2F-4EA2-4DBC-A8A5-917055CD68FD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onse Head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-Enc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zip, f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-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 of the doc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-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 URL used to resolve relative URL's in the doc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A7F-A470-45A8-9C5E-89526AA5725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03C34-12F1-4FAE-971A-045646205501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onse Head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-Leng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ngth in bytes of the response's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-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typ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text/plain, text/html, or image/jp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document that changes frequently this tells broswer not to use a cached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DE2-E7DF-45C8-AD4F-ABBE74A2C5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906CB-0C5D-4332-ADB2-A9037E207A50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onse Head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t-Mod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document was last changed. Useful in c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documen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re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esh document again after specified number of 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0B4-6788-4743-9E62-7B439022699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A510E-569C-4749-8B31-FB76FC98074B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onse Head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y-Af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soon to repeat documen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and version of the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-Cook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to have browser set a cookie and return it on future 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A1D-647F-49E4-B10A-1C41D2137C9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383F8-30EB-4EEC-AD3D-1E41DBDBC10E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onse Head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the authorization scheme and the real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9A0-4B98-4F98-BAC0-2806A28CC43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DAFCF-5ECF-406D-AC71-0D0667F356E2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Gateway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riginal way for servers to provide dynamic content by executing external server-side scripts (e.g. Per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provides script with an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ript provides the dynamic 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efficient since a new process is started on the server for each client requ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899-401C-4D55-80C8-88A222D081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C38B1-F827-4129-9016-015AE4F8B29A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1600200"/>
            <a:ext cx="1371600" cy="1219320"/>
          </a:xfrm>
          <a:prstGeom prst="rect">
            <a:avLst/>
          </a:prstGeom>
          <a:solidFill>
            <a:srgbClr val="c3f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1600200"/>
            <a:ext cx="1371600" cy="1219320"/>
          </a:xfrm>
          <a:prstGeom prst="rect">
            <a:avLst/>
          </a:prstGeom>
          <a:solidFill>
            <a:srgbClr val="c3f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5029200"/>
            <a:ext cx="1371600" cy="1219320"/>
          </a:xfrm>
          <a:prstGeom prst="rect">
            <a:avLst/>
          </a:prstGeom>
          <a:solidFill>
            <a:srgbClr val="c3f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25120" y="1765440"/>
            <a:ext cx="187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 var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ing director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s, if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3657600"/>
            <a:ext cx="222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header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ponse cont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standar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4440" y="358128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ponse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9720" y="37339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24680" y="2971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47712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580920" y="304776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377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91440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914400" y="21333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2C4-797F-4B17-8CD9-6AB10F4DAF8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7DBE2-6849-491F-9FFB-7B2D06875148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GI Environment Variabl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OCUMENT_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directory of your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TTP_COOK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's cookie, if one has been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TTP_H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ost name of the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TTP_REFER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of page that called your 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F01-9F8B-43B0-B8F0-B69AB730DE8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C4BF7-73F1-4088-86B9-97FE35DC4EC5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GI Environment Variabl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TTP_USER_AG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's browser type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TT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cates if script is invoked by a secure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to your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name value pairs sent by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639-A253-4319-B973-4AB25132952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DCB78-94CB-4DDF-8806-89DBB038F379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GI Environment Variable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MOTE_ADD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address of the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MOTE_H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address or hostname of the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MOTE_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t tht client is connected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MOTE_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's user name if appli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156-FC61-4271-B182-EFE760290C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F0F2B-AFDA-4E7B-8972-F6C1586627E7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y this using windows tel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ap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 localhost 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^] to get prompt (control + 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 to get help (there is an open comma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 localhost 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 /index.html HTTP/1.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: localh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press enter to see HTTP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3886200"/>
            <a:ext cx="2057400" cy="1066680"/>
          </a:xfrm>
          <a:prstGeom prst="wedgeRoundRectCallout">
            <a:avLst>
              <a:gd name="adj1" fmla="val -101004"/>
              <a:gd name="adj2" fmla="val 3794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343400"/>
            <a:ext cx="48769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AB5-16B3-4F0B-B78F-BEF0D6BB8C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9290C-93D7-469B-B096-2FDA6C4657BF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GI Environment Variable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QUEST_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 or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QUEST_U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path relative to document ro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RIPT_FILE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path name of the scrip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RIPT_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relative to document ro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93F-B287-4BD0-B8B4-980DE65FBB6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4DB28-3414-4366-B01C-731A2815E41B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GI Environment Variables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RVER_ADM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ail address of server's web ma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RVER_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RL of the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RVER_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t number on which server is listen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RVER_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describing the server software and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981-C28B-4EDA-B815-EE827B37FFA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BA61C-2739-4A94-9590-1621C61BFF4B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TP Respon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/1.1 200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e: Tue, 22 Jun 2004 14:20:03 GM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 Apache/1.3.29 (Win32) PHP/4.3.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st-Modified: Sat, 06 Dec 2003 15:38:57 GM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ag: "0-76-3fd1f811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pt-Ranges: by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nt-Length: 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nt-Type: text/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&gt;&lt;title&gt;My Home Page&lt;/title&gt;&lt;/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1&gt;My Home Page&lt;/h1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mg src="apache_pb.gif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635800" y="4724280"/>
            <a:ext cx="3051000" cy="1268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1523880"/>
            <a:ext cx="49528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1600200"/>
            <a:ext cx="1752480" cy="1066680"/>
          </a:xfrm>
          <a:prstGeom prst="wedgeRoundRectCallout">
            <a:avLst>
              <a:gd name="adj1" fmla="val -88041"/>
              <a:gd name="adj2" fmla="val 2112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3429000"/>
            <a:ext cx="2286000" cy="838080"/>
          </a:xfrm>
          <a:prstGeom prst="wedgeRoundRectCallout">
            <a:avLst>
              <a:gd name="adj1" fmla="val -87152"/>
              <a:gd name="adj2" fmla="val 1458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nk li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4800600"/>
            <a:ext cx="30477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C39-AB05-4319-9AD0-2842C5D8DF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663A4-BE09-4182-8E4D-047F53A62905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ent/Server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1905120"/>
            <a:ext cx="2361960" cy="3047760"/>
            <a:chOff x="457200" y="1905120"/>
            <a:chExt cx="2361960" cy="3047760"/>
          </a:xfrm>
        </p:grpSpPr>
        <p:sp>
          <p:nvSpPr>
            <p:cNvPr id="118" name=""/>
            <p:cNvSpPr/>
            <p:nvPr/>
          </p:nvSpPr>
          <p:spPr>
            <a:xfrm>
              <a:off x="457200" y="1905120"/>
              <a:ext cx="2361960" cy="3047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9240" y="2144520"/>
              <a:ext cx="1779480" cy="1326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e.g. Apach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095880" y="1905120"/>
            <a:ext cx="2361960" cy="3047760"/>
            <a:chOff x="6095880" y="1905120"/>
            <a:chExt cx="2361960" cy="3047760"/>
          </a:xfrm>
        </p:grpSpPr>
        <p:sp>
          <p:nvSpPr>
            <p:cNvPr id="121" name=""/>
            <p:cNvSpPr/>
            <p:nvPr/>
          </p:nvSpPr>
          <p:spPr>
            <a:xfrm>
              <a:off x="6095880" y="1905120"/>
              <a:ext cx="2361960" cy="3047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7560" y="2144520"/>
              <a:ext cx="1342080" cy="1326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brows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H="1">
            <a:off x="3123720" y="4191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2666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3880" y="359244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30080" y="205740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C74A-6526-4FAC-976C-D443506CFE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7BD45-7D9C-4C03-A872-609A2C3DAD8C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iform Resource Loc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 uses URL to inform server what resourse is requested (also a universal resource location). Format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me://host:port/path?queryString#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localhost:8080/index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cs.laurentian.ca/test.php?name=bo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port is 80 and isn't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1BD-5C7D-48C7-B50A-F786561131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446A9-D9A0-410F-B149-7813494A5672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rtual P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part of a URL is a virtual path and does not need to be a path on the server's fil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localhost:8080/test/servlet/HelloWor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e the actual directory on the server for the HelloWorld servlet on my computer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/tomcat/webapps/test/WEB-INF/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45C-D9A0-42BE-9041-47BDCB7491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77FCF-63E7-4FD6-81BC-03ED3B1831E8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P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olute path (absolute UR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ly specifies the path to a resource using a complete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cs.laurentian.ca/c1046/assign5.htm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836-FC95-4B98-8C40-AD3733D885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4AAAE-D11E-459C-86F2-AE6C8F7EE0B1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17:04:13Z</dcterms:created>
  <dc:creator>Barry Adams</dc:creator>
  <dc:description/>
  <dc:language>en-US</dc:language>
  <cp:lastModifiedBy>Laurentian University </cp:lastModifiedBy>
  <cp:lastPrinted>1999-09-14T12:12:50Z</cp:lastPrinted>
  <dcterms:modified xsi:type="dcterms:W3CDTF">2004-06-22T16:49:41Z</dcterms:modified>
  <cp:revision>122</cp:revision>
  <dc:subject>HTTP</dc:subject>
  <dc:title>COSC 2206 Internet To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laurentian.ca/badams/c1046</vt:lpwstr>
  </property>
  <property fmtid="{D5CDD505-2E9C-101B-9397-08002B2CF9AE}" pid="9" name="LinkColor">
    <vt:r8>16711782</vt:r8>
  </property>
  <property fmtid="{D5CDD505-2E9C-101B-9397-08002B2CF9AE}" pid="10" name="MailAddress">
    <vt:lpwstr>barry@cs.laurentian.ca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ork\Html01\badams\c1046\ppt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