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BA4A-8C8B-414E-B8C1-C8AAA9CD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7F1-ADBF-482B-BFD1-0086DF13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209-A44F-43DD-AD32-9E323889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56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56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BE7-448D-4056-AD76-5A2C6377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E891-A34D-48CD-98A9-67FD4179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B609-8854-4D89-B8B0-1B6251D0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F0E0-96FD-4243-BDF1-A24B382F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E8F7-083C-4757-AC1B-8CB22EED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60DB-E490-486E-B177-543B9551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1E36-0412-4326-BC52-384F8C8E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A68D-9AB1-4C8F-A540-49AC665B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2BC4-1436-4890-A3E9-F6024591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4839-5FD5-4A93-9B94-43E5ED22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35C8-853A-4B2D-938C-C414B554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F750-9C45-4446-A291-CF687069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900B-AC61-4225-834D-F401477F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56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20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56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20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1895-2A3D-4941-B9B9-A0DBDC25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AD3E-1F77-4B76-9B6D-E0DA3863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033A-4D47-4190-8438-CE6C3C9B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A52-B56F-47E0-A227-D7E520B6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A1F-EE93-425E-AE8E-855C6B4D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BBD-2DAA-4B79-B76C-9243CA3A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91D-DDD7-40EE-BF8D-3BC90E95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702-CC9D-4BEF-8553-4172FC1E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43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5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01B1-966B-4992-97C6-C29B175898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990720"/>
            <a:ext cx="9009000" cy="1052280"/>
            <a:chOff x="0" y="9907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098360"/>
              <a:ext cx="711360" cy="474480"/>
              <a:chOff x="290520" y="10983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0983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0983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520640"/>
              <a:ext cx="737640" cy="474480"/>
              <a:chOff x="414360" y="15206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5206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5206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4475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9907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8118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422F-F5EE-448B-99FA-351E2FC355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evedge.netscape.com/" TargetMode="External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sdn.microsoft.com/" TargetMode="External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hyperlink" Target="examples/simple/date.html" TargetMode="External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3schools.com/" TargetMode="External"/><Relationship Id="rId2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hyperlink" Target="examples/simple/objects.html" TargetMode="External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examples/simple/HelloWorld1.htm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examples/simple/HelloWorld2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examples/simple/HelloWorld3.html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examples/simple/HelloWorld4.html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examples/simple/HelloWorld5.html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examples/simple/HelloWorld6.htm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examples/simple/insertDate.html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cma-international.org/publications/standards/Ecma-262.htm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examples/simple/array1.html" TargetMode="Externa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examples/simple/array2.html" TargetMode="Externa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examples/simple/array3.html" TargetMode="Externa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examples/simple/for-in.html" TargetMode="External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examples/simple/factorial.html" TargetMode="External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examples/simple/reverse.html" TargetMode="External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examples/simple/max.html" TargetMode="External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examples/simple/format.html" TargetMode="External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evedge.netscape.com/" TargetMode="External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hyperlink" Target="examples/simple/arrayMethods.html" TargetMode="External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C 2206 Internet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wser vers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guage Vers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55A1-4B94-4870-8D27-F4031A80D6CA}" type="slidenum">
              <a:t>1</a:t>
            </a:fld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language referenc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scape has online JavaScript client reference at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81480" y="3058200"/>
            <a:ext cx="6368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http://devedge.netscape.com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5F8-D1DB-4F56-8926-FB3ABD60DE83}" type="slidenum">
              <a:t>10</a:t>
            </a:fld>
          </a:p>
        </p:txBody>
      </p:sp>
    </p:spTree>
  </p:cSld>
  <p:transition>
    <p:cover dir="l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object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object has properties and methods that don't fit anywhere e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nfi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undefin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D98-9D68-4C43-A91B-FA506E4AB244}" type="slidenum">
              <a:t>100</a:t>
            </a:fld>
          </a:p>
        </p:txBody>
      </p:sp>
    </p:spTree>
  </p:cSld>
  <p:transition>
    <p:cover dir="l"/>
  </p:transition>
  <p:timing>
    <p:tnLst>
      <p:par>
        <p:cTn id="3539" dur="indefinite" restart="never" nodeType="tmRoot">
          <p:childTnLst>
            <p:seq>
              <p:cTn id="3540" dur="indefinite" nodeType="mainSeq">
                <p:childTnLst>
                  <p:par>
                    <p:cTn id="3541" fill="hold">
                      <p:stCondLst>
                        <p:cond delay="indefinite"/>
                      </p:stCondLst>
                      <p:childTnLst>
                        <p:par>
                          <p:cTn id="3542" fill="hold">
                            <p:stCondLst>
                              <p:cond delay="0"/>
                            </p:stCondLst>
                            <p:childTnLst>
                              <p:par>
                                <p:cTn id="3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5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6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7" fill="hold">
                      <p:stCondLst>
                        <p:cond delay="indefinite"/>
                      </p:stCondLst>
                      <p:childTnLst>
                        <p:par>
                          <p:cTn id="3548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1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2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6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9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3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4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object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ecodeUR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uri),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ecodeURICompone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ncodeUR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uri),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ncodeURICompone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scap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s),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unescap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val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sFinit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,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sNa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parseFloa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s),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parse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6F1-99A4-47DA-BDB0-8D43CDD2AC0D}" type="slidenum">
              <a:t>101</a:t>
            </a:fld>
          </a:p>
        </p:txBody>
      </p:sp>
    </p:spTree>
  </p:cSld>
  <p:transition>
    <p:cover dir="l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object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t a string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an integer or floating point num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n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parse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n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parseFloat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se functions return the first number found at the beginning of string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I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oes not begin with a number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NaN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returned and can be tested using th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isNa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n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un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BFA2-6A32-40B5-9E98-8DEF1BECEC7B}" type="slidenum">
              <a:t>102</a:t>
            </a:fld>
          </a:p>
        </p:txBody>
      </p:sp>
    </p:spTree>
  </p:cSld>
  <p:transition>
    <p:cover dir="l"/>
  </p:transition>
  <p:timing>
    <p:tnLst>
      <p:par>
        <p:cTn id="3567" dur="indefinite" restart="never" nodeType="tmRoot">
          <p:childTnLst>
            <p:seq>
              <p:cTn id="3568" dur="indefinite" nodeType="mainSeq">
                <p:childTnLst>
                  <p:par>
                    <p:cTn id="3569" fill="hold">
                      <p:stCondLst>
                        <p:cond delay="indefinite"/>
                      </p:stCondLst>
                      <p:childTnLst>
                        <p:par>
                          <p:cTn id="3570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7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2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3" fill="hold">
                      <p:stCondLst>
                        <p:cond delay="indefinite"/>
                      </p:stCondLst>
                      <p:childTnLst>
                        <p:par>
                          <p:cTn id="3584" fill="hold">
                            <p:stCondLst>
                              <p:cond delay="0"/>
                            </p:stCondLst>
                            <p:childTnLst>
                              <p:par>
                                <p:cTn id="3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8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functions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oding and decoding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ring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e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scap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f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unescap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escap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turns an encoded version o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which special characters  are represented in the form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%x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%uxxx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Unicode) wher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hex digit: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esca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Hello Worl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Hello%20World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unescap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ecodes an encoded st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0E3-F575-46EB-B4F5-192190ED1DEE}" type="slidenum">
              <a:t>103</a:t>
            </a:fld>
          </a:p>
        </p:txBody>
      </p:sp>
    </p:spTree>
  </p:cSld>
  <p:transition>
    <p:cover dir="l"/>
  </p:transition>
  <p:timing>
    <p:tnLst>
      <p:par>
        <p:cTn id="3591" dur="indefinite" restart="never" nodeType="tmRoot">
          <p:childTnLst>
            <p:seq>
              <p:cTn id="3592" dur="indefinite" nodeType="mainSeq">
                <p:childTnLst>
                  <p:par>
                    <p:cTn id="3593" fill="hold">
                      <p:stCondLst>
                        <p:cond delay="indefinite"/>
                      </p:stCondLst>
                      <p:childTnLst>
                        <p:par>
                          <p:cTn id="3594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8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1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2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5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6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fill="hold">
                      <p:stCondLst>
                        <p:cond delay="indefinite"/>
                      </p:stCondLst>
                      <p:childTnLst>
                        <p:par>
                          <p:cTn id="3608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2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5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fill="hold">
                      <p:stCondLst>
                        <p:cond delay="indefinite"/>
                      </p:stCondLst>
                      <p:childTnLst>
                        <p:par>
                          <p:cTn id="3618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1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2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functions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 can be constructed and executed at run time using th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ev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val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expression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e expression is any string that contains JavaScript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expr =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Math.sqrt(x*x + y*y);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h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eval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expr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8C04-C055-4D74-AE75-A8E4DBC044B1}" type="slidenum">
              <a:t>104</a:t>
            </a:fld>
          </a:p>
        </p:txBody>
      </p:sp>
    </p:spTree>
  </p:cSld>
  <p:transition>
    <p:cover dir="l"/>
  </p:transition>
  <p:timing>
    <p:tnLst>
      <p:par>
        <p:cTn id="3625" dur="indefinite" restart="never" nodeType="tmRoot">
          <p:childTnLst>
            <p:seq>
              <p:cTn id="3626" dur="indefinite" nodeType="mainSeq">
                <p:childTnLst>
                  <p:par>
                    <p:cTn id="3627" fill="hold">
                      <p:stCondLst>
                        <p:cond delay="indefinite"/>
                      </p:stCondLst>
                      <p:childTnLst>
                        <p:par>
                          <p:cTn id="3628" fill="hold">
                            <p:stCondLst>
                              <p:cond delay="0"/>
                            </p:stCondLst>
                            <p:childTnLst>
                              <p:par>
                                <p:cTn id="3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1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5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6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7" fill="hold">
                      <p:stCondLst>
                        <p:cond delay="indefinite"/>
                      </p:stCondLst>
                      <p:childTnLst>
                        <p:par>
                          <p:cTn id="3638" fill="hold">
                            <p:stCondLst>
                              <p:cond delay="0"/>
                            </p:stCondLst>
                            <p:childTnLst>
                              <p:par>
                                <p:cTn id="3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5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6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9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0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th object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ab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aco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x)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as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x),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ata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x),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atan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y,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ceil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x),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flo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s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x),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co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x),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ta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P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LN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 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LN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LOG10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LOG2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ex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x),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lo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888-4235-4955-8E6B-9C43E1C241DE}" type="slidenum">
              <a:t>105</a:t>
            </a:fld>
          </a:p>
        </p:txBody>
      </p:sp>
    </p:spTree>
  </p:cSld>
  <p:transition>
    <p:cover dir="l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th object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max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v1,v2,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m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v1,v2,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pow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x,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rand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rou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sq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FD8-D3CD-4E22-9800-E7FD1E9223F4}" type="slidenum">
              <a:t>106</a:t>
            </a:fld>
          </a:p>
        </p:txBody>
      </p:sp>
    </p:spTree>
  </p:cSld>
  <p:transition>
    <p:cover dir="l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e clas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urrent date and ti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today =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at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 constructor for day (1 to 31), month (0 to11), year (4 digi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d =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at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year,month,day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general for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d =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at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year, month, day, hours, minutes, seconds, millisecond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455-0447-43D5-BBDF-6D167A256B93}" type="slidenum">
              <a:t>107</a:t>
            </a:fld>
          </a:p>
        </p:txBody>
      </p:sp>
    </p:spTree>
  </p:cSld>
  <p:transition>
    <p:cover dir="l"/>
  </p:transition>
  <p:timing>
    <p:tnLst>
      <p:par>
        <p:cTn id="3653" dur="indefinite" restart="never" nodeType="tmRoot">
          <p:childTnLst>
            <p:seq>
              <p:cTn id="3654" dur="indefinite" nodeType="mainSeq">
                <p:childTnLst>
                  <p:par>
                    <p:cTn id="3655" fill="hold">
                      <p:stCondLst>
                        <p:cond delay="indefinite"/>
                      </p:stCondLst>
                      <p:childTnLst>
                        <p:par>
                          <p:cTn id="3656" fill="hold">
                            <p:stCondLst>
                              <p:cond delay="0"/>
                            </p:stCondLst>
                            <p:childTnLst>
                              <p:par>
                                <p:cTn id="36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9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0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3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fill="hold">
                      <p:stCondLst>
                        <p:cond delay="indefinite"/>
                      </p:stCondLst>
                      <p:childTnLst>
                        <p:par>
                          <p:cTn id="3666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3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4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fill="hold">
                      <p:stCondLst>
                        <p:cond delay="indefinite"/>
                      </p:stCondLst>
                      <p:childTnLst>
                        <p:par>
                          <p:cTn id="3676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9" dur="5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0" dur="5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3" dur="500" fill="hold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4" dur="500" fill="hold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e clas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t least 30 methods in this clas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get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getUTC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getDa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,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getUTCDa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getFullYe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,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getUTCFullYe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getHour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,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getUTCHour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getMillisecon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,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getUTCMillisecon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getMinut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,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getUTCMinut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getMont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,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getUTCMont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getSecon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,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getUTCSecon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getTimezoneOff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8B5-3D20-4B6E-8F18-788264FDDEB4}" type="slidenum">
              <a:t>108</a:t>
            </a:fld>
          </a:p>
        </p:txBody>
      </p:sp>
    </p:spTree>
  </p:cSld>
  <p:transition>
    <p:cover dir="l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e clas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lso the corresponding set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t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...),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tUTC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tFullYe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...),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tUTCFullYe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tHour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...),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tUTCHour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tMillisecon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...),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tUTCMillisecon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tMinut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...),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tUTCMinut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tMont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...),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tUTCMont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tSecon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...),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tUTCSecon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ate.par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...),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ate.UT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49AD-50D3-489B-9CF8-B71D1C49D779}" type="slidenum">
              <a:t>109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language reference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nformation on Microsofts versions of javascript called JScript search for JScript 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758520" y="3545640"/>
            <a:ext cx="57283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http://msdn.microsoft.c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90D0-2620-43F0-B7D0-21EFAE70A9EE}" type="slidenum">
              <a:t>11</a:t>
            </a:fld>
          </a:p>
        </p:txBody>
      </p:sp>
    </p:spTree>
  </p:cSld>
  <p:transition>
    <p:cover dir="l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e class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ting to str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toDateStrin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toUTCStrin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toLocaleDateStrin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toLocaleStrin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toLocaleTimeStrin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toStrin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toUTCStrin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toTimeStrin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838800" y="5374080"/>
            <a:ext cx="475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simple/dat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60B3-CD15-4CCD-8751-F7AEE35544DD}" type="slidenum">
              <a:t>110</a:t>
            </a:fld>
          </a:p>
        </p:txBody>
      </p:sp>
    </p:spTree>
  </p:cSld>
  <p:transition>
    <p:cover dir="l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gExp ob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presents regular expre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on this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0D2F-4454-4A94-BF88-182DD87A3278}" type="slidenum">
              <a:t>111</a:t>
            </a:fld>
          </a:p>
        </p:txBody>
      </p:sp>
    </p:spTree>
  </p:cSld>
  <p:transition>
    <p:cover dir="l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stom Ob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 is a prototype based OOP language rather than a class based 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s can be directly defin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int = { x:1, y:2 }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int.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int.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ircle = {x;1, y:2, radius:3}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rcle.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rcle.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rcle.radi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like struct in 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DEB-C5B2-4310-9FC5-09F95182D1FA}" type="slidenum">
              <a:t>112</a:t>
            </a:fld>
          </a:p>
        </p:txBody>
      </p:sp>
    </p:spTree>
  </p:cSld>
  <p:transition>
    <p:cover dir="l"/>
  </p:transition>
  <p:timing>
    <p:tnLst>
      <p:par>
        <p:cTn id="3687" dur="indefinite" restart="never" nodeType="tmRoot">
          <p:childTnLst>
            <p:seq>
              <p:cTn id="3688" dur="indefinite" nodeType="mainSeq">
                <p:childTnLst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4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5" fill="hold">
                      <p:stCondLst>
                        <p:cond delay="indefinite"/>
                      </p:stCondLst>
                      <p:childTnLst>
                        <p:par>
                          <p:cTn id="3696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9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0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3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4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1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2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5" dur="500" fill="hold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6" dur="500" fill="hold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7" fill="hold">
                      <p:stCondLst>
                        <p:cond delay="indefinite"/>
                      </p:stCondLst>
                      <p:childTnLst>
                        <p:par>
                          <p:cTn id="3718" fill="hold">
                            <p:stCondLst>
                              <p:cond delay="0"/>
                            </p:stCondLst>
                            <p:childTnLst>
                              <p:par>
                                <p:cTn id="3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1" dur="500" fill="hold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2" dur="500" fill="hold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 object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x,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oto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o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ointTo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oto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tan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ointDista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tan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oint2Distance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ept for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t's like an ordinary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we need to define the instance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6629400" y="3657600"/>
            <a:ext cx="1905120" cy="685800"/>
          </a:xfrm>
          <a:prstGeom prst="wedgeEllipseCallout">
            <a:avLst>
              <a:gd name="adj1" fmla="val -87583"/>
              <a:gd name="adj2" fmla="val -2083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62720" y="1752480"/>
            <a:ext cx="1904760" cy="990720"/>
          </a:xfrm>
          <a:prstGeom prst="wedgeEllipseCallout">
            <a:avLst>
              <a:gd name="adj1" fmla="val -64416"/>
              <a:gd name="adj2" fmla="val 8509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inst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6C3D-D9AD-411C-96D7-A4CF342AC01E}" type="slidenum">
              <a:t>113</a:t>
            </a:fld>
          </a:p>
        </p:txBody>
      </p:sp>
    </p:spTree>
  </p:cSld>
  <p:transition>
    <p:cover dir="l"/>
  </p:transition>
  <p:timing>
    <p:tnLst>
      <p:par>
        <p:cTn id="3725" dur="indefinite" restart="never" nodeType="tmRoot">
          <p:childTnLst>
            <p:seq>
              <p:cTn id="3726" dur="indefinite" nodeType="mainSeq">
                <p:childTnLst>
                  <p:par>
                    <p:cTn id="3727" fill="hold">
                      <p:stCondLst>
                        <p:cond delay="indefinite"/>
                      </p:stCondLst>
                      <p:childTnLst>
                        <p:par>
                          <p:cTn id="3728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1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2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6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0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7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8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9" fill="hold">
                      <p:stCondLst>
                        <p:cond delay="indefinite"/>
                      </p:stCondLst>
                      <p:childTnLst>
                        <p:par>
                          <p:cTn id="3750" fill="hold">
                            <p:stCondLst>
                              <p:cond delay="0"/>
                            </p:stCondLst>
                            <p:childTnLst>
                              <p:par>
                                <p:cTn id="3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3" dur="500" fill="hold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4" dur="500" fill="hold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7" dur="500" fill="hold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8" dur="500" fill="hold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1" dur="500" fill="hold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2" dur="500" fill="hold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1" fill="hold">
                      <p:stCondLst>
                        <p:cond delay="indefinite"/>
                      </p:stCondLst>
                      <p:childTnLst>
                        <p:par>
                          <p:cTn id="3772" fill="hold">
                            <p:stCondLst>
                              <p:cond delay="0"/>
                            </p:stCondLst>
                            <p:childTnLst>
                              <p:par>
                                <p:cTn id="3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5" dur="500" fill="hold"/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6" dur="500" fill="hold"/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7" fill="hold">
                      <p:stCondLst>
                        <p:cond delay="indefinite"/>
                      </p:stCondLst>
                      <p:childTnLst>
                        <p:par>
                          <p:cTn id="3778" fill="hold">
                            <p:stCondLst>
                              <p:cond delay="0"/>
                            </p:stCondLst>
                            <p:childTnLst>
                              <p:par>
                                <p:cTn id="3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1" dur="500" fill="hold"/>
                                        <p:tgtEl>
                                          <p:spTgt spid="4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2" dur="500" fill="hold"/>
                                        <p:tgtEl>
                                          <p:spTgt spid="4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 object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ointTo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x,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"(" +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x + "," +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y + ")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ointDista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ath.sq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x*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x +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y*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D2C-7A96-41E9-B9C2-1363743E8C01}" type="slidenum">
              <a:t>114</a:t>
            </a:fld>
          </a:p>
        </p:txBody>
      </p:sp>
    </p:spTree>
  </p:cSld>
  <p:transition>
    <p:cover dir="l"/>
  </p:transition>
  <p:timing>
    <p:tnLst>
      <p:par>
        <p:cTn id="3785" dur="indefinite" restart="never" nodeType="tmRoot">
          <p:childTnLst>
            <p:seq>
              <p:cTn id="3786" dur="indefinite" nodeType="mainSeq">
                <p:childTnLst>
                  <p:par>
                    <p:cTn id="3787" fill="hold">
                      <p:stCondLst>
                        <p:cond delay="indefinite"/>
                      </p:stCondLst>
                      <p:childTnLst>
                        <p:par>
                          <p:cTn id="3788" fill="hold">
                            <p:stCondLst>
                              <p:cond delay="0"/>
                            </p:stCondLst>
                            <p:childTnLst>
                              <p:par>
                                <p:cTn id="37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9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4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5" fill="hold">
                      <p:stCondLst>
                        <p:cond delay="indefinite"/>
                      </p:stCondLst>
                      <p:childTnLst>
                        <p:par>
                          <p:cTn id="3806" fill="hold">
                            <p:stCondLst>
                              <p:cond delay="0"/>
                            </p:stCondLst>
                            <p:childTnLst>
                              <p:par>
                                <p:cTn id="3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9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0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3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4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8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1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 object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ointDistance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1,p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2 = (p2.x - p1.x) * (p2.x - p1.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y2 = (p2.y - p1.y) * (p2.y - p1.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ath.sq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x2 + dy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2895480" y="4114800"/>
            <a:ext cx="1676520" cy="990720"/>
          </a:xfrm>
          <a:prstGeom prst="wedgeEllipseCallout">
            <a:avLst>
              <a:gd name="adj1" fmla="val -77083"/>
              <a:gd name="adj2" fmla="val -11266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 static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3322-CF7A-4986-8B32-D304AAEED14B}" type="slidenum">
              <a:t>115</a:t>
            </a:fld>
          </a:p>
        </p:txBody>
      </p:sp>
    </p:spTree>
  </p:cSld>
  <p:transition>
    <p:cover dir="l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 objects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1,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p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p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br&gt;x = 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p.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br&gt;y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p.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br&gt;Distance from origin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ta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5867280" y="838080"/>
            <a:ext cx="2514600" cy="1143000"/>
          </a:xfrm>
          <a:prstGeom prst="wedgeEllipseCallout">
            <a:avLst>
              <a:gd name="adj1" fmla="val -86805"/>
              <a:gd name="adj2" fmla="val 54166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String is us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al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in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971800" y="4495680"/>
            <a:ext cx="4191120" cy="1676520"/>
          </a:xfrm>
          <a:prstGeom prst="wedgeEllipseCallout">
            <a:avLst>
              <a:gd name="adj1" fmla="val -28143"/>
              <a:gd name="adj2" fmla="val -915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fields (properti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always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8BE8-24B4-4267-8378-B717D0E8BBAC}" type="slidenum">
              <a:t>116</a:t>
            </a:fld>
          </a:p>
        </p:txBody>
      </p:sp>
    </p:spTree>
  </p:cSld>
  <p:transition>
    <p:cover dir="l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 objects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1,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2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3,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oint.dista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1,p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br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Distance from 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p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 to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p2 +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657600" y="4191120"/>
            <a:ext cx="3733920" cy="1143000"/>
          </a:xfrm>
          <a:prstGeom prst="wedgeEllipseCallout">
            <a:avLst>
              <a:gd name="adj1" fmla="val -47703"/>
              <a:gd name="adj2" fmla="val -8222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method uses cla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, not object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99B-27BA-4CFD-BE46-DAB11C543098}" type="slidenum">
              <a:t>117</a:t>
            </a:fld>
          </a:p>
        </p:txBody>
      </p:sp>
    </p:spTree>
  </p:cSld>
  <p:transition>
    <p:cover dir="l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le object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irc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,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enter = 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adius = 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irc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oto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o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ircleTo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irc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oto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ircumfere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ircleCircumfere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irc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oto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re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ircleAre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ept for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t's like an ordinary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we define the instance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A07-69B8-4C2F-B304-9DD3CB5EED13}" type="slidenum">
              <a:t>118</a:t>
            </a:fld>
          </a:p>
        </p:txBody>
      </p:sp>
    </p:spTree>
  </p:cSld>
  <p:transition>
    <p:cover dir="l"/>
  </p:transition>
  <p:timing>
    <p:tnLst>
      <p:par>
        <p:cTn id="3825" dur="indefinite" restart="never" nodeType="tmRoot">
          <p:childTnLst>
            <p:seq>
              <p:cTn id="3826" dur="indefinite" nodeType="mainSeq">
                <p:childTnLst>
                  <p:par>
                    <p:cTn id="3827" fill="hold">
                      <p:stCondLst>
                        <p:cond delay="indefinite"/>
                      </p:stCondLst>
                      <p:childTnLst>
                        <p:par>
                          <p:cTn id="3828" fill="hold">
                            <p:stCondLst>
                              <p:cond delay="0"/>
                            </p:stCondLst>
                            <p:childTnLst>
                              <p:par>
                                <p:cTn id="3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1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2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6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9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3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4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8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9" fill="hold">
                      <p:stCondLst>
                        <p:cond delay="indefinite"/>
                      </p:stCondLst>
                      <p:childTnLst>
                        <p:par>
                          <p:cTn id="3850" fill="hold">
                            <p:stCondLst>
                              <p:cond delay="0"/>
                            </p:stCondLst>
                            <p:childTnLst>
                              <p:par>
                                <p:cTn id="38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3" dur="5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7" dur="500" fill="hold"/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8" dur="500" fill="hold"/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2" dur="500" fill="hold"/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3" fill="hold">
                      <p:stCondLst>
                        <p:cond delay="indefinite"/>
                      </p:stCondLst>
                      <p:childTnLst>
                        <p:par>
                          <p:cTn id="3864" fill="hold">
                            <p:stCondLst>
                              <p:cond delay="0"/>
                            </p:stCondLst>
                            <p:childTnLst>
                              <p:par>
                                <p:cTn id="38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7" dur="500" fill="hold"/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8" dur="500" fill="hold"/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9" fill="hold">
                      <p:stCondLst>
                        <p:cond delay="indefinite"/>
                      </p:stCondLst>
                      <p:childTnLst>
                        <p:par>
                          <p:cTn id="3870" fill="hold">
                            <p:stCondLst>
                              <p:cond delay="0"/>
                            </p:stCondLst>
                            <p:childTnLst>
                              <p:par>
                                <p:cTn id="38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3" dur="500" fill="hold"/>
                                        <p:tgtEl>
                                          <p:spTgt spid="5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5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le object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ircleTo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x,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return 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enter +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: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adiu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ircleCircumferenc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2.0 *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ath.P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adiu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ircleAre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ath.P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adius *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adiu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472-6F85-42FB-BDE9-0DD5DD8F77B0}" type="slidenum">
              <a:t>119</a:t>
            </a:fld>
          </a:p>
        </p:txBody>
      </p:sp>
    </p:spTree>
  </p:cSld>
  <p:transition>
    <p:cover dir="l"/>
  </p:transition>
  <p:timing>
    <p:tnLst>
      <p:par>
        <p:cTn id="3877" dur="indefinite" restart="never" nodeType="tmRoot">
          <p:childTnLst>
            <p:seq>
              <p:cTn id="3878" dur="indefinite" nodeType="mainSeq">
                <p:childTnLst>
                  <p:par>
                    <p:cTn id="3879" fill="hold">
                      <p:stCondLst>
                        <p:cond delay="indefinite"/>
                      </p:stCondLst>
                      <p:childTnLst>
                        <p:par>
                          <p:cTn id="3880" fill="hold">
                            <p:stCondLst>
                              <p:cond delay="0"/>
                            </p:stCondLst>
                            <p:childTnLst>
                              <p:par>
                                <p:cTn id="38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3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4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7" dur="5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8" dur="5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1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2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6" dur="5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7" fill="hold">
                      <p:stCondLst>
                        <p:cond delay="indefinite"/>
                      </p:stCondLst>
                      <p:childTnLst>
                        <p:par>
                          <p:cTn id="3898" fill="hold">
                            <p:stCondLst>
                              <p:cond delay="0"/>
                            </p:stCondLst>
                            <p:childTnLst>
                              <p:par>
                                <p:cTn id="38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1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2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5" dur="5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6" dur="5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9" dur="5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0" dur="5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3" dur="500" fill="hold"/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4" dur="500" fill="hold"/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5" fill="hold">
                      <p:stCondLst>
                        <p:cond delay="indefinite"/>
                      </p:stCondLst>
                      <p:childTnLst>
                        <p:par>
                          <p:cTn id="3916" fill="hold">
                            <p:stCondLst>
                              <p:cond delay="0"/>
                            </p:stCondLst>
                            <p:childTnLst>
                              <p:par>
                                <p:cTn id="39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9" dur="500" fill="hold"/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0" dur="500" fill="hold"/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3" dur="500" fill="hold"/>
                                        <p:tgtEl>
                                          <p:spTgt spid="5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4" dur="500" fill="hold"/>
                                        <p:tgtEl>
                                          <p:spTgt spid="5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1" dur="500" fill="hold"/>
                                        <p:tgtEl>
                                          <p:spTgt spid="5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2" dur="500" fill="hold"/>
                                        <p:tgtEl>
                                          <p:spTgt spid="5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referenc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3schools has an excellent interactive tutorial on JavaScrip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758880" y="3402720"/>
            <a:ext cx="55148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http://www.w3schools.c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911-15E7-483D-A0C6-71952ED0DDD3}" type="slidenum">
              <a:t>12</a:t>
            </a:fld>
          </a:p>
        </p:txBody>
      </p:sp>
    </p:spTree>
  </p:cSld>
  <p:transition>
    <p:cover dir="l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le object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1,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irc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,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c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p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br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Center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c.cen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br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Radius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c.radiu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br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Circumference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ircumferen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br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Area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c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re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381240" y="5293080"/>
            <a:ext cx="5301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simple/objec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F99-1D26-4B44-9CE7-F3D3EA5FA1E5}" type="slidenum">
              <a:t>120</a:t>
            </a:fld>
          </a:p>
        </p:txBody>
      </p:sp>
    </p:spTree>
  </p:cSld>
  <p:transition>
    <p:cover dir="l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on Ob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much more to objects in Java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objects can have new properties added to them (even built-in objec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have both  instance and class properties o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type based 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18DE-ADD3-4294-B924-CFE654E53F7F}" type="slidenum">
              <a:t>121</a:t>
            </a:fld>
          </a:p>
        </p:txBody>
      </p:sp>
    </p:spTree>
  </p:cSld>
  <p:transition>
    <p:cover dir="l"/>
  </p:transition>
  <p:timing>
    <p:tnLst>
      <p:par>
        <p:cTn id="3935" dur="indefinite" restart="never" nodeType="tmRoot">
          <p:childTnLst>
            <p:seq>
              <p:cTn id="3936" dur="indefinite" nodeType="mainSeq">
                <p:childTnLst>
                  <p:par>
                    <p:cTn id="3937" fill="hold">
                      <p:stCondLst>
                        <p:cond delay="indefinite"/>
                      </p:stCondLst>
                      <p:childTnLst>
                        <p:par>
                          <p:cTn id="3938" fill="hold">
                            <p:stCondLst>
                              <p:cond delay="0"/>
                            </p:stCondLst>
                            <p:childTnLst>
                              <p:par>
                                <p:cTn id="39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3" fill="hold">
                      <p:stCondLst>
                        <p:cond delay="indefinite"/>
                      </p:stCondLst>
                      <p:childTnLst>
                        <p:par>
                          <p:cTn id="3944" fill="hold">
                            <p:stCondLst>
                              <p:cond delay="0"/>
                            </p:stCondLst>
                            <p:childTnLst>
                              <p:par>
                                <p:cTn id="39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7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8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4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5" fill="hold">
                      <p:stCondLst>
                        <p:cond delay="indefinite"/>
                      </p:stCondLst>
                      <p:childTnLst>
                        <p:par>
                          <p:cTn id="3956" fill="hold">
                            <p:stCondLst>
                              <p:cond delay="0"/>
                            </p:stCondLst>
                            <p:childTnLst>
                              <p:par>
                                <p:cTn id="39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0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6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ociative arr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 properties can be referenced directl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ircle.cen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hey can be accessed as elements of associative arrays a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ircle[</a:t>
            </a: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"center"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]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the property name as a st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AED9-955A-4CF7-A579-C6C8E2B9B762}" type="slidenum">
              <a:t>122</a:t>
            </a:fld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: The Definitive Guide, 4th Edi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Flanag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'Reilly, 200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BN: 0-596-00048-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like four books in 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e Java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ide Java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e JavaScript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ide JavaScript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 bo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82296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B5DA-ADC0-4D64-BB66-711AC50DB801}" type="slidenum">
              <a:t>13</a:t>
            </a:fld>
          </a:p>
        </p:txBody>
      </p:sp>
    </p:spTree>
  </p:cSld>
  <p:transition>
    <p:cover dir="l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JavaScrip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-level scripting (interpreted)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yped, prototype based OOP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 simpl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to be called LiveScript and has no connection with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rrows a lot of syntax from Java and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can run in a browser (client-side) or as a standalone scripting language (Microsoft's JScript and WS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DD03-9FC9-4C83-B61C-2D45FE22D8E2}" type="slidenum">
              <a:t>14</a:t>
            </a:fld>
          </a:p>
        </p:txBody>
      </p:sp>
    </p:spTree>
  </p:cSld>
  <p:transition>
    <p:cover dir="l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re do we put JavaScrip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 in an  HTML document between script ta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&lt;script</a:t>
            </a:r>
            <a:r>
              <a:rPr b="1" lang="en-US" sz="28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langua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javascript"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vaScript statements go 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n external file which is loaded u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lt;script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r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program.js"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...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gt;&lt;/script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562720"/>
            <a:ext cx="2666880" cy="609480"/>
          </a:xfrm>
          <a:prstGeom prst="wedgeEllipseCallout">
            <a:avLst>
              <a:gd name="adj1" fmla="val 43689"/>
              <a:gd name="adj2" fmla="val -15625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Scrip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9800" y="5565600"/>
            <a:ext cx="2668680" cy="613080"/>
          </a:xfrm>
          <a:prstGeom prst="wedgeEllipseCallout">
            <a:avLst>
              <a:gd name="adj1" fmla="val -1990"/>
              <a:gd name="adj2" fmla="val -16735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hing between t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426-01D5-4981-AE4D-0BCC0A1ABC42}" type="slidenum">
              <a:t>15</a:t>
            </a:fld>
          </a:p>
        </p:txBody>
      </p:sp>
    </p:spTree>
  </p:cSld>
  <p:transition>
    <p:cover dir="l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re do we put &lt;script&gt;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 the head of the HTML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e it is read before the HTML document in the body is parsed. Any code, except function definitions, will be executed immediate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 the body of the HTML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e it is read while the HTML document is being parsed. When the parser sees the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&lt;script&gt;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 it stops parsing the document and interprets the JavaScript c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FDE-4EF7-48E7-8143-5AE8A2FB1824}" type="slidenum">
              <a:t>16</a:t>
            </a:fld>
          </a:p>
        </p:txBody>
      </p:sp>
    </p:spTree>
  </p:cSld>
  <p:transition>
    <p:cover dir="l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iting HTML with JavaScrip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r we will discuss the document object model (DOM) that lets JavaScript interact with the elements of an HTML docu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now we will us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produce HTML output using JavaScrip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&lt;h1&gt;Hello World&lt;/h1&gt;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2647-976E-4238-BC80-2F097E09E454}" type="slidenum">
              <a:t>17</a:t>
            </a:fld>
          </a:p>
        </p:txBody>
      </p:sp>
    </p:spTree>
  </p:cSld>
  <p:transition>
    <p:cover dir="l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llo World program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title&gt; ... &lt;/titl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scrip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angu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javascript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l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h1&gt;Hello World&lt;/h1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5450040"/>
            <a:ext cx="6032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simple/HelloWorld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3581280"/>
            <a:ext cx="3581280" cy="838440"/>
          </a:xfrm>
          <a:prstGeom prst="wedgeEllipseCallout">
            <a:avLst>
              <a:gd name="adj1" fmla="val -67111"/>
              <a:gd name="adj2" fmla="val 2367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thing here will displa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e Hello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4E6-0100-46C9-A1D7-E4F9134B171E}" type="slidenum">
              <a:t>18</a:t>
            </a:fld>
          </a:p>
        </p:txBody>
      </p:sp>
    </p:spTree>
  </p:cSld>
  <p:transition>
    <p:cover dir="l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llo World program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title&gt; ... &lt;/titl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script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angu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javascript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l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h1&gt;Hello World&lt;/h1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5369040"/>
            <a:ext cx="6032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simple/HelloWorld2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2FE7-CDE4-4E3C-A5A2-45A4339FF53E}" type="slidenum">
              <a:t>19</a:t>
            </a:fld>
          </a:p>
        </p:txBody>
      </p:sp>
    </p:spTree>
  </p:cSld>
  <p:transition>
    <p:cover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scape browser ver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scape 2 (JavaScript 1.0, obsole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scape 3 (JavaScript 1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scape 4 (JavaScript 1.2, brok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scape 4.5 (JavaScript 1.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scape 6 / Mozilla (JavaScript 1.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CE79-94A2-499D-B87F-1C6B6C98F6C0}" type="slidenum">
              <a:t>2</a:t>
            </a:fld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llo World program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html&gt;&lt;head&gt;&lt;title&gt; ... &lt;/titl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script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angu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javascript"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hell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h1&gt;Hello World&lt;/h1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scrip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angu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javascript"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();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5526360"/>
            <a:ext cx="6032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simple/HelloWorld3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4572000"/>
            <a:ext cx="1905120" cy="457200"/>
          </a:xfrm>
          <a:prstGeom prst="wedgeEllipseCallout">
            <a:avLst>
              <a:gd name="adj1" fmla="val 32083"/>
              <a:gd name="adj2" fmla="val -12013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DF64-DC5E-4B43-B0D3-609B9072E0E0}" type="slidenum">
              <a:t>20</a:t>
            </a:fld>
          </a:p>
        </p:txBody>
      </p:sp>
    </p:spTree>
  </p:cSld>
  <p:transition>
    <p:cover dir="l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llo World program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html&gt;&lt;head&gt;&lt;title&gt; ... &lt;/titl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script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angu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javascript"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r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hello.js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scrip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angu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javascript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();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444600" y="4413600"/>
            <a:ext cx="6032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simple/HelloWorld4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1880" y="4957200"/>
            <a:ext cx="62157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 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cument.writeln("&lt;h1&gt;Hello World&lt;/h1&gt;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4191120"/>
            <a:ext cx="1752480" cy="457200"/>
          </a:xfrm>
          <a:prstGeom prst="wedgeRoundRectCallout">
            <a:avLst>
              <a:gd name="adj1" fmla="val -69745"/>
              <a:gd name="adj2" fmla="val 16319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.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110-B2C2-4A8E-B302-43DF8BC3CBAB}" type="slidenum">
              <a:t>21</a:t>
            </a:fld>
          </a:p>
        </p:txBody>
      </p:sp>
    </p:spTree>
  </p:cSld>
  <p:transition>
    <p:cover dir="l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llo World program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html&gt;&lt;head&gt;&lt;title&gt; ... &lt;/titl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script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angu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javascript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window.ale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Hello Worl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ose alert box to see this text.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br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 reload to run the script aga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5369040"/>
            <a:ext cx="6032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simple/HelloWorld5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2286000"/>
            <a:ext cx="1828800" cy="838080"/>
          </a:xfrm>
          <a:prstGeom prst="wedgeEllipseCallout">
            <a:avLst>
              <a:gd name="adj1" fmla="val -179342"/>
              <a:gd name="adj2" fmla="val -2784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lert 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642A-BFB6-4E2E-BF2B-2F0B8226A254}" type="slidenum">
              <a:t>22</a:t>
            </a:fld>
          </a:p>
        </p:txBody>
      </p:sp>
    </p:spTree>
  </p:cSld>
  <p:transition>
    <p:cover dir="l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llo World program (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html&gt;&lt;head&gt;&lt;title&gt; ... &lt;/titl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script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angu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javascript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hell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h1&gt;Hello World&lt;/h1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body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onloa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"hello()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 text will never be se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5369040"/>
            <a:ext cx="6032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simple/HelloWorld6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3124080"/>
            <a:ext cx="2590920" cy="1067040"/>
          </a:xfrm>
          <a:prstGeom prst="wedgeRoundRectCallout">
            <a:avLst>
              <a:gd name="adj1" fmla="val -118384"/>
              <a:gd name="adj2" fmla="val 431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do this the back button won't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3080" y="4495680"/>
            <a:ext cx="1600200" cy="990720"/>
          </a:xfrm>
          <a:prstGeom prst="wedgeRoundRectCallout">
            <a:avLst>
              <a:gd name="adj1" fmla="val -177083"/>
              <a:gd name="adj2" fmla="val -10544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Microserf 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50E-BFC1-40F3-91A2-A3301C39A4C3}" type="slidenum">
              <a:t>23</a:t>
            </a:fld>
          </a:p>
        </p:txBody>
      </p:sp>
    </p:spTree>
  </p:cSld>
  <p:transition>
    <p:cover dir="l"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ert da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html&gt;&lt;head&gt;&lt;title&gt; ... &lt;/titl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h1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ing the date into a document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h1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date i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script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angu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javascript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script&gt;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ght no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5526360"/>
            <a:ext cx="585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simple/insertDat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2720" y="3886200"/>
            <a:ext cx="2743200" cy="1219320"/>
          </a:xfrm>
          <a:prstGeom prst="wedgeEllipseCallout">
            <a:avLst>
              <a:gd name="adj1" fmla="val -75578"/>
              <a:gd name="adj2" fmla="val -43226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Date obje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all its toSt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A84-2AE7-4410-88B1-20B860B4EDF9}" type="slidenum">
              <a:t>24</a:t>
            </a:fld>
          </a:p>
        </p:txBody>
      </p:sp>
    </p:spTree>
  </p:cSld>
  <p:transition>
    <p:cover dir="l"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vaScript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 is an untyped language so a variable can hold any kind of val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word is used to define variab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= 1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a string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at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it is omitted the variable is implicitly declared as a variable with global scop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JavaScript is case-sensi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200400"/>
            <a:ext cx="2057400" cy="914400"/>
          </a:xfrm>
          <a:prstGeom prst="wedgeEllipseCallout">
            <a:avLst>
              <a:gd name="adj1" fmla="val -161032"/>
              <a:gd name="adj2" fmla="val -42185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type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0C3-8A10-4516-8D22-E9D4CE538376}" type="slidenum">
              <a:t>25</a:t>
            </a:fld>
          </a:p>
        </p:txBody>
      </p:sp>
    </p:spTree>
  </p:cSld>
  <p:transition>
    <p:cover dir="l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 because JavaScript is untyped doesn't mean that there are no data typ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ber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istinction between integer and floating point numbers (64 b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ing type and string liter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erals enclosed in single or double quo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s are like immutabl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 type, Object type, many other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5840-FCBF-46F4-B023-A8CF53D4B5F4}" type="slidenum">
              <a:t>26</a:t>
            </a:fld>
          </a:p>
        </p:txBody>
      </p:sp>
    </p:spTree>
  </p:cSld>
  <p:transition>
    <p:cover dir="l"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 Scoping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like Java, JavaScript is not block-sc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um = 0.0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95480"/>
            <a:ext cx="380988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2209680"/>
            <a:ext cx="2514600" cy="2667240"/>
          </a:xfrm>
          <a:prstGeom prst="wedgeEllipseCallout">
            <a:avLst>
              <a:gd name="adj1" fmla="val -88824"/>
              <a:gd name="adj2" fmla="val 196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Java, sum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to the 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JavaSc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local to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losing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BD39-F53F-4DD9-9554-759BEAF456C3}" type="slidenum">
              <a:t>27</a:t>
            </a:fld>
          </a:p>
        </p:txBody>
      </p:sp>
    </p:spTree>
  </p:cSld>
  <p:transition>
    <p:cover dir="l"/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 scoping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local variable (declared inside a function) will hide a global variable with the same na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ing to use a variable that has been declared but not initialized gives the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undefin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alue. In this sense all declared variables have a val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EF45-8828-413D-98F3-A476E16A51F2}" type="slidenum">
              <a:t>28</a:t>
            </a:fld>
          </a:p>
        </p:txBody>
      </p:sp>
    </p:spTree>
  </p:cSld>
  <p:transition>
    <p:cover dir="l"/>
  </p:transition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umber Data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ber is an object type that represents integers and floating point nu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ating point numbers are 64-bit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no separate integer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loating point value can store an integer exactly in the range        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ating point literals have a decimal point or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represent the expon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floating point op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406760" y="4081320"/>
                <a:ext cx="8510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019920" y="4081320"/>
                <a:ext cx="5522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29B-82FD-48E1-AF1B-908CC969C265}" type="slidenum">
              <a:t>29</a:t>
            </a:fld>
          </a:p>
        </p:txBody>
      </p:sp>
    </p:spTree>
  </p:cSld>
  <p:transition>
    <p:cover dir="l"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crosoft browser ver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E 3 (JScript 1.0 / 2.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E 4 (JScript 3.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E 5 (JScript 5.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E 5.5 (JScript 5.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E 6 (JScript 5.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9164-33C2-4F7E-A575-754677658464}" type="slidenum">
              <a:t>3</a:t>
            </a:fld>
          </a:p>
        </p:txBody>
      </p:sp>
    </p:spTree>
  </p:cSld>
  <p:transition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ial Number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Infin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N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Number.MAX_VAL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st positiv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Number.MIN_VAL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st non-zero positiv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Number.POSITIVE_INFIN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Number.NEGATIVE_INFIN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873-1A86-4B4F-B5C7-6ADB8D2BB75E}" type="slidenum">
              <a:t>30</a:t>
            </a:fld>
          </a:p>
        </p:txBody>
      </p:sp>
    </p:spTree>
  </p:cSld>
  <p:transition>
    <p:cover dir="l"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ng Data Type (1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ings are like immutable objects and are very similar to strings in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ing literals can use single or double quotes as delimiters.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s as an escape s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fers to the newline charac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llowing are the s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 =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hello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 =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hello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5943600"/>
            <a:ext cx="3276360" cy="609480"/>
          </a:xfrm>
          <a:prstGeom prst="wedgeRoundRectCallout">
            <a:avLst>
              <a:gd name="adj1" fmla="val -32606"/>
              <a:gd name="adj2" fmla="val -11250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reason to ever do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8E6-5481-4C2B-A60D-74B94F9930C9}" type="slidenum">
              <a:t>31</a:t>
            </a:fld>
          </a:p>
        </p:txBody>
      </p:sp>
    </p:spTree>
  </p:cSld>
  <p:transition>
    <p:cover dir="l"/>
  </p:transition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ng Data Typ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string methods and most are the same as in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ength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is is a propert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string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string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i,j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charA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indexOf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patter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8D40-A5FA-4973-8588-2070E3C03903}" type="slidenum">
              <a:t>32</a:t>
            </a:fld>
          </a:p>
        </p:txBody>
      </p:sp>
    </p:spTree>
  </p:cSld>
  <p:transition>
    <p:cover dir="l"/>
  </p:transition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lean data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ke Java, the literals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the values of a boolean variable in JavaScrip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like Java, JavaScript can convert them to 1 and 0 to use in expressions as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C5C-9466-4C92-A093-B37C5F07ECC5}" type="slidenum">
              <a:t>33</a:t>
            </a:fld>
          </a:p>
        </p:txBody>
      </p:sp>
    </p:spTree>
  </p:cSld>
  <p:transition>
    <p:cover dir="l"/>
  </p:transition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are very different than in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have standard function definitions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quare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* x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types are specifi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like this are similar to Java metho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2971800"/>
            <a:ext cx="41911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F70-EA5E-48C8-8FAB-272F92A195CF}" type="slidenum">
              <a:t>34</a:t>
            </a:fld>
          </a:p>
        </p:txBody>
      </p:sp>
    </p:spTree>
  </p:cSld>
  <p:transition>
    <p:cover dir="l"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literal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no correspondence in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literals are unnamed functions like the lambda functions in Lisp that can be assigned as the value of a vari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quare =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functio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x) {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*x;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the same way as a standard 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 = square(2.0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B73-6735-4E1E-8DAF-0898BE713AC5}" type="slidenum">
              <a:t>35</a:t>
            </a:fld>
          </a:p>
        </p:txBody>
      </p:sp>
    </p:spTree>
  </p:cSld>
  <p:transition>
    <p:cover dir="l"/>
  </p:transition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Literal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literals can be used as arguments to other func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comp =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compare(x,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- y;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if we have a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or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unction that needs a comparison function we can call it lik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a.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or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comp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array to s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998-58DF-4A90-9355-42F5CC31AE28}" type="slidenum">
              <a:t>36</a:t>
            </a:fld>
          </a:p>
        </p:txBody>
      </p:sp>
    </p:spTree>
  </p:cSld>
  <p:transition>
    <p:cover dir="l"/>
  </p:transition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unction constru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can be constructed at run-time using a function construct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quare = </a:t>
            </a:r>
            <a:r>
              <a:rPr b="1" lang="en-US" sz="2800" spc="-1" strike="noStrike">
                <a:solidFill>
                  <a:srgbClr val="ffcf01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x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return x*x;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e the first argument is the function argument list and the second argument is the function bo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no correspondence in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BB2-1C92-43F9-B914-37760B7E46DB}" type="slidenum">
              <a:t>37</a:t>
            </a:fld>
          </a:p>
        </p:txBody>
      </p:sp>
    </p:spTree>
  </p:cSld>
  <p:transition>
    <p:cover dir="l"/>
  </p:transition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 Typ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uninitialized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obj =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Objec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te object for to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today =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at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te object for Jan 1, 2002, 0 ho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newYear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at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2002,0,1,0,0,0,0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235-95FF-4B5A-9446-561BFDE3A0A7}" type="slidenum">
              <a:t>38</a:t>
            </a:fld>
          </a:p>
        </p:txBody>
      </p:sp>
    </p:spTree>
  </p:cSld>
  <p:transition>
    <p:cover dir="l"/>
  </p:transition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 Typ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fields of a Java object are properties in JavaScript. They are always public and are accessed directly using the dot not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ocume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myForm.my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ocu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predefined object referring to the HTML document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yFor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name of a form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yNa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name of the specified input object. For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Courier New"/>
              </a:rPr>
              <a:t>&lt;inpu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text"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myName"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...</a:t>
            </a:r>
            <a:r>
              <a:rPr b="1" lang="en-US" sz="2400" spc="-1" strike="noStrike">
                <a:solidFill>
                  <a:srgbClr val="ffcf01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AB80-77F5-421E-A6AC-AD02A875C43D}" type="slidenum">
              <a:t>39</a:t>
            </a:fld>
          </a:p>
        </p:txBody>
      </p:sp>
    </p:spTree>
  </p:cSld>
  <p:transition>
    <p:cover dir="l"/>
  </p:transition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CMA (European Computer Manufacturers Association) has standardized JavaScript (ECMA-262) called ECMA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4 versions so far (v1, v2, v3, v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web for ECMAScript if you want more inform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ecma-international.org/publications/standards/Ecma-262.h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ized Ver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444C-8A1C-49FC-97B1-4A1533E8D3FB}" type="slidenum">
              <a:t>4</a:t>
            </a:fld>
          </a:p>
        </p:txBody>
      </p:sp>
    </p:spTree>
  </p:cSld>
  <p:transition>
    <p:cover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 Type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Rectangle object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perties they can be accessed as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ct.wid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(same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ct['width'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ct.he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(same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ct['height'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s are also invoked using dot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method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Courier New"/>
              </a:rPr>
              <a:t>"...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method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2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sq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2.0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785-4C8F-485E-8B2E-2A1ED7E3DC69}" type="slidenum">
              <a:t>40</a:t>
            </a:fld>
          </a:p>
        </p:txBody>
      </p:sp>
    </p:spTree>
  </p:cSld>
  <p:transition>
    <p:cover dir="l"/>
  </p:transition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 Types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 custom objects (no metho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point =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Objec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oint.x = 3.2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oint.y = -1.7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 is an object with propertie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 literals can also be used to directly constru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point = { x:3.2, y:-1.7 }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D3F-8347-40D6-83AE-0D584D1917DB}" type="slidenum">
              <a:t>41</a:t>
            </a:fld>
          </a:p>
        </p:txBody>
      </p:sp>
    </p:spTree>
  </p:cSld>
  <p:transition>
    <p:cover dir="l"/>
  </p:transition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Typ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like Java, arrays are dynamic in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clare an array with no elements and then add some el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=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rray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0]=1; a[1]=2; a[2]=3; a[9]=10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10 elements but 6 are undefin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ngth of array i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.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533880" y="5526360"/>
            <a:ext cx="5118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simple/array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112-17D9-4BAF-A1EC-0D340BAC5C5C}" type="slidenum">
              <a:t>42</a:t>
            </a:fld>
          </a:p>
        </p:txBody>
      </p:sp>
    </p:spTree>
  </p:cSld>
  <p:transition>
    <p:cover dir="l"/>
  </p:transition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Typ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rrays can be inhomogeneou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b =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rray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123,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Fred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345.50,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rray(1,2,3)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rray literals can be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b = [123,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Fred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345.50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 = [ [1,2,3], [4,5,6], [7,8,9]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re are many array methods (later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5880" y="5526360"/>
            <a:ext cx="5118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simple/array2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56C-7E26-47EC-BC8E-280BCB85EC76}" type="slidenum">
              <a:t>43</a:t>
            </a:fld>
          </a:p>
        </p:txBody>
      </p:sp>
    </p:spTree>
  </p:cSld>
  <p:transition>
    <p:cover dir="l"/>
  </p:transition>
  <p:timing>
    <p:tnLst>
      <p:par>
        <p:cTn id="1641" dur="indefinite" restart="never" nodeType="tmRoot">
          <p:childTnLst>
            <p:seq>
              <p:cTn id="1642" dur="indefinite" nodeType="mainSeq">
                <p:childTnLst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Type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rrays can be associativ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ge =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rray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ge[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'fred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 = 34; age[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'jim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 = 1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ge[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'bob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 = 27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name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Age of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name 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 is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age[name] +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&lt;br&gt;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67400" y="5480280"/>
            <a:ext cx="5118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simple/array3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D29-7979-4870-9976-0B0F19CC4BB0}" type="slidenum">
              <a:t>44</a:t>
            </a:fld>
          </a:p>
        </p:txBody>
      </p:sp>
    </p:spTree>
  </p:cSld>
  <p:transition>
    <p:cover dir="l"/>
  </p:transition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mitive &amp; Referenc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bers and booleans are primitiv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 by value is used for primitiv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s are reference types as in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 by value is also used for reference types but the value is a reference as in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s and Strings are also referenc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ings are immutable. They have references but act like primitive types since the reference cannot be used to change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9CF-E697-4023-B418-D34B160F7118}" type="slidenum">
              <a:t>45</a:t>
            </a:fld>
          </a:p>
        </p:txBody>
      </p:sp>
    </p:spTree>
  </p:cSld>
  <p:transition>
    <p:cover dir="l"/>
  </p:transition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ull val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in Java, object references can be assigned the value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nu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indicate that they don't yet refer to any objec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6D1-39A2-477B-A2CB-9643BBF9B4E1}" type="slidenum">
              <a:t>46</a:t>
            </a:fld>
          </a:p>
        </p:txBody>
      </p:sp>
    </p:spTree>
  </p:cSld>
  <p:transition>
    <p:cover dir="l"/>
  </p:transition>
  <p:timing>
    <p:tnLst>
      <p:par>
        <p:cTn id="1765" dur="indefinite" restart="never" nodeType="tmRoot">
          <p:childTnLst>
            <p:seq>
              <p:cTn id="1766" dur="indefinite" nodeType="mainSeq">
                <p:childTnLst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styles of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/* ........ *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// ......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8C4-FDB5-4831-B584-29BF5784E312}" type="slidenum">
              <a:t>47</a:t>
            </a:fld>
          </a:p>
        </p:txBody>
      </p:sp>
    </p:spTree>
  </p:cSld>
  <p:transition>
    <p:cover dir="l"/>
  </p:transition>
  <p:timing>
    <p:tnLst>
      <p:par>
        <p:cTn id="1775" dur="indefinite" restart="never" nodeType="tmRoot">
          <p:childTnLst>
            <p:seq>
              <p:cTn id="1776" dur="indefinite" nodeType="mainSeq">
                <p:childTnLst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vaScript Operator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the most part Java and JavaScript operators are simi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some important differen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 h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=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perat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used for assig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used to test for e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=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used to test for ident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DE9A-507F-4B6E-BAEC-D89127936A4C}" type="slidenum">
              <a:t>48</a:t>
            </a:fld>
          </a:p>
        </p:txBody>
      </p:sp>
    </p:spTree>
  </p:cSld>
  <p:transition>
    <p:cover dir="l"/>
  </p:transition>
  <p:timing>
    <p:tnLst>
      <p:par>
        <p:cTn id="1797" dur="indefinite" restart="never" nodeType="tmRoot">
          <p:childTnLst>
            <p:seq>
              <p:cTn id="1798" dur="indefinite" nodeType="mainSeq">
                <p:childTnLst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vaScript Operator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bers, strings and boolean values are compared by value so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=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ave the same mean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strings in Jav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useless since it compares references but in JavaScript it compares the characters in the strin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s are compared by reference s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pares referen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A4C-8FAE-4165-8732-5F11D819EA9D}" type="slidenum">
              <a:t>49</a:t>
            </a:fld>
          </a:p>
        </p:txBody>
      </p:sp>
    </p:spTree>
  </p:cSld>
  <p:transition>
    <p:cover dir="l"/>
  </p:transition>
  <p:timing>
    <p:tnLst>
      <p:par>
        <p:cTn id="1831" dur="indefinite" restart="never" nodeType="tmRoot">
          <p:childTnLst>
            <p:seq>
              <p:cTn id="1832" dur="indefinite" nodeType="mainSeq">
                <p:childTnLst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Version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 1.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l obsolet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 1.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bugs, introduced proper arrays, implemented in Netscape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 1.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regular expression, almost compliant with ECMAScript v1, implemented in Netscape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CB7-98F9-40B7-B4F5-EA7803548FC9}" type="slidenum">
              <a:t>5</a:t>
            </a:fld>
          </a:p>
        </p:txBody>
      </p:sp>
    </p:spTree>
  </p:cSld>
  <p:transition>
    <p:cover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vaScript Operator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for objects the rules fo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=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complic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are defining your own objects then write your own equality meth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Strings the operator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&g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pare characters (in Java we need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compareT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. In JavaScript there is also a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caleCompare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7DE2-CF13-4C92-AA12-F6EE1CBD0D2F}" type="slidenum">
              <a:t>50</a:t>
            </a:fld>
          </a:p>
        </p:txBody>
      </p:sp>
    </p:spTree>
  </p:cSld>
  <p:transition>
    <p:cover dir="l"/>
  </p:transition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vaScript Operators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nstanceo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per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or can be used to check if an object has a certain proper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can also be used to iterate over the properties of an objec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nstanceo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perator is same as in Java and is used to check if an object has a given typ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348-C413-4706-A63D-BC7A867C73F2}" type="slidenum">
              <a:t>51</a:t>
            </a:fld>
          </a:p>
        </p:txBody>
      </p:sp>
    </p:spTree>
  </p:cSld>
  <p:transition>
    <p:cover dir="l"/>
  </p:transition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vaScript Operators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ing Concatenation op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+, numbers are converted to strings if one operand is a number and the other is a st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string methods to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FCD6-F180-4D09-9FAD-80452BFE74B5}" type="slidenum">
              <a:t>52</a:t>
            </a:fld>
          </a:p>
        </p:txBody>
      </p:sp>
    </p:spTree>
  </p:cSld>
  <p:transition>
    <p:cover dir="l"/>
  </p:transition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vaScript Operators (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typeo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p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ry operator to check the generic data type of a vari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ossible values are "number", "string", "boolean", "object", "undefined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stanceof to distinguish among different object typ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1FDA-93F4-49C7-A3FD-7339FE29F929}" type="slidenum">
              <a:t>53</a:t>
            </a:fld>
          </a:p>
        </p:txBody>
      </p:sp>
    </p:spTree>
  </p:cSld>
  <p:transition>
    <p:cover dir="l"/>
  </p:transition>
  <p:timing>
    <p:tnLst>
      <p:par>
        <p:cTn id="1927" dur="indefinite" restart="never" nodeType="tmRoot">
          <p:childTnLst>
            <p:seq>
              <p:cTn id="1928" dur="indefinite" nodeType="mainSeq">
                <p:childTnLst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vaScript Operators (7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dele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p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ry op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used to delete a property of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used to delete an array el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JavaScript has garbage collection, like Java, so delete is not related to this kind of dele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5327-A413-48EB-A38B-FE3D41A152CA}" type="slidenum">
              <a:t>54</a:t>
            </a:fld>
          </a:p>
        </p:txBody>
      </p:sp>
    </p:spTree>
  </p:cSld>
  <p:transition>
    <p:cover dir="l"/>
  </p:transition>
  <p:timing>
    <p:tnLst>
      <p:par>
        <p:cTn id="1955" dur="indefinite" restart="never" nodeType="tmRoot">
          <p:childTnLst>
            <p:seq>
              <p:cTn id="1956" dur="indefinite" nodeType="mainSeq">
                <p:childTnLst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vaScript Operators (8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p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ry op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in Java it is used to construct an objec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F6C-4F93-4731-A980-CF0DCD049461}" type="slidenum">
              <a:t>55</a:t>
            </a:fld>
          </a:p>
        </p:txBody>
      </p:sp>
    </p:spTree>
  </p:cSld>
  <p:transition>
    <p:cover dir="l"/>
  </p:transition>
  <p:timing>
    <p:tnLst>
      <p:par>
        <p:cTn id="1989" dur="indefinite" restart="never" nodeType="tmRoot">
          <p:childTnLst>
            <p:seq>
              <p:cTn id="1990" dur="indefinite" nodeType="mainSeq">
                <p:childTnLst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vaScript Operators (9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range unary op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it is applied to a method call expression it throws away the return value and returns the undefined val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in hypertext link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f01"/>
                </a:solidFill>
                <a:latin typeface="Courier New"/>
              </a:rPr>
              <a:t>&lt;a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h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javascript:void ..."</a:t>
            </a:r>
            <a:r>
              <a:rPr b="1" lang="en-US" sz="2400" spc="-1" strike="noStrike">
                <a:solidFill>
                  <a:srgbClr val="ffcf01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ffcf01"/>
                </a:solidFill>
                <a:latin typeface="Courier New"/>
              </a:rPr>
              <a:t>&lt;/a&gt;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that browser won't display return val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2C0-6F85-41B7-8069-3769C0941C82}" type="slidenum">
              <a:t>56</a:t>
            </a:fld>
          </a:p>
        </p:txBody>
      </p:sp>
    </p:spTree>
  </p:cSld>
  <p:transition>
    <p:cover dir="l"/>
  </p:transition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ment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on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le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This is a warning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Hello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E15-7537-428D-AF70-644C6B51A3DF}" type="slidenum">
              <a:t>57</a:t>
            </a:fld>
          </a:p>
        </p:txBody>
      </p:sp>
    </p:spTree>
  </p:cSld>
  <p:transition>
    <p:cover dir="l"/>
  </p:transition>
  <p:timing>
    <p:tnLst>
      <p:par>
        <p:cTn id="2039" dur="indefinite" restart="never" nodeType="tmRoot">
          <p:childTnLst>
            <p:seq>
              <p:cTn id="2040" dur="indefinite" nodeType="mainSeq">
                <p:childTnLst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ment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ignment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y = 1.0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1.5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ypot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ath.sq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x*x + y*y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window.op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...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CB6B-1807-4254-A12A-FC3F01CFBC43}" type="slidenum">
              <a:t>58</a:t>
            </a:fld>
          </a:p>
        </p:txBody>
      </p:sp>
    </p:spTree>
  </p:cSld>
  <p:transition>
    <p:cover dir="l"/>
  </p:transition>
  <p:timing>
    <p:tnLst>
      <p:par>
        <p:cTn id="2073" dur="indefinite" restart="never" nodeType="tmRoot">
          <p:childTnLst>
            <p:seq>
              <p:cTn id="2074" dur="indefinite" nodeType="mainSeq">
                <p:childTnLst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ment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und statem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ne or more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2CDA-B58B-4242-AFE2-FD25F150C834}" type="slidenum">
              <a:t>59</a:t>
            </a:fld>
          </a:p>
        </p:txBody>
      </p:sp>
    </p:spTree>
  </p:cSld>
  <p:transition>
    <p:cover dir="l"/>
  </p:transition>
  <p:timing>
    <p:tnLst>
      <p:par>
        <p:cTn id="2113" dur="indefinite" restart="never" nodeType="tmRoot">
          <p:childTnLst>
            <p:seq>
              <p:cTn id="2114" dur="indefinite" nodeType="mainSeq">
                <p:childTnLst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Version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 1.3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iant with ECMAScript v1, implemented in Netscape 4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 1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 1.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exception handling, compliant with ECMAScript v3, implemented in Netscape 6 and Mozil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DB8-6D27-4CAD-AEAE-F78BDBA06DAA}" type="slidenum">
              <a:t>6</a:t>
            </a:fld>
          </a:p>
        </p:txBody>
      </p:sp>
    </p:spTree>
  </p:cSld>
  <p:transition>
    <p:cover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ments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f-else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f-else i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have the same structure as the corresponding statement in Java. 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6DCA-C87C-4372-AF32-B6BC531AEB45}" type="slidenum">
              <a:t>60</a:t>
            </a:fld>
          </a:p>
        </p:txBody>
      </p:sp>
    </p:spTree>
  </p:cSld>
  <p:transition>
    <p:cover dir="l"/>
  </p:transition>
  <p:timing>
    <p:tnLst>
      <p:par>
        <p:cTn id="2139" dur="indefinite" restart="never" nodeType="tmRoot">
          <p:childTnLst>
            <p:seq>
              <p:cTn id="2140" dur="indefinite" nodeType="mainSeq">
                <p:childTnLst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ments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e structure as the corresponding statement in Java. 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BF1A-CE92-442B-9161-7C5F314CB927}" type="slidenum">
              <a:t>61</a:t>
            </a:fld>
          </a:p>
        </p:txBody>
      </p:sp>
    </p:spTree>
  </p:cSld>
  <p:transition>
    <p:cover dir="l"/>
  </p:transition>
  <p:timing>
    <p:tnLst>
      <p:par>
        <p:cTn id="2183" dur="indefinite" restart="never" nodeType="tmRoot">
          <p:childTnLst>
            <p:seq>
              <p:cTn id="2184" dur="indefinite" nodeType="mainSeq">
                <p:childTnLst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ments (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do-whi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e structure as the corresponding statement in Java. 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...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E31-55D5-4251-B004-C4F3FDDFDD0A}" type="slidenum">
              <a:t>62</a:t>
            </a:fld>
          </a:p>
        </p:txBody>
      </p:sp>
    </p:spTree>
  </p:cSld>
  <p:transition>
    <p:cover dir="l"/>
  </p:transition>
  <p:timing>
    <p:tnLst>
      <p:par>
        <p:cTn id="2215" dur="indefinite" restart="never" nodeType="tmRoot">
          <p:childTnLst>
            <p:seq>
              <p:cTn id="2216" dur="indefinite" nodeType="mainSeq">
                <p:childTnLst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ments (7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e structure as the corresponding statement in Java (more like the C++ for loop than Jav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... ; ...;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92D-ACCE-4D4D-A6E6-E110BDE4639A}" type="slidenum">
              <a:t>63</a:t>
            </a:fld>
          </a:p>
        </p:txBody>
      </p:sp>
    </p:spTree>
  </p:cSld>
  <p:transition>
    <p:cover dir="l"/>
  </p:transition>
  <p:timing>
    <p:tnLst>
      <p:par>
        <p:cTn id="2247" dur="indefinite" restart="never" nodeType="tmRoot">
          <p:childTnLst>
            <p:seq>
              <p:cTn id="2248" dur="indefinite" nodeType="mainSeq">
                <p:childTnLst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ments (8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for 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atem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perty</a:t>
            </a:r>
            <a:r>
              <a:rPr b="1" lang="en-US" sz="28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obj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llowing example shows how to display a table of window and document proper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762480" y="5221440"/>
            <a:ext cx="5118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simple/for-i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BD7-7356-4F7C-83C8-F12756CE4C5C}" type="slidenum">
              <a:t>64</a:t>
            </a:fld>
          </a:p>
        </p:txBody>
      </p:sp>
    </p:spTree>
  </p:cSld>
  <p:transition>
    <p:cover dir="l"/>
  </p:transition>
  <p:timing>
    <p:tnLst>
      <p:par>
        <p:cTn id="2279" dur="indefinite" restart="never" nodeType="tmRoot">
          <p:childTnLst>
            <p:seq>
              <p:cTn id="2280" dur="indefinite" nodeType="mainSeq">
                <p:childTnLst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3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ments (9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returns a value from a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1.0 -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Math.p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1.0 + i, -n)) / 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8292-F0F8-4372-A3CB-1BAB427D18AB}" type="slidenum">
              <a:t>65</a:t>
            </a:fld>
          </a:p>
        </p:txBody>
      </p:sp>
    </p:spTree>
  </p:cSld>
  <p:transition>
    <p:cover dir="l"/>
  </p:transition>
  <p:timing>
    <p:tnLst>
      <p:par>
        <p:cTn id="2315" dur="indefinite" restart="never" nodeType="tmRoot">
          <p:childTnLst>
            <p:seq>
              <p:cTn id="2316" dur="indefinite" nodeType="mainSeq">
                <p:childTnLst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ments (10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ypes of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contin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thr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try / catch / fin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F5C7-AF52-4AFD-99FF-DAB21A09A181}" type="slidenum">
              <a:t>66</a:t>
            </a:fld>
          </a:p>
        </p:txBody>
      </p:sp>
    </p:spTree>
  </p:cSld>
  <p:transition>
    <p:cover dir="l"/>
  </p:transition>
  <p:timing>
    <p:tnLst>
      <p:par>
        <p:cTn id="2339" dur="indefinite" restart="never" nodeType="tmRoot">
          <p:childTnLst>
            <p:seq>
              <p:cTn id="2340" dur="indefinite" nodeType="mainSeq">
                <p:childTnLst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fill="hold">
                      <p:stCondLst>
                        <p:cond delay="indefinite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ctorial functio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// Compute n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actori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 = 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k = 2; k &lt;= n; k+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 = p * 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50B2-1412-4A17-935B-CA09A7F55869}" type="slidenum">
              <a:t>67</a:t>
            </a:fld>
          </a:p>
        </p:txBody>
      </p:sp>
    </p:spTree>
  </p:cSld>
  <p:transition>
    <p:cover dir="l"/>
  </p:transition>
  <p:timing>
    <p:tnLst>
      <p:par>
        <p:cTn id="2391" dur="indefinite" restart="never" nodeType="tmRoot">
          <p:childTnLst>
            <p:seq>
              <p:cTn id="2392" dur="indefinite" nodeType="mainSeq">
                <p:childTnLst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8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1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7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9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ctorial funct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actorialTa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pre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0; k &lt;= 25; k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l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k +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!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actori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k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/pre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5374080"/>
            <a:ext cx="5667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simple/factorial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D955-5A75-48E0-BDC7-3CE8FD58486E}" type="slidenum">
              <a:t>68</a:t>
            </a:fld>
          </a:p>
        </p:txBody>
      </p:sp>
    </p:spTree>
  </p:cSld>
  <p:transition>
    <p:cover dir="l"/>
  </p:transition>
  <p:timing>
    <p:tnLst>
      <p:par>
        <p:cTn id="2433" dur="indefinite" restart="never" nodeType="tmRoot">
          <p:childTnLst>
            <p:seq>
              <p:cTn id="2434" dur="indefinite" nodeType="mainSeq">
                <p:childTnLst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erse string functio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reverse the string 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rever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Reverse = ""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k = 0; k &lt; s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k+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everse = s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har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k) + sRevers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Revers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0BDA-AC4D-42EA-AB40-45D682F2A3BB}" type="slidenum">
              <a:t>69</a:t>
            </a:fld>
          </a:p>
        </p:txBody>
      </p:sp>
    </p:spTree>
  </p:cSld>
  <p:transition>
    <p:cover dir="l"/>
  </p:transition>
  <p:timing>
    <p:tnLst>
      <p:par>
        <p:cTn id="2485" dur="indefinite" restart="never" nodeType="tmRoot">
          <p:childTnLst>
            <p:seq>
              <p:cTn id="2486" dur="indefinite" nodeType="mainSeq">
                <p:childTnLst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7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8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5" dur="5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0" dur="500" fill="hold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fill="hold">
                      <p:stCondLst>
                        <p:cond delay="indefinite"/>
                      </p:stCondLst>
                      <p:childTnLst>
                        <p:par>
                          <p:cTn id="2532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Version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Script 1.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ke JavaScript 1.0, implemented in IE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Script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ke JavaScript 1.1, implemented in IE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Script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ke JavaScript 1.3, compliant with ECMAScript v1, implemented in IE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Sscript 4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lone non-browser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3CB6-C74C-4EF6-9320-F2C3D842CFD2}" type="slidenum">
              <a:t>7</a:t>
            </a:fld>
          </a:p>
        </p:txBody>
      </p:sp>
    </p:spTree>
  </p:cSld>
  <p:transition>
    <p:cover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erse string funct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Recursive vers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recursiveRever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lt;= 1)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recursiveRever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ub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1)) 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har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0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457560" y="5221440"/>
            <a:ext cx="5301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simple/revers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306F-1182-4252-A7F1-F358A0A02413}" type="slidenum">
              <a:t>70</a:t>
            </a:fld>
          </a:p>
        </p:txBody>
      </p:sp>
    </p:spTree>
  </p:cSld>
  <p:transition>
    <p:cover dir="l"/>
  </p:transition>
  <p:timing>
    <p:tnLst>
      <p:par>
        <p:cTn id="2537" dur="indefinite" restart="never" nodeType="tmRoot">
          <p:childTnLst>
            <p:seq>
              <p:cTn id="2538" dur="indefinite" nodeType="mainSeq">
                <p:childTnLst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5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1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2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6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3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x functio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ing max value in an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ax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Value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Number.NEGATIVE_INFINIT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0; k &lt; a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eng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k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a[k] &gt; maxValue) maxValue = a[k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52A-DF1E-4CE8-ADA5-4F7DD81F59F3}" type="slidenum">
              <a:t>71</a:t>
            </a:fld>
          </a:p>
        </p:txBody>
      </p:sp>
    </p:spTree>
  </p:cSld>
  <p:transition>
    <p:cover dir="l"/>
  </p:transition>
  <p:timing>
    <p:tnLst>
      <p:par>
        <p:cTn id="2581" dur="indefinite" restart="never" nodeType="tmRoot">
          <p:childTnLst>
            <p:seq>
              <p:cTn id="2582" dur="indefinite" nodeType="mainSeq">
                <p:childTnLst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1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2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6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9" dur="5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4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7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x funct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can be tested using the HTM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maximum of the numbers 3,4,5,-1,-2 is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script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angu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javascript"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ax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[3,4,5,-1,-2]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3429000" y="4267080"/>
            <a:ext cx="2743200" cy="914400"/>
          </a:xfrm>
          <a:prstGeom prst="wedgeEllipseCallout">
            <a:avLst>
              <a:gd name="adj1" fmla="val 47861"/>
              <a:gd name="adj2" fmla="val -13489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teral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66D-F99E-4F89-9F81-E2945A6B3ECF}" type="slidenum">
              <a:t>72</a:t>
            </a:fld>
          </a:p>
        </p:txBody>
      </p:sp>
    </p:spTree>
  </p:cSld>
  <p:transition>
    <p:cover dir="l"/>
  </p:transition>
  <p:timing>
    <p:tnLst>
      <p:par>
        <p:cTn id="2629" dur="indefinite" restart="never" nodeType="tmRoot">
          <p:childTnLst>
            <p:seq>
              <p:cTn id="2630" dur="indefinite" nodeType="mainSeq">
                <p:childTnLst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1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6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0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x function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ing max value in arg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a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Value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Number.NEGATIVE_INFINIT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0; k &lt; arguments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eng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k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arguments[k] &gt; maxVal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Value = arguments[k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6172200" y="3581280"/>
            <a:ext cx="2362320" cy="990720"/>
          </a:xfrm>
          <a:prstGeom prst="wedgeEllipseCallout">
            <a:avLst>
              <a:gd name="adj1" fmla="val -77824"/>
              <a:gd name="adj2" fmla="val -85416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array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24280" y="1676520"/>
            <a:ext cx="3124440" cy="533160"/>
          </a:xfrm>
          <a:prstGeom prst="wedgeEllipseCallout">
            <a:avLst>
              <a:gd name="adj1" fmla="val -107874"/>
              <a:gd name="adj2" fmla="val -1012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ath.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orks like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1D3-69E3-454E-AC1F-4235F059FBB2}" type="slidenum">
              <a:t>73</a:t>
            </a:fld>
          </a:p>
        </p:txBody>
      </p:sp>
    </p:spTree>
  </p:cSld>
  <p:transition>
    <p:cover dir="l"/>
  </p:transition>
  <p:timing>
    <p:tnLst>
      <p:par>
        <p:cTn id="2661" dur="indefinite" restart="never" nodeType="tmRoot">
          <p:childTnLst>
            <p:seq>
              <p:cTn id="2662" dur="indefinite" nodeType="mainSeq">
                <p:childTnLst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1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0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8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5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6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0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x function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t can be tested using the HTM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maximum of the numbers 3,4,5,-1,-2 i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scrip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angu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javascript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ax(3,4,5,-1,-2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686880" y="4840560"/>
            <a:ext cx="456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simple/ma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2362320"/>
            <a:ext cx="65530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6FAA-6799-4038-AB64-65449086FD87}" type="slidenum">
              <a:t>74</a:t>
            </a:fld>
          </a:p>
        </p:txBody>
      </p:sp>
    </p:spTree>
  </p:cSld>
  <p:transition>
    <p:cover dir="l"/>
  </p:transition>
  <p:timing>
    <p:tnLst>
      <p:par>
        <p:cTn id="2721" dur="indefinite" restart="never" nodeType="tmRoot">
          <p:childTnLst>
            <p:seq>
              <p:cTn id="2722" dur="indefinite" nodeType="mainSeq">
                <p:childTnLst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2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5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t functio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at(n, 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al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ath.rou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 * 100) / 1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 = val +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s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dexO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.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&lt; 0) s = s +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.00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s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dexO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.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== s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eng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2) s = s +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0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paces = w - s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eng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1; k &lt;= spaces; k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 = " " + 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DC8B-AE6F-4B9A-B9E8-FD6DE81BE18A}" type="slidenum">
              <a:t>75</a:t>
            </a:fld>
          </a:p>
        </p:txBody>
      </p:sp>
    </p:spTree>
  </p:cSld>
  <p:transition>
    <p:cover dir="l"/>
  </p:transition>
  <p:timing>
    <p:tnLst>
      <p:par>
        <p:cTn id="2757" dur="indefinite" restart="never" nodeType="tmRoot">
          <p:childTnLst>
            <p:seq>
              <p:cTn id="2758" dur="indefinite" nodeType="mainSeq">
                <p:childTnLst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7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8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2" dur="500" fill="hold"/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3" fill="hold">
                      <p:stCondLst>
                        <p:cond delay="indefinite"/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8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5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7" dur="500" fill="hold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1" dur="500" fill="hold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2" dur="500" fill="hold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6" dur="500" fill="hold"/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9" dur="500" fill="hold"/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3" dur="500" fill="hold"/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4" dur="500" fill="hold"/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t funct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 right justifies the number </a:t>
            </a:r>
            <a:r>
              <a:rPr b="1" lang="en-US" sz="3200" spc="-1" strike="noStrike">
                <a:solidFill>
                  <a:srgbClr val="333399"/>
                </a:solidFill>
                <a:latin typeface="Courier New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a field of width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haracters. It can be tested using the 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rounded value of 34.99999999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script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angua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javascript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ormat(34.99999999,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686160" y="5374080"/>
            <a:ext cx="5118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simple/format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971800"/>
            <a:ext cx="647712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EEB4-5E7F-40E4-8064-CFB7ECCBC15A}" type="slidenum">
              <a:t>76</a:t>
            </a:fld>
          </a:p>
        </p:txBody>
      </p:sp>
    </p:spTree>
  </p:cSld>
  <p:transition>
    <p:cover dir="l"/>
  </p:transition>
  <p:timing>
    <p:tnLst>
      <p:par>
        <p:cTn id="2817" dur="indefinite" restart="never" nodeType="tmRoot">
          <p:childTnLst>
            <p:seq>
              <p:cTn id="2818" dur="indefinite" nodeType="mainSeq">
                <p:childTnLst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9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5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method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s are created u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 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ray(..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rgument, if any is the number of array elements to allocate initial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s can also be created using an array lit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 </a:t>
            </a:r>
            <a:br>
              <a:rPr sz="28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 = [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abc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2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ru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[1,2,3] 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B727-C9BF-4BD8-9CFB-BC4B4E9684BF}" type="slidenum">
              <a:t>77</a:t>
            </a:fld>
          </a:p>
        </p:txBody>
      </p:sp>
    </p:spTree>
  </p:cSld>
  <p:transition>
    <p:cover dir="l"/>
  </p:transition>
  <p:timing>
    <p:tnLst>
      <p:par>
        <p:cTn id="2857" dur="indefinite" restart="never" nodeType="tmRoot">
          <p:childTnLst>
            <p:seq>
              <p:cTn id="2858" dur="indefinite" nodeType="mainSeq">
                <p:childTnLst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8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4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3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method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s are dynamic. New elements can be added using assignment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 = [1,2,3]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length is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3] = 5;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length is now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10] = 12;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length is now 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last exampl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[4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[9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undefin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3046-CF35-4A96-BF99-AB2D49561333}" type="slidenum">
              <a:t>78</a:t>
            </a:fld>
          </a:p>
        </p:txBody>
      </p:sp>
    </p:spTree>
  </p:cSld>
  <p:transition>
    <p:cover dir="l"/>
  </p:transition>
  <p:timing>
    <p:tnLst>
      <p:par>
        <p:cTn id="2887" dur="indefinite" restart="never" nodeType="tmRoot">
          <p:childTnLst>
            <p:seq>
              <p:cTn id="2888" dur="indefinite" nodeType="mainSeq">
                <p:childTnLst>
                  <p:par>
                    <p:cTn id="2889" fill="hold">
                      <p:stCondLst>
                        <p:cond delay="indefinite"/>
                      </p:stCondLst>
                      <p:childTnLst>
                        <p:par>
                          <p:cTn id="2890" fill="hold">
                            <p:stCondLst>
                              <p:cond delay="0"/>
                            </p:stCondLst>
                            <p:childTnLst>
                              <p:par>
                                <p:cTn id="2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3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4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0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3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7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8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7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Method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an array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Java the length of a is a read only value given by a.leng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JavaScript it is a read / write propert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= [1,2,3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.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length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100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99] = 12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as length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the element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[3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[98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undefi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ED86-1AB0-42C5-9704-8AB5D07B1827}" type="slidenum">
              <a:t>79</a:t>
            </a:fld>
          </a:p>
        </p:txBody>
      </p:sp>
    </p:spTree>
  </p:cSld>
  <p:transition>
    <p:cover dir="l"/>
  </p:transition>
  <p:timing>
    <p:tnLst>
      <p:par>
        <p:cTn id="2921" dur="indefinite" restart="never" nodeType="tmRoot">
          <p:childTnLst>
            <p:seq>
              <p:cTn id="2922" dur="indefinite" nodeType="mainSeq">
                <p:childTnLst>
                  <p:par>
                    <p:cTn id="2923" fill="hold">
                      <p:stCondLst>
                        <p:cond delay="indefinite"/>
                      </p:stCondLst>
                      <p:childTnLst>
                        <p:par>
                          <p:cTn id="2924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8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9" fill="hold">
                      <p:stCondLst>
                        <p:cond delay="indefinite"/>
                      </p:stCondLst>
                      <p:childTnLst>
                        <p:par>
                          <p:cTn id="2930" fill="hold">
                            <p:stCondLst>
                              <p:cond delay="0"/>
                            </p:stCondLst>
                            <p:childTnLst>
                              <p:par>
                                <p:cTn id="2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4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1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5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6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7" fill="hold">
                      <p:stCondLst>
                        <p:cond delay="indefinite"/>
                      </p:stCondLst>
                      <p:childTnLst>
                        <p:par>
                          <p:cTn id="2948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1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2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Versions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Script 5.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exception handling, almost compliant with ECMAScript v3, implemented in IE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Script 5.5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ke JavaScript 1.5, compliant with ECMAScript v3, implemented in IE 5.5 and IE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MAScript v1,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standardized version, v2 (maintenance relea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MAScript v3 (regex and excep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FA1-5A5E-4D40-98B0-2E9A23278CDD}" type="slidenum">
              <a:t>8</a:t>
            </a:fld>
          </a:p>
        </p:txBody>
      </p:sp>
    </p:spTree>
  </p:cSld>
  <p:transition>
    <p:cover dir="l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Methods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jo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thod converts all array elements to strings and concatenates them using, by default, a comma to separate elements. The separator can be specifi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= [1,2,3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 = a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jo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;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gives "1,2,3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 = a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jo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: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gives "1:2:3: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352C-909A-4A3E-9732-09E883757148}" type="slidenum">
              <a:t>80</a:t>
            </a:fld>
          </a:p>
        </p:txBody>
      </p:sp>
    </p:spTree>
  </p:cSld>
  <p:transition>
    <p:cover dir="l"/>
  </p:transition>
  <p:timing>
    <p:tnLst>
      <p:par>
        <p:cTn id="2955" dur="indefinite" restart="never" nodeType="tmRoot">
          <p:childTnLst>
            <p:seq>
              <p:cTn id="2956" dur="indefinite" nodeType="mainSeq">
                <p:childTnLst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1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2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0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Methods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rever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thod reverses the order of the el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 = [1,2,3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rever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;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gives [3,2,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8100-AEE2-40A1-B000-F63BFC222603}" type="slidenum">
              <a:t>81</a:t>
            </a:fld>
          </a:p>
        </p:txBody>
      </p:sp>
    </p:spTree>
  </p:cSld>
  <p:transition>
    <p:cover dir="l"/>
  </p:transition>
  <p:timing>
    <p:tnLst>
      <p:par>
        <p:cTn id="2983" dur="indefinite" restart="never" nodeType="tmRoot">
          <p:childTnLst>
            <p:seq>
              <p:cTn id="2984" dur="indefinite" nodeType="mainSeq">
                <p:childTnLst>
                  <p:par>
                    <p:cTn id="2985" fill="hold">
                      <p:stCondLst>
                        <p:cond delay="indefinite"/>
                      </p:stCondLst>
                      <p:childTnLst>
                        <p:par>
                          <p:cTn id="2986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0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1" fill="hold">
                      <p:stCondLst>
                        <p:cond delay="indefinite"/>
                      </p:stCondLst>
                      <p:childTnLst>
                        <p:par>
                          <p:cTn id="2992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5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6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4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Methods (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ort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 sorts the array in place. The default is to temporarily convert elements to strings and sort alphabetical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 = [2,1,3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;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gives [1,2,3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arison function can be supplied as an argu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0FBA-F096-49F3-87B5-2F9D13705D4B}" type="slidenum">
              <a:t>82</a:t>
            </a:fld>
          </a:p>
        </p:txBody>
      </p:sp>
    </p:spTree>
  </p:cSld>
  <p:transition>
    <p:cover dir="l"/>
  </p:transition>
  <p:timing>
    <p:tnLst>
      <p:par>
        <p:cTn id="3007" dur="indefinite" restart="never" nodeType="tmRoot">
          <p:childTnLst>
            <p:seq>
              <p:cTn id="3008" dur="indefinite" nodeType="mainSeq">
                <p:childTnLst>
                  <p:par>
                    <p:cTn id="3009" fill="hold">
                      <p:stCondLst>
                        <p:cond delay="indefinite"/>
                      </p:stCondLst>
                      <p:childTnLst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0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3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4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7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fill="hold">
                      <p:stCondLst>
                        <p:cond delay="indefinite"/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3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Methods (7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rting an array of integers in decreasing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 = [1,2,3,4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ecrease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b) {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-a; }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ecreas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4,3,2,1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DC0-601B-479E-9C7E-A9C6529DF66B}" type="slidenum">
              <a:t>83</a:t>
            </a:fld>
          </a:p>
        </p:txBody>
      </p:sp>
    </p:spTree>
  </p:cSld>
  <p:transition>
    <p:cover dir="l"/>
  </p:transition>
  <p:timing>
    <p:tnLst>
      <p:par>
        <p:cTn id="3037" dur="indefinite" restart="never" nodeType="tmRoot">
          <p:childTnLst>
            <p:seq>
              <p:cTn id="3038" dur="indefinite" nodeType="mainSeq">
                <p:childTnLst>
                  <p:par>
                    <p:cTn id="3039" fill="hold">
                      <p:stCondLst>
                        <p:cond delay="indefinite"/>
                      </p:stCondLst>
                      <p:childTnLst>
                        <p:par>
                          <p:cTn id="3040" fill="hold">
                            <p:stCondLst>
                              <p:cond delay="0"/>
                            </p:stCondLst>
                            <p:childTnLst>
                              <p:par>
                                <p:cTn id="30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3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4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1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2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6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5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Methods (8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rting an array of strings in decreasing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 = [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one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two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three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four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ecrease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localeComp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ecreas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two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three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one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four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AAB-94D9-472B-935B-AA080C46EE69}" type="slidenum">
              <a:t>84</a:t>
            </a:fld>
          </a:p>
        </p:txBody>
      </p:sp>
    </p:spTree>
  </p:cSld>
  <p:transition>
    <p:cover dir="l"/>
  </p:transition>
  <p:timing>
    <p:tnLst>
      <p:par>
        <p:cTn id="3069" dur="indefinite" restart="never" nodeType="tmRoot">
          <p:childTnLst>
            <p:seq>
              <p:cTn id="3070" dur="indefinite" nodeType="mainSeq">
                <p:childTnLst>
                  <p:par>
                    <p:cTn id="3071" fill="hold">
                      <p:stCondLst>
                        <p:cond delay="indefinite"/>
                      </p:stCondLst>
                      <p:childTnLst>
                        <p:par>
                          <p:cTn id="3072" fill="hold">
                            <p:stCondLst>
                              <p:cond delay="0"/>
                            </p:stCondLst>
                            <p:childTnLst>
                              <p:par>
                                <p:cTn id="30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5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0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3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7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1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2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5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9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0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1" fill="hold">
                      <p:stCondLst>
                        <p:cond delay="indefinite"/>
                      </p:stCondLst>
                      <p:childTnLst>
                        <p:par>
                          <p:cTn id="3102" fill="hold">
                            <p:stCondLst>
                              <p:cond delay="0"/>
                            </p:stCondLst>
                            <p:childTnLst>
                              <p:par>
                                <p:cTn id="3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5" dur="5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6" dur="5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Methods (9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nca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thod concatenates elements to the end of an arra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 = [1,2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 = a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onc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3,4); /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 gives[1,2,3,4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 that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conca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oes not change the array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It creates a new 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87E-EF6E-470F-9A48-2238802AA1B7}" type="slidenum">
              <a:t>85</a:t>
            </a:fld>
          </a:p>
        </p:txBody>
      </p:sp>
    </p:spTree>
  </p:cSld>
  <p:transition>
    <p:cover dir="l"/>
  </p:transition>
  <p:timing>
    <p:tnLst>
      <p:par>
        <p:cTn id="3109" dur="indefinite" restart="never" nodeType="tmRoot">
          <p:childTnLst>
            <p:seq>
              <p:cTn id="3110" dur="indefinite" nodeType="mainSeq">
                <p:childTnLst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7" fill="hold">
                      <p:stCondLst>
                        <p:cond delay="indefinite"/>
                      </p:stCondLst>
                      <p:childTnLst>
                        <p:par>
                          <p:cTn id="3118" fill="hold">
                            <p:stCondLst>
                              <p:cond delay="0"/>
                            </p:stCondLst>
                            <p:childTnLst>
                              <p:par>
                                <p:cTn id="3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2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5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9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0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5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6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Methods (10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lice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 returns a new array that is a subarray of the arra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= [10,11,12,13,14,15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 = a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l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2,5);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[12,13,1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 = a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l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2);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[12,13,14,15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li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oes not change the array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creates a new 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second index is one past last on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986-42D7-4C99-999B-A182AC871E5A}" type="slidenum">
              <a:t>86</a:t>
            </a:fld>
          </a:p>
        </p:txBody>
      </p:sp>
    </p:spTree>
  </p:cSld>
  <p:transition>
    <p:cover dir="l"/>
  </p:transition>
  <p:timing>
    <p:tnLst>
      <p:par>
        <p:cTn id="3139" dur="indefinite" restart="never" nodeType="tmRoot">
          <p:childTnLst>
            <p:seq>
              <p:cTn id="3140" dur="indefinite" nodeType="mainSeq">
                <p:childTnLst>
                  <p:par>
                    <p:cTn id="3141" fill="hold">
                      <p:stCondLst>
                        <p:cond delay="indefinite"/>
                      </p:stCondLst>
                      <p:childTnLst>
                        <p:par>
                          <p:cTn id="3142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6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7" fill="hold">
                      <p:stCondLst>
                        <p:cond delay="indefinite"/>
                      </p:stCondLst>
                      <p:childTnLst>
                        <p:par>
                          <p:cTn id="3148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2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5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9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0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3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4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0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fill="hold">
                      <p:stCondLst>
                        <p:cond delay="indefinite"/>
                      </p:stCondLst>
                      <p:childTnLst>
                        <p:par>
                          <p:cTn id="3172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5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Methods (1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pli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thod can insert and/or remove elements from anywhere in an array. It modifies the array and also returns a new 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's a classic example of a badly defined method that does too many thin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ED14-EC52-4124-A12D-A32152166C6A}" type="slidenum">
              <a:t>87</a:t>
            </a:fld>
          </a:p>
        </p:txBody>
      </p:sp>
    </p:spTree>
  </p:cSld>
  <p:transition>
    <p:cover dir="l"/>
  </p:transition>
  <p:timing>
    <p:tnLst>
      <p:par>
        <p:cTn id="3179" dur="indefinite" restart="never" nodeType="tmRoot">
          <p:childTnLst>
            <p:seq>
              <p:cTn id="3180" dur="indefinite" nodeType="mainSeq">
                <p:childTnLst>
                  <p:par>
                    <p:cTn id="3181" fill="hold">
                      <p:stCondLst>
                        <p:cond delay="indefinite"/>
                      </p:stCondLst>
                      <p:childTnLst>
                        <p:par>
                          <p:cTn id="3182" fill="hold">
                            <p:stCondLst>
                              <p:cond delay="0"/>
                            </p:stCondLst>
                            <p:childTnLst>
                              <p:par>
                                <p:cTn id="3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5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6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fill="hold">
                      <p:stCondLst>
                        <p:cond delay="indefinite"/>
                      </p:stCondLst>
                      <p:childTnLst>
                        <p:par>
                          <p:cTn id="3188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1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2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Methods (1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pus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pop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s treat the array as a stack with the top of the stack at the end of the arr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 = []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empty st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us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1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s is [1], returns length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us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2,3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s is [1,2,3], returns length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op = s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o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;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is [1,2], returns 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2CE-31BE-43FE-B108-0F9AAA7CE9F5}" type="slidenum">
              <a:t>88</a:t>
            </a:fld>
          </a:p>
        </p:txBody>
      </p:sp>
    </p:spTree>
  </p:cSld>
  <p:transition>
    <p:cover dir="l"/>
  </p:transition>
  <p:timing>
    <p:tnLst>
      <p:par>
        <p:cTn id="3195" dur="indefinite" restart="never" nodeType="tmRoot">
          <p:childTnLst>
            <p:seq>
              <p:cTn id="3196" dur="indefinite" nodeType="mainSeq">
                <p:childTnLst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1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fill="hold">
                      <p:stCondLst>
                        <p:cond delay="indefinite"/>
                      </p:stCondLst>
                      <p:childTnLst>
                        <p:par>
                          <p:cTn id="3204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8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9" fill="hold">
                      <p:stCondLst>
                        <p:cond delay="indefinite"/>
                      </p:stCondLst>
                      <p:childTnLst>
                        <p:par>
                          <p:cTn id="3210" fill="hold">
                            <p:stCondLst>
                              <p:cond delay="0"/>
                            </p:stCondLst>
                            <p:childTnLst>
                              <p:par>
                                <p:cTn id="3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4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0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fill="hold">
                      <p:stCondLst>
                        <p:cond delay="indefinite"/>
                      </p:stCondLst>
                      <p:childTnLst>
                        <p:par>
                          <p:cTn id="3222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6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Methods (1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unshif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hift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s treat the array as a stack with the top of the stack at the start of the arr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 = []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empty st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unshi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1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s is [1], returns length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unshi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2,3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s is [3,2,1], returns length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op = s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hi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s is [2,1], returns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2197-239E-405D-BEC8-F53B20A10CB8}" type="slidenum">
              <a:t>89</a:t>
            </a:fld>
          </a:p>
        </p:txBody>
      </p:sp>
    </p:spTree>
  </p:cSld>
  <p:transition>
    <p:cover dir="l"/>
  </p:transition>
  <p:timing>
    <p:tnLst>
      <p:par>
        <p:cTn id="3229" dur="indefinite" restart="never" nodeType="tmRoot">
          <p:childTnLst>
            <p:seq>
              <p:cTn id="3230" dur="indefinite" nodeType="mainSeq">
                <p:childTnLst>
                  <p:par>
                    <p:cTn id="3231" fill="hold">
                      <p:stCondLst>
                        <p:cond delay="indefinite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5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7" fill="hold">
                      <p:stCondLst>
                        <p:cond delay="indefinite"/>
                      </p:stCondLst>
                      <p:childTnLst>
                        <p:par>
                          <p:cTn id="3238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1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7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9" fill="hold">
                      <p:stCondLst>
                        <p:cond delay="indefinite"/>
                      </p:stCondLst>
                      <p:childTnLst>
                        <p:par>
                          <p:cTn id="3250" fill="hold">
                            <p:stCondLst>
                              <p:cond delay="0"/>
                            </p:stCondLst>
                            <p:childTnLst>
                              <p:par>
                                <p:cTn id="3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3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5" fill="hold">
                      <p:stCondLst>
                        <p:cond delay="indefinite"/>
                      </p:stCondLst>
                      <p:childTnLst>
                        <p:par>
                          <p:cTn id="3256" fill="hold">
                            <p:stCondLst>
                              <p:cond delay="0"/>
                            </p:stCondLst>
                            <p:childTnLst>
                              <p:par>
                                <p:cTn id="3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9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language referenc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scape has online client guide to JavaScrip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681480" y="2905920"/>
            <a:ext cx="6368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http://devedge.netscape.com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8C8-2EF7-4DE6-AECB-E3E66653FFF2}" type="slidenum">
              <a:t>9</a:t>
            </a:fld>
          </a:p>
        </p:txBody>
      </p:sp>
    </p:spTree>
  </p:cSld>
  <p:transition>
    <p:cover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Methods (1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document illustrating array metho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685440" y="3540240"/>
            <a:ext cx="6215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simple/arrayMethod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011-BAFF-4AA2-8CA0-1E3D5439435C}" type="slidenum">
              <a:t>90</a:t>
            </a:fld>
          </a:p>
        </p:txBody>
      </p:sp>
    </p:spTree>
  </p:cSld>
  <p:transition>
    <p:cover dir="l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ng method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a new string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 =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Hello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 =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Hello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ngth property of a string (read on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len = s.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length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urn a character of a string: There is no char type in Javascript: a char is a one-char st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c = s.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A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AE2-3791-452B-BA9E-C0B042B9A051}" type="slidenum">
              <a:t>91</a:t>
            </a:fld>
          </a:p>
        </p:txBody>
      </p:sp>
    </p:spTree>
  </p:cSld>
  <p:transition>
    <p:cover dir="l"/>
  </p:transition>
  <p:timing>
    <p:tnLst>
      <p:par>
        <p:cTn id="3263" dur="indefinite" restart="never" nodeType="tmRoot">
          <p:childTnLst>
            <p:seq>
              <p:cTn id="3264" dur="indefinite" nodeType="mainSeq">
                <p:childTnLst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9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0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4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7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9" fill="hold">
                      <p:stCondLst>
                        <p:cond delay="indefinite"/>
                      </p:stCondLst>
                      <p:childTnLst>
                        <p:par>
                          <p:cTn id="3280" fill="hold">
                            <p:stCondLst>
                              <p:cond delay="0"/>
                            </p:stCondLst>
                            <p:childTnLst>
                              <p:par>
                                <p:cTn id="3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3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fill="hold">
                      <p:stCondLst>
                        <p:cond delay="indefinite"/>
                      </p:stCondLst>
                      <p:childTnLst>
                        <p:par>
                          <p:cTn id="3290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3" dur="5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4" dur="5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8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ng method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urn character code (Unicode valu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code = s.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harCodeA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atenate one or more string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 = s1.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onca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s2, ...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 = s1 + s2 + ... 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string from Unicode valu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 =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.fromCharCod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c1, c2, ...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868A-04CD-4FA6-A38B-2E2A48B2B39F}" type="slidenum">
              <a:t>92</a:t>
            </a:fld>
          </a:p>
        </p:txBody>
      </p:sp>
    </p:spTree>
  </p:cSld>
  <p:transition>
    <p:cover dir="l"/>
  </p:transition>
  <p:timing>
    <p:tnLst>
      <p:par>
        <p:cTn id="3301" dur="indefinite" restart="never" nodeType="tmRoot">
          <p:childTnLst>
            <p:seq>
              <p:cTn id="3302" dur="indefinite" nodeType="mainSeq">
                <p:childTnLst>
                  <p:par>
                    <p:cTn id="3303" fill="hold">
                      <p:stCondLst>
                        <p:cond delay="indefinite"/>
                      </p:stCondLst>
                      <p:childTnLst>
                        <p:par>
                          <p:cTn id="3304" fill="hold">
                            <p:stCondLst>
                              <p:cond delay="0"/>
                            </p:stCondLst>
                            <p:childTnLst>
                              <p:par>
                                <p:cTn id="3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7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1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2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3" fill="hold">
                      <p:stCondLst>
                        <p:cond delay="indefinite"/>
                      </p:stCondLst>
                      <p:childTnLst>
                        <p:par>
                          <p:cTn id="3314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8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1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5" dur="5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6" dur="5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2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6" dur="50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ng method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first index o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atter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a string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ndex = s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dexO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attern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ndex = s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dexO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attern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startIndex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last index o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atter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a string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ndex = s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lastIndexO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attern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ndex = s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lastIndexO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attern,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startIndex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756C-D3DA-4145-857E-66300B0DB3DF}" type="slidenum">
              <a:t>93</a:t>
            </a:fld>
          </a:p>
        </p:txBody>
      </p:sp>
    </p:spTree>
  </p:cSld>
  <p:transition>
    <p:cover dir="l"/>
  </p:transition>
  <p:timing>
    <p:tnLst>
      <p:par>
        <p:cTn id="3339" dur="indefinite" restart="never" nodeType="tmRoot">
          <p:childTnLst>
            <p:seq>
              <p:cTn id="3340" dur="indefinite" nodeType="mainSeq">
                <p:childTnLst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5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9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0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3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4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5" fill="hold">
                      <p:stCondLst>
                        <p:cond delay="indefinite"/>
                      </p:stCondLst>
                      <p:childTnLst>
                        <p:par>
                          <p:cTn id="3356" fill="hold">
                            <p:stCondLst>
                              <p:cond delay="0"/>
                            </p:stCondLst>
                            <p:childTnLst>
                              <p:par>
                                <p:cTn id="3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9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0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3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4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7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8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ng methods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strings in a locale dependent wa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esult =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s1.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localeCompa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s2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less than zero i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cede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zero i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qual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greater than 0 i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llow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A3C-068F-434B-94A2-9907A87F392C}" type="slidenum">
              <a:t>94</a:t>
            </a:fld>
          </a:p>
        </p:txBody>
      </p:sp>
    </p:spTree>
  </p:cSld>
  <p:transition>
    <p:cover dir="l"/>
  </p:transition>
  <p:timing>
    <p:tnLst>
      <p:par>
        <p:cTn id="3371" dur="indefinite" restart="never" nodeType="tmRoot">
          <p:childTnLst>
            <p:seq>
              <p:cTn id="3372" dur="indefinite" nodeType="mainSeq">
                <p:childTnLst>
                  <p:par>
                    <p:cTn id="3373" fill="hold">
                      <p:stCondLst>
                        <p:cond delay="indefinite"/>
                      </p:stCondLst>
                      <p:childTnLst>
                        <p:par>
                          <p:cTn id="3374" fill="hold">
                            <p:stCondLst>
                              <p:cond delay="0"/>
                            </p:stCondLst>
                            <p:childTnLst>
                              <p:par>
                                <p:cTn id="3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1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3" fill="hold">
                      <p:stCondLst>
                        <p:cond delay="indefinite"/>
                      </p:stCondLst>
                      <p:childTnLst>
                        <p:par>
                          <p:cTn id="3384" fill="hold">
                            <p:stCondLst>
                              <p:cond delay="0"/>
                            </p:stCondLst>
                            <p:childTnLst>
                              <p:par>
                                <p:cTn id="3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7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8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9" fill="hold">
                      <p:stCondLst>
                        <p:cond delay="indefinite"/>
                      </p:stCondLst>
                      <p:childTnLst>
                        <p:par>
                          <p:cTn id="3390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3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4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5" fill="hold">
                      <p:stCondLst>
                        <p:cond delay="indefinite"/>
                      </p:stCondLst>
                      <p:childTnLst>
                        <p:par>
                          <p:cTn id="3396" fill="hold">
                            <p:stCondLst>
                              <p:cond delay="0"/>
                            </p:stCondLst>
                            <p:childTnLst>
                              <p:par>
                                <p:cTn id="3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9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0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ng methods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ching, replacing, or searching a string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a  pattern specified by a regular expression object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ge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 = s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matc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regex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 = s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repla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regex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replacementString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ndex = s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arc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regex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consider regular expressions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E87-AA02-41DB-BD7C-F12A92293516}" type="slidenum">
              <a:t>95</a:t>
            </a:fld>
          </a:p>
        </p:txBody>
      </p:sp>
    </p:spTree>
  </p:cSld>
  <p:transition>
    <p:cover dir="l"/>
  </p:transition>
  <p:timing>
    <p:tnLst>
      <p:par>
        <p:cTn id="3403" dur="indefinite" restart="never" nodeType="tmRoot">
          <p:childTnLst>
            <p:seq>
              <p:cTn id="3404" dur="indefinite" nodeType="mainSeq">
                <p:childTnLst>
                  <p:par>
                    <p:cTn id="3405" fill="hold">
                      <p:stCondLst>
                        <p:cond delay="indefinite"/>
                      </p:stCondLst>
                      <p:childTnLst>
                        <p:par>
                          <p:cTn id="3406" fill="hold">
                            <p:stCondLst>
                              <p:cond delay="0"/>
                            </p:stCondLst>
                            <p:childTnLst>
                              <p:par>
                                <p:cTn id="3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9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0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1" fill="hold">
                      <p:stCondLst>
                        <p:cond delay="indefinite"/>
                      </p:stCondLst>
                      <p:childTnLst>
                        <p:par>
                          <p:cTn id="3412" fill="hold">
                            <p:stCondLst>
                              <p:cond delay="0"/>
                            </p:stCondLst>
                            <p:childTnLst>
                              <p:par>
                                <p:cTn id="3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5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6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7" fill="hold">
                      <p:stCondLst>
                        <p:cond delay="indefinite"/>
                      </p:stCondLst>
                      <p:childTnLst>
                        <p:par>
                          <p:cTn id="3418" fill="hold">
                            <p:stCondLst>
                              <p:cond delay="0"/>
                            </p:stCondLst>
                            <p:childTnLst>
                              <p:par>
                                <p:cTn id="3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2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3" fill="hold">
                      <p:stCondLst>
                        <p:cond delay="indefinite"/>
                      </p:stCondLst>
                      <p:childTnLst>
                        <p:par>
                          <p:cTn id="3424" fill="hold">
                            <p:stCondLst>
                              <p:cond delay="0"/>
                            </p:stCondLst>
                            <p:childTnLst>
                              <p:par>
                                <p:cTn id="3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7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8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9" fill="hold">
                      <p:stCondLst>
                        <p:cond delay="indefinite"/>
                      </p:stCondLst>
                      <p:childTnLst>
                        <p:par>
                          <p:cTn id="3430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3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4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ng methods (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a new string from a slice of a string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String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not modifi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1 = s.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lic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start,end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first index of the slice 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nd-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last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B67-3C11-47B3-80E9-24EF8403C7EB}" type="slidenum">
              <a:t>96</a:t>
            </a:fld>
          </a:p>
        </p:txBody>
      </p:sp>
    </p:spTree>
  </p:cSld>
  <p:transition>
    <p:cover dir="l"/>
  </p:transition>
  <p:timing>
    <p:tnLst>
      <p:par>
        <p:cTn id="3437" dur="indefinite" restart="never" nodeType="tmRoot">
          <p:childTnLst>
            <p:seq>
              <p:cTn id="3438" dur="indefinite" nodeType="mainSeq">
                <p:childTnLst>
                  <p:par>
                    <p:cTn id="3439" fill="hold">
                      <p:stCondLst>
                        <p:cond delay="indefinite"/>
                      </p:stCondLst>
                      <p:childTnLst>
                        <p:par>
                          <p:cTn id="3440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3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7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8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9" fill="hold">
                      <p:stCondLst>
                        <p:cond delay="indefinite"/>
                      </p:stCondLst>
                      <p:childTnLst>
                        <p:par>
                          <p:cTn id="3450" fill="hold">
                            <p:stCondLst>
                              <p:cond delay="0"/>
                            </p:stCondLst>
                            <p:childTnLst>
                              <p:par>
                                <p:cTn id="3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3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4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ng methods (7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lit a string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to an array of strings using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elimi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ring or regular expression to specify the split po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= s.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elimiter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= s.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elimiter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maxLength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tional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axLeng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guments specifies a maximum size for the array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951-F8F3-4297-AA91-B6C9E8B63FDC}" type="slidenum">
              <a:t>97</a:t>
            </a:fld>
          </a:p>
        </p:txBody>
      </p:sp>
    </p:spTree>
  </p:cSld>
  <p:transition>
    <p:cover dir="l"/>
  </p:transition>
  <p:timing>
    <p:tnLst>
      <p:par>
        <p:cTn id="3457" dur="indefinite" restart="never" nodeType="tmRoot">
          <p:childTnLst>
            <p:seq>
              <p:cTn id="3458" dur="indefinite" nodeType="mainSeq">
                <p:childTnLst>
                  <p:par>
                    <p:cTn id="3459" fill="hold">
                      <p:stCondLst>
                        <p:cond delay="indefinite"/>
                      </p:stCondLst>
                      <p:childTnLst>
                        <p:par>
                          <p:cTn id="3460" fill="hold">
                            <p:stCondLst>
                              <p:cond delay="0"/>
                            </p:stCondLst>
                            <p:childTnLst>
                              <p:par>
                                <p:cTn id="3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4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7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1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2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3" fill="hold">
                      <p:stCondLst>
                        <p:cond delay="indefinite"/>
                      </p:stCondLst>
                      <p:childTnLst>
                        <p:par>
                          <p:cTn id="3474" fill="hold">
                            <p:stCondLst>
                              <p:cond delay="0"/>
                            </p:stCondLst>
                            <p:childTnLst>
                              <p:par>
                                <p:cTn id="3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7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8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ng methods (8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a string that is a substring of string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ub = s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ub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tart, end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ubstring begins at index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ends at index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nd - 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re is also a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st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thod which is deprec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CE8-72A9-4E9A-8423-66E04F7E0C78}" type="slidenum">
              <a:t>98</a:t>
            </a:fld>
          </a:p>
        </p:txBody>
      </p:sp>
    </p:spTree>
  </p:cSld>
  <p:transition>
    <p:cover dir="l"/>
  </p:transition>
  <p:timing>
    <p:tnLst>
      <p:par>
        <p:cTn id="3481" dur="indefinite" restart="never" nodeType="tmRoot">
          <p:childTnLst>
            <p:seq>
              <p:cTn id="3482" dur="indefinite" nodeType="mainSeq">
                <p:childTnLst>
                  <p:par>
                    <p:cTn id="3483" fill="hold">
                      <p:stCondLst>
                        <p:cond delay="indefinite"/>
                      </p:stCondLst>
                      <p:childTnLst>
                        <p:par>
                          <p:cTn id="3484" fill="hold">
                            <p:stCondLst>
                              <p:cond delay="0"/>
                            </p:stCondLst>
                            <p:childTnLst>
                              <p:par>
                                <p:cTn id="3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8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1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fill="hold">
                      <p:stCondLst>
                        <p:cond delay="indefinite"/>
                      </p:stCondLst>
                      <p:childTnLst>
                        <p:par>
                          <p:cTn id="3494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7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8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9" fill="hold">
                      <p:stCondLst>
                        <p:cond delay="indefinite"/>
                      </p:stCondLst>
                      <p:childTnLst>
                        <p:par>
                          <p:cTn id="3500" fill="hold">
                            <p:stCondLst>
                              <p:cond delay="0"/>
                            </p:stCondLst>
                            <p:childTnLst>
                              <p:par>
                                <p:cTn id="3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3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4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ng methods (9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upper or lower case versions of string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1 = s.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toLocaleLowerCa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1 = s.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toLocaleUpperCa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1 = s.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toLowerCa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1 = s.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toUpperCa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Strings are immutable so string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not modified by any of these ope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267120" y="62780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E6FC-6018-4876-A1E5-132F7C94095C}" type="slidenum">
              <a:t>99</a:t>
            </a:fld>
          </a:p>
        </p:txBody>
      </p:sp>
    </p:spTree>
  </p:cSld>
  <p:transition>
    <p:cover dir="l"/>
  </p:transition>
  <p:timing>
    <p:tnLst>
      <p:par>
        <p:cTn id="3507" dur="indefinite" restart="never" nodeType="tmRoot">
          <p:childTnLst>
            <p:seq>
              <p:cTn id="3508" dur="indefinite" nodeType="mainSeq">
                <p:childTnLst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3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7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8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2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5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9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0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1" fill="hold">
                      <p:stCondLst>
                        <p:cond delay="indefinite"/>
                      </p:stCondLst>
                      <p:childTnLst>
                        <p:par>
                          <p:cTn id="3532" fill="hold">
                            <p:stCondLst>
                              <p:cond delay="0"/>
                            </p:stCondLst>
                            <p:childTnLst>
                              <p:par>
                                <p:cTn id="3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5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3:46:46Z</dcterms:created>
  <dc:creator>Barry Adams</dc:creator>
  <dc:description/>
  <dc:language>en-US</dc:language>
  <cp:lastModifiedBy>Laurentian University </cp:lastModifiedBy>
  <cp:lastPrinted>1999-09-14T12:12:50Z</cp:lastPrinted>
  <dcterms:modified xsi:type="dcterms:W3CDTF">2004-02-18T16:38:49Z</dcterms:modified>
  <cp:revision>164</cp:revision>
  <dc:subject>Core JavaScript</dc:subject>
  <dc:title>COSC 2206, Internet To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laurentian.ca/badams/</vt:lpwstr>
  </property>
  <property fmtid="{D5CDD505-2E9C-101B-9397-08002B2CF9AE}" pid="9" name="LinkColor">
    <vt:r8>16711782</vt:r8>
  </property>
  <property fmtid="{D5CDD505-2E9C-101B-9397-08002B2CF9AE}" pid="10" name="MailAddress">
    <vt:lpwstr>barry@cs.laurentian.ca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c2956\ppt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