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7BB-416F-4C49-9A42-8511B64B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127-EB21-479F-B1E2-ECB06B6A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2C5-0D6B-4395-BB50-8839D2D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F52-B8E2-4557-BBBF-AA26BCE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0045-3F05-4C79-82ED-6BFB8117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C5ED-5BAF-47B7-8F88-9D27F1F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5D7-D219-4100-B5F6-9459823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3AAD-B942-4F18-9510-98776FD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E85-C689-4F22-94ED-0679DA5F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D52-BC45-4C42-83BF-5A8F4C3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D253-6D87-420E-B897-B7732D4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96C-601D-42BD-BE82-A330EC6E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715-0115-4AF4-A3E0-3ECF47C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AAF-F473-470D-8CB7-9FEE9D4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9BE3-6EE2-43D2-9981-90F7DB0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6D9-4D1F-48F0-913C-9A49BE62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EE44-67FE-456B-A6C9-C6BBF854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FAB-FC16-4A15-B115-D42CEB3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8CE-9485-4D71-BD4C-A1DED615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D41-DE7D-4B97-B1F8-28ED801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E0E-40D3-425D-A598-65BFBA4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C0E-B19A-4EFC-936C-43ED7A5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E73-E66A-4DD0-AB2E-707D431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7F2-A0F4-4A64-A733-7F1F27E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0E9F-D6AC-45BC-9051-ADFF653C8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4F58-27A6-49A2-B9A7-D221CDD355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xamples/simple/dialog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xamples/apps/circleCalculations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xamples/apps/dieSimulation1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examples/apps/dieSimulation2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examples/apps/crapsGame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examples/apps/barGraph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examples/windows/windows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examples/links/linkImages1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examples/links/linkImages2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examples/links/linkEvents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examples/links/popUpLinksMain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examples/slideShow/slideShow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examples/rollover/simpleRollover1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examples/rollover/simpleRollover2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xamples/dom/dom0.html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examples/rollover/rollover1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ide Scrip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3871-26AC-4727-AA6E-FDC68EAE3615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, Confirm, Prompt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k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nfi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o you want to add these two numbers?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1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rse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r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rse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num1 + num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sum of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and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second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86160" y="529308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imple/dialo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544-509A-4275-8B4D-6E506FED5F24}" type="slidenum">
              <a:t>10</a:t>
            </a:fld>
          </a:p>
        </p:txBody>
      </p:sp>
    </p:spTree>
  </p:cSld>
  <p:transition>
    <p:cover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ing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examples of div positioning and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762840" y="4226040"/>
            <a:ext cx="493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posi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B00-FBE5-4487-968B-57F1C773475D}" type="slidenum">
              <a:t>100</a:t>
            </a:fld>
          </a:p>
        </p:txBody>
      </p:sp>
    </p:spTree>
  </p:cSld>
  <p:transition>
    <p:cover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CSS and DOM to do link roll o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838800" y="3845160"/>
            <a:ext cx="493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rollove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410-92D4-499C-827C-AA1F21A8D243}" type="slidenum">
              <a:t>101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input from form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form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Form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Inpu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can refer to the form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my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put element value can be referenced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.myForm.myInput.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9DE-0E2E-4EF9-8CBF-EAE1A55501C5}" type="slidenum">
              <a:t>11</a:t>
            </a:fld>
          </a:p>
        </p:txBody>
      </p:sp>
    </p:spTree>
  </p:cSld>
  <p:transition>
    <p:cover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input from form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form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Form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Butt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utt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lickMe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getInput()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button is clicke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getInp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alled and it refers to elements in the form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myForm.element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FF4-24B4-4C2A-9C9B-CD199DC13EA0}" type="slidenum">
              <a:t>12</a:t>
            </a:fld>
          </a:p>
        </p:txBody>
      </p:sp>
    </p:spTree>
  </p:cSld>
  <p:transition>
    <p:cover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input from form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form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Form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Butt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utt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lickMe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getInput(myForm)"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button is clicked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getInp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alled. Here we use the form name as an argument. It is same as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window.docume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my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C43-26E8-4468-8751-AFF5F77A78E6}" type="slidenum">
              <a:t>13</a:t>
            </a:fld>
          </a:p>
        </p:txBody>
      </p:sp>
    </p:spTree>
  </p:cSld>
  <p:transition>
    <p:cover dir="l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Calcul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program that calculates the area and circumference of a circ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4876560" cy="2271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110-9DCF-47B2-960B-6ED584A320B3}" type="slidenum">
              <a:t>14</a:t>
            </a:fld>
          </a:p>
        </p:txBody>
      </p:sp>
    </p:spTree>
  </p:cSld>
  <p:transition>
    <p:cover dir="l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Calcul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form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myForm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adiusFiel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1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alculat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utto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o calculation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displayResults(document.myForm)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outputAreaField"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ad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rue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outputCircumferenceFiel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ad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rue"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219320"/>
            <a:ext cx="3200400" cy="685800"/>
          </a:xfrm>
          <a:prstGeom prst="wedgeEllipseCallout">
            <a:avLst>
              <a:gd name="adj1" fmla="val -74902"/>
              <a:gd name="adj2" fmla="val 370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able to line u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33A-D640-4A22-9AD9-1B6C8B1A1269}" type="slidenum">
              <a:t>15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leCalculat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rea(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 * r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ircumference(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0 *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 r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splayResults(f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rse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orm.radiusField.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.outputAreaField.value = area(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.outputCircumferenceField.valu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umference(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56480" y="5526360"/>
            <a:ext cx="694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apps/circleCalculation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BB7-A9C4-4E8F-B19B-692E16F38149}" type="slidenum">
              <a:t>16</a:t>
            </a:fld>
          </a:p>
        </p:txBody>
      </p:sp>
    </p:spTree>
  </p:cSld>
  <p:transition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JavaScript to produce a frequency table for simuating the rolling of a di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8E8-6944-429F-8050-5A3CE3C37A0C}" type="slidenum">
              <a:t>17</a:t>
            </a:fld>
          </a:p>
        </p:txBody>
      </p:sp>
    </p:spTree>
  </p:cSld>
  <p:transition>
    <p:cover dir="l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requency =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aceValue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1 to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als;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number of throws in si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ls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rse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promp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How many trials do you want?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60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Initialize frequencies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 = 0; k &lt; frequency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uency[k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11B-A0F3-49D0-84C0-6A01F1C5BF60}" type="slidenum">
              <a:t>18</a:t>
            </a:fld>
          </a:p>
        </p:txBody>
      </p:sp>
    </p:spTree>
  </p:cSld>
  <p:transition>
    <p:cover dir="l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/ Calculate frequency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oll = 1; roll &lt;= trials; roll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Value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flo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 +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rand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*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uency[faceValue - 1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CB1-596D-4D9E-9107-F276770801D8}" type="slidenum">
              <a:t>19</a:t>
            </a:fld>
          </a:p>
        </p:txBody>
      </p:sp>
    </p:spTree>
  </p:cSld>
  <p:transition>
    <p:cover dir="l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-side JavaScrip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can be used as a standalone scripting language not associated with a brow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soft allows this with JScript. It can be used with the Windows Scripting Host (WSH) as a scripting language (replacement for batch fi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erminology "client-side" refers to JavaScript and its interaction with the browser DOM (Document Object Mode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201-3F3C-454E-8F50-37C5E87ECFED}" type="slidenum">
              <a:t>2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h1&gt;Frequency table for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trials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 rolls of a die&lt;/h1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able border='1' cellpadding='5'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width='50%'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h align='left'   width='33%'&gt;Face&lt;/th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h align='left' width='33%'&gt;Frequency&lt;/th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h align='left' width='33%'&gt;Percent&lt;/th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\tt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C8B-D754-4CE2-A8BD-C2D4CDF1509B}" type="slidenum">
              <a:t>20</a:t>
            </a:fld>
          </a:p>
        </p:txBody>
      </p:sp>
    </p:spTree>
  </p:cSld>
  <p:transition>
    <p:cover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frequency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ercent = 100*(frequency[k]/trial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cent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th.rou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00*percent)/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r&gt;&lt;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(k+1) +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frequency[k]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percent +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/td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"&lt;/t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"&lt;/tabl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80520" y="514548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apps/dieSimulation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F09-5FEB-44C2-9BB7-2DD05650E5BC}" type="slidenum">
              <a:t>21</a:t>
            </a:fld>
          </a:p>
        </p:txBody>
      </p:sp>
    </p:spTree>
  </p:cSld>
  <p:transition>
    <p:cover dir="l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e frequency simulation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write a version that displays results in a separate window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esult", "resizable,menubar,width=400,height=4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09320" y="522144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apps/dieSimulation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63D-1838-464D-BCA5-4859573A4B47}" type="slidenum">
              <a:t>22</a:t>
            </a:fld>
          </a:p>
        </p:txBody>
      </p:sp>
    </p:spTree>
  </p:cSld>
  <p:transition>
    <p:cover dir="l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game of cra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ame with two 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er rolls two dice each 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onloa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ad event handler is used to initialize the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480" y="4078440"/>
            <a:ext cx="5301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apps/crapsGa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358-5AFF-4C41-B379-7C24D755B899}" type="slidenum">
              <a:t>23</a:t>
            </a:fld>
          </a:p>
        </p:txBody>
      </p:sp>
    </p:spTree>
  </p:cSld>
  <p:transition>
    <p:cover dir="l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 graph using 1 by 1 g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s how to use DOM to manipulate image height and width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62480" y="3692880"/>
            <a:ext cx="51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apps/barGraph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060-4D3D-43DC-91C9-D630804963D2}" type="slidenum">
              <a:t>24</a:t>
            </a:fld>
          </a:p>
        </p:txBody>
      </p:sp>
    </p:spTree>
  </p:cSld>
  <p:transition>
    <p:cover dir="l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ndowN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ndow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ndowFeatu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ecifies what document to displ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indow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used in the target attribute of a frame or tag to refer to the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indow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string of window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F68-91FC-4B91-828C-E585F47AAA97}" type="slidenum">
              <a:t>25</a:t>
            </a:fld>
          </a:p>
        </p:txBody>
      </p:sp>
    </p:spTree>
  </p:cSld>
  <p:transition>
    <p:cover dir="l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window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ight,wid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window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sizable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allow resizing of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enubar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to create the menu 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rollbars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use scroll b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itlebar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window has a title 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olbar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window has a tool 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atus=y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status bar at window bott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F32-3C39-4118-AEDC-F42987E7380A}" type="slidenum">
              <a:t>26</a:t>
            </a:fld>
          </a:p>
        </p:txBody>
      </p:sp>
    </p:spTree>
  </p:cSld>
  <p:transition>
    <p:cover dir="l"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popUp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output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width=200,height=200,menubar=yes,resizable=yes,toolbar=yes,scrollbars=yes,status=yes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RL is absent here because this is a window that will be written to by JavaScript using statement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pUp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3200" spc="-1" strike="noStrike">
                <a:solidFill>
                  <a:srgbClr val="cc0066"/>
                </a:solidFill>
                <a:latin typeface="Courier New"/>
              </a:rPr>
              <a:t>"..."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80880"/>
            <a:ext cx="1447920" cy="685800"/>
          </a:xfrm>
          <a:prstGeom prst="wedgeEllipseCallout">
            <a:avLst>
              <a:gd name="adj1" fmla="val -14912"/>
              <a:gd name="adj2" fmla="val 17824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pac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F49-8B56-46DA-BA43-D682E24286CB}" type="slidenum">
              <a:t>27</a:t>
            </a:fld>
          </a:p>
        </p:txBody>
      </p:sp>
    </p:spTree>
  </p:cSld>
  <p:transition>
    <p:cover dir="l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ing a link to open a new windo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#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openPopUp('popUp.html')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ck to open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#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ans no link is actually ta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enPopUp(ur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Up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url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opUp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idth=200,height=2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Up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286-0656-4F01-AEF3-08D22F41E5C0}" type="slidenum">
              <a:t>28</a:t>
            </a:fld>
          </a:p>
        </p:txBody>
      </p:sp>
    </p:spTree>
  </p:cSld>
  <p:transition>
    <p:cover dir="l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p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the page in the pop up wind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 has a button that can close the wind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p&gt;&lt;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butto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Close Window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window.close()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cente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p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91F-8D19-4EBC-9AFE-F4AE19B805F6}" type="slidenum">
              <a:t>29</a:t>
            </a:fld>
          </a:p>
        </p:txBody>
      </p:sp>
    </p:spTree>
  </p:cSld>
  <p:transition>
    <p:cover dir="l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-side JavaScrip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wser defines objects such as the top level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wind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bject and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bject that can interact with JavaScri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object hierarchy provides access to the document object model (DOM) which is being standardized by the W3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n event model that provides user interaction by associating events with JavaScript metho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8C7-D441-49DC-8051-3AFE9C199CAD}" type="slidenum">
              <a:t>3</a:t>
            </a:fld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295280"/>
            <a:ext cx="2209680" cy="2057400"/>
          </a:xfrm>
          <a:prstGeom prst="wedgeEllipseCallout">
            <a:avLst>
              <a:gd name="adj1" fmla="val 154597"/>
              <a:gd name="adj2" fmla="val -694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is the wind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th defau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alues for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ndow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2787480" cy="3200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236680" cy="2438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3520" y="3962520"/>
            <a:ext cx="2209680" cy="2057400"/>
          </a:xfrm>
          <a:prstGeom prst="wedgeEllipseCallout">
            <a:avLst>
              <a:gd name="adj1" fmla="val 117671"/>
              <a:gd name="adj2" fmla="val 1049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is the wind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th y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alues for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ndow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E46-879D-4A3B-B5C0-A53AC270FF6D}" type="slidenum">
              <a:t>30</a:t>
            </a:fld>
          </a:p>
        </p:txBody>
      </p:sp>
    </p:spTree>
  </p:cSld>
  <p:transition>
    <p:cover dir="l"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ing a link to open a new window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javascript:openPopUp('popUp.html'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open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special JavaScript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enPopUp(ur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Up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url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opUp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idth=200,height=2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Up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CB6-F22A-4BEE-A446-7FE4144B542D}" type="slidenum">
              <a:t>31</a:t>
            </a:fld>
          </a:p>
        </p:txBody>
      </p:sp>
    </p:spTree>
  </p:cSld>
  <p:transition>
    <p:cover dir="l"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ing windows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document that illustratrates window op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86160" y="3392640"/>
            <a:ext cx="548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windows/window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C7C-AA55-418F-980B-E6DC494BF61D}" type="slidenum">
              <a:t>32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back but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history object so a link can be us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#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history.go(-1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c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ly, a button can be us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utt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history.go(-1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E2-099A-4504-80A4-62CE353B7ED1}" type="slidenum">
              <a:t>33</a:t>
            </a:fld>
          </a:p>
        </p:txBody>
      </p:sp>
    </p:spTree>
  </p:cSld>
  <p:transition>
    <p:cover dir="l"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and wind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and DOM can be used to control images and windows using lin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a link to replace an image with anothe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mpler version using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ages[ 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links to trigger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op up window with links that display in the parent win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DEB-F26D-484B-BDE6-7EDA2DC42160}" type="slidenum">
              <a:t>34</a:t>
            </a:fld>
          </a:p>
        </p:txBody>
      </p:sp>
    </p:spTree>
  </p:cSld>
  <p:transition>
    <p:cover dir="l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d imag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oncli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t handler can be used to replace one image by another when the link is clic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the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mg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g a na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m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Nam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ic1.gif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mage can be replaced by modifying the src attribute using the JavaScript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myName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ic2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131-F410-4D38-826D-6EBC236A996F}" type="slidenum">
              <a:t>35</a:t>
            </a:fld>
          </a:p>
        </p:txBody>
      </p:sp>
    </p:spTree>
  </p:cSld>
  <p:transition>
    <p:cover dir="l"/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document that displays a red arrow and a blue arrow and contains links that change the arrows when a link is clic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354024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links/linkImages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BBA-D923-45B1-9440-DFE688E3C710}" type="slidenum">
              <a:t>36</a:t>
            </a:fld>
          </a:p>
        </p:txBody>
      </p:sp>
    </p:spTree>
  </p:cSld>
  <p:transition>
    <p:cover dir="l"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es should be preload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edArrow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ma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dArrow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edArrow.gif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blueArrow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ma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lueArrow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blueArrow.gif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AED-C099-4AF1-B582-8D0781C227D7}" type="slidenum">
              <a:t>37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o arrows are initially specified by 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img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m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topArrow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redArrow.gif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m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ottomArrow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lueArrow.gif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modified using links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#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hangeTopToBlue(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hange to blu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572000"/>
            <a:ext cx="2057400" cy="1066680"/>
          </a:xfrm>
          <a:prstGeom prst="wedgeEllipseCallout">
            <a:avLst>
              <a:gd name="adj1" fmla="val -218518"/>
              <a:gd name="adj2" fmla="val -2187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als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javascri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0CA-0612-4C84-8969-94E9E0AB0C1A}" type="slidenum">
              <a:t>38</a:t>
            </a:fld>
          </a:p>
        </p:txBody>
      </p:sp>
    </p:spTree>
  </p:cSld>
  <p:transition>
    <p:cover dir="l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can be uses to change the im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hangeTopToB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docu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pArrow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blueArrow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hangeTopToR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docu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pArrow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redArrow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/ similar pair of functions for bottomAr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B8B-3A0F-40AF-80F6-E317849581A4}" type="slidenum">
              <a:t>39</a:t>
            </a:fld>
          </a:p>
        </p:txBody>
      </p:sp>
    </p:spTree>
  </p:cSld>
  <p:transition>
    <p:cover dir="l"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-side JavaScript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bination of JavaScript, DOM, and CSS is often called Dynamic 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DOM a web page has a tre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9625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4952880"/>
            <a:ext cx="17528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952880"/>
            <a:ext cx="17528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71440" y="4419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419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0760" y="548640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6560" y="5486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5486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80720" y="54864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5486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54864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6160" y="6362640"/>
            <a:ext cx="53964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BC1-1ED0-45B8-BB6D-4721087299C9}" type="slidenum">
              <a:t>4</a:t>
            </a:fld>
          </a:p>
        </p:txBody>
      </p:sp>
    </p:spTree>
  </p:cSld>
  <p:transition>
    <p:cover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several images are involved it is better to use 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mages[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ray (DOM 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one function is need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hangeTo(imgName,objectN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.images[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gNam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].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ectName +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.src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5562720"/>
            <a:ext cx="2209680" cy="609480"/>
          </a:xfrm>
          <a:prstGeom prst="wedgeEllipseCallout">
            <a:avLst>
              <a:gd name="adj1" fmla="val -106106"/>
              <a:gd name="adj2" fmla="val -877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368-DEEC-46E0-B7A6-3B20082B5BD7}" type="slidenum">
              <a:t>40</a:t>
            </a:fld>
          </a:p>
        </p:txBody>
      </p:sp>
    </p:spTree>
  </p:cSld>
  <p:transition>
    <p:cover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an image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the links can be expres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a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#"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changeTo('topArrow'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'blueArrow')"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nge to blue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ngle quotes are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445464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links/linkImages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F3B-6E7D-4990-B126-E8B5B266E1AA}" type="slidenum">
              <a:t>41</a:t>
            </a:fld>
          </a:p>
        </p:txBody>
      </p:sp>
    </p:spTree>
  </p:cSld>
  <p:transition>
    <p:cover dir="l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as event trigge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nClick handler can also be used in other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firm if a link should be ta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ynamically modify the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changing a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9C5-4467-46F1-965C-392736C12AD3}" type="slidenum">
              <a:t>42</a:t>
            </a:fld>
          </a:p>
        </p:txBody>
      </p:sp>
    </p:spTree>
  </p:cSld>
  <p:transition>
    <p:cover dir="l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as event trigge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onclick handler that asks for confi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nfirmLink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onfir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Do you want to follow this lin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an be used as fol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destination.html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return confirmLink(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280-24C1-49DF-9F57-B6888CDC3B5F}" type="slidenum">
              <a:t>43</a:t>
            </a:fld>
          </a:p>
        </p:txBody>
      </p:sp>
    </p:spTree>
  </p:cSld>
  <p:transition>
    <p:cover dir="l"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as event trigger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destination.html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eturn confirmLink()"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turn is necessary here because when you write something lik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"..."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quotes delimit the body of a fictitious JavaScript wrapper function associated with the event handl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CF1-C737-4320-8461-D0AB0758AA30}" type="slidenum">
              <a:t>44</a:t>
            </a:fld>
          </a:p>
        </p:txBody>
      </p:sp>
    </p:spTree>
  </p:cSld>
  <p:transition>
    <p:cover dir="l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as event trigger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function can be used to dynamically change the document col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changeColor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bColor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omp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...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fColor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romp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...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bg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bCol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ocument.fg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fColo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03E-AEFF-44AD-AFBD-63B1ADB2EE21}" type="slidenum">
              <a:t>45</a:t>
            </a:fld>
          </a:p>
        </p:txBody>
      </p:sp>
    </p:spTree>
  </p:cSld>
  <p:transition>
    <p:cover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as event trigger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following link to change col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#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changeColor()"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ick to change colors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92880"/>
            <a:ext cx="5667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links/linkEv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692-EA34-4045-B40A-627BACC25FAE}" type="slidenum">
              <a:t>46</a:t>
            </a:fld>
          </a:p>
        </p:txBody>
      </p:sp>
    </p:spTree>
  </p:cSld>
  <p:transition>
    <p:cover dir="l"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 up links window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a pop up window with links whose documents are displayed in the main wind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UpLinks.htm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 contains th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howPage(ur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er.lo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ur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foc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5181480"/>
            <a:ext cx="2362320" cy="1143000"/>
          </a:xfrm>
          <a:prstGeom prst="wedgeEllipseCallout">
            <a:avLst>
              <a:gd name="adj1" fmla="val -80444"/>
              <a:gd name="adj2" fmla="val -8097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ever open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p up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53C-7B33-4E75-A90D-ECA131E271DA}" type="slidenum">
              <a:t>47</a:t>
            </a:fld>
          </a:p>
        </p:txBody>
      </p:sp>
    </p:spTree>
  </p:cSld>
  <p:transition>
    <p:cover dir="l"/>
  </p:transition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 up links window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inks are specifi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#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onclic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showPage('....');"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page contains the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indow.op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popUpLinks.html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link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idth=100,height=2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806040" y="5145480"/>
            <a:ext cx="6398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links/popUpLinksMai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59A-3D3F-4919-9755-89E4AC1D0C1A}" type="slidenum">
              <a:t>48</a:t>
            </a:fld>
          </a:p>
        </p:txBody>
      </p:sp>
    </p:spTree>
  </p:cSld>
  <p:transition>
    <p:cover dir="l"/>
  </p:transition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show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JavaScript to set up a slide show with navigation butt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761760" y="331164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slideShow/slideShow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4AD-9C9A-4F97-92AA-D3F1DF1E1690}" type="slidenum">
              <a:t>49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-side object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98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16765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28600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v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8954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rame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411480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7242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53341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74320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rm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3526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nchor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9625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ink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57200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mage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51814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pplet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791320"/>
            <a:ext cx="1752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mbed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80720" y="4006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3689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8954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743200"/>
            <a:ext cx="175284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lements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b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are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752480"/>
            <a:ext cx="2057400" cy="685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 0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4760" y="585072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artial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45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3DC-8013-4F66-9F50-83C93B315872}" type="slidenum">
              <a:t>5</a:t>
            </a:fld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show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part uses th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img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im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images/weblab01.jpg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"picture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inks are done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javascript:start(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javascript:nextPicture(-1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javascript:nextPicture(1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0DE-EB30-4244-9190-128B29C06CE7}" type="slidenum">
              <a:t>50</a:t>
            </a:fld>
          </a:p>
        </p:txBody>
      </p:sp>
    </p:spTree>
  </p:cSld>
  <p:transition>
    <p:cover dir="l"/>
  </p:transition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show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he image files in an arr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ic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ray(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eblab01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eblab02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eblab17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file n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= 0; k &lt; pic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k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s[k]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images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+ pics[k]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.jpg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D17-8899-4264-8BC1-7089C0447F52}" type="slidenum">
              <a:t>51</a:t>
            </a:fld>
          </a:p>
        </p:txBody>
      </p:sp>
    </p:spTree>
  </p:cSld>
  <p:transition>
    <p:cover dir="l"/>
  </p:transition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show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rrentIndex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xIndex = pics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first pi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r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Index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icture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s[currentIndex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EE5-E59C-44F2-8EF2-63AE4B1537D0}" type="slidenum">
              <a:t>52</a:t>
            </a:fld>
          </a:p>
        </p:txBody>
      </p:sp>
    </p:spTree>
  </p:cSld>
  <p:transition>
    <p:cover dir="l"/>
  </p:transition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 show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next picture using circular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extPicture(dir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 currentIndex += direc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currentIndex &gt; max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Index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se 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currentIndex &lt;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Index = maxInde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icture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s[currentIndex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0CE-CFA3-4192-9286-1F62AB7F21B8}" type="slidenum">
              <a:t>53</a:t>
            </a:fld>
          </a:p>
        </p:txBody>
      </p:sp>
    </p:spTree>
  </p:cSld>
  <p:transition>
    <p:cover dir="l"/>
  </p:transition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rollover is a pair of images which are alternated when the mouse moves over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dvanced rollovers can simulate the pushing and releasing of a button using rollover images and images for mouse down and 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BF3-A303-459C-9166-006B31492450}" type="slidenum">
              <a:t>54</a:t>
            </a:fld>
          </a:p>
        </p:txBody>
      </p:sp>
    </p:spTree>
  </p:cSld>
  <p:transition>
    <p:cover dir="l"/>
  </p:transition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row that changes color as the mouse is moved ove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done with a red arrow image and a blue arrow i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84720" y="3768840"/>
            <a:ext cx="7130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rollOver/simpleRollover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87B-2677-41AD-B701-2754585A7E37}" type="slidenum">
              <a:t>55</a:t>
            </a:fld>
          </a:p>
        </p:txBody>
      </p:sp>
    </p:spTree>
  </p:cSld>
  <p:transition>
    <p:cover dir="l"/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pre-load the im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verArrow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verArrow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redArrow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defaultArrow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Arrow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lueArrow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CA4-BC50-4A10-A2C6-C0D0A70FBC75}" type="slidenum">
              <a:t>56</a:t>
            </a:fld>
          </a:p>
        </p:txBody>
      </p:sp>
    </p:spTree>
  </p:cSld>
  <p:transition>
    <p:cover dir="l"/>
  </p:transition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to change an im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hangeTo(imgName, objectN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imgName]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ame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3F0-923D-4A10-A689-3EA4B615E86E}" type="slidenum">
              <a:t>57</a:t>
            </a:fld>
          </a:p>
        </p:txBody>
      </p:sp>
    </p:spTree>
  </p:cSld>
  <p:transition>
    <p:cover dir="l"/>
  </p:transition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ML to do the rollo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newPage.html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mouseov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hangeTo('arrow'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overArrow)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mouseo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hangeTo('arrow'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defaultArrow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m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arr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lueArrow.gif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ord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4876920"/>
            <a:ext cx="5562720" cy="1218960"/>
          </a:xfrm>
          <a:prstGeom prst="wedgeEllipseCallout">
            <a:avLst>
              <a:gd name="adj1" fmla="val -18495"/>
              <a:gd name="adj2" fmla="val -722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latest browsers allow events inside im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g so there is no need to wrap 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side 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5B7-8964-4BB6-AE4C-1AA1DD0212FC}" type="slidenum">
              <a:t>58</a:t>
            </a:fld>
          </a:p>
        </p:txBody>
      </p:sp>
    </p:spTree>
  </p:cSld>
  <p:transition>
    <p:cover dir="l"/>
  </p:transition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lover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the latest browsers the link is not need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im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arr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blueArrow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ord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nclick=</a:t>
            </a:r>
            <a:br>
              <a:rPr sz="2400"/>
            </a:b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window.location='newPage.html'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mouseov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hangeTo('arrow',overArrow)"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nmouseo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changeTo('arrow',defaultArrow)"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792720" y="5602680"/>
            <a:ext cx="7130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rollover/simpleRollover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934-E458-4798-B202-65E8500A1BF2}" type="slidenum">
              <a:t>59</a:t>
            </a:fld>
          </a:p>
        </p:txBody>
      </p:sp>
    </p:spTree>
  </p:cSld>
  <p:transition>
    <p:cover dir="l"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0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example shows how to examine the DOM 0 properties of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63200" y="3164040"/>
            <a:ext cx="4204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dom/dom0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714-608A-4EDF-86B0-3FC7818C9E5C}" type="slidenum">
              <a:t>6</a:t>
            </a:fld>
          </a:p>
        </p:txBody>
      </p:sp>
    </p:spTree>
  </p:cSld>
  <p:transition>
    <p:cover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rollover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52520" y="221328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examples/rollOver/rollover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52520" y="305136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rollOver/rollover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52520" y="38894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rollOver/rollover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59000" y="472788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rollOver/rollover4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3FE-306B-4893-8339-D6D32831991D}" type="slidenum">
              <a:t>60</a:t>
            </a:fld>
          </a:p>
        </p:txBody>
      </p:sp>
    </p:spTree>
  </p:cSld>
  <p:transition>
    <p:cover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multiple choice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685880" y="186876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rames/quizFrame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86600" y="2706840"/>
            <a:ext cx="493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rames/page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7240" y="3545280"/>
            <a:ext cx="493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rames/page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438336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rames/statist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86240" y="5221440"/>
            <a:ext cx="548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rames/statistics.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2E6-C709-4E48-A79D-22D014098F38}" type="slidenum">
              <a:t>61</a:t>
            </a:fld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Vali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can be used to verify a form before the form data is sent to the server-side script for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reduces the number of connections to the server in case of incorrect or missing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security reasons form verification should also be done on the server-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01D-2BAA-4B6F-A7F8-8F411379BAF3}" type="slidenum">
              <a:t>62</a:t>
            </a:fld>
          </a:p>
        </p:txBody>
      </p:sp>
    </p:spTree>
  </p:cSld>
  <p:transition>
    <p:cover dir="l"/>
  </p:transition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validation examp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form containing a first name and a last name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using JavaScript that a first name and a last name were en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066680" y="3619440"/>
            <a:ext cx="3657600" cy="1690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791320" y="3657600"/>
            <a:ext cx="2895480" cy="1752480"/>
          </a:xfrm>
          <a:prstGeom prst="wedgeEllipseCallout">
            <a:avLst>
              <a:gd name="adj1" fmla="val -141666"/>
              <a:gd name="adj2" fmla="val 135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ubmit butt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licked a JavaSc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will be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874-95A3-45D7-B4B3-95CB30BD26D3}" type="slidenum">
              <a:t>63</a:t>
            </a:fld>
          </a:p>
        </p:txBody>
      </p:sp>
    </p:spTree>
  </p:cSld>
  <p:transition>
    <p:cover dir="l"/>
  </p:transition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validation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form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Form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/cgi-bin/formPost.p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os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subm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turn checkForm(theForm.firs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theForm.last)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Name: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firs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 Name: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las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&lt;br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p&gt;&lt;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bmi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bmi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se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se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5334120"/>
            <a:ext cx="3733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m will be submitted only if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checkFor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urn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303-8805-4386-9AA8-6C3A54E9A6FF}" type="slidenum">
              <a:t>64</a:t>
            </a:fld>
          </a:p>
        </p:txBody>
      </p:sp>
    </p:spTree>
  </p:cSld>
  <p:transition>
    <p:cover dir="l"/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validation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heckForm(first, l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rror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first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 +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You must enter a first 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ast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 +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\nYou must enter a last nam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error =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nfir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No errors found, ..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e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 following errors were found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8C3-531B-46F9-B8ED-0FE0C11AA4F2}" type="slidenum">
              <a:t>65</a:t>
            </a:fld>
          </a:p>
        </p:txBody>
      </p:sp>
    </p:spTree>
  </p:cSld>
  <p:transition>
    <p:cover dir="l"/>
  </p:transition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 validation exampl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vers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2478240"/>
            <a:ext cx="6032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formValidat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1400" y="4459680"/>
            <a:ext cx="658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localhost/formValidate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8AF-1E79-4EEF-A606-1DA2FBBFC404}" type="slidenum">
              <a:t>66</a:t>
            </a:fld>
          </a:p>
        </p:txBody>
      </p:sp>
    </p:spTree>
  </p:cSld>
  <p:transition>
    <p:cover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form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Form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/cgi-bin/formPost.pl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etho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pos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nsubmi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turn checkForm(theForm.email)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ail: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e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firs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bmi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submi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inp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se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reset"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5105520"/>
            <a:ext cx="3733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m will be submitted only if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checkForm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return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111-AABB-4634-8A6D-C35856770704}" type="slidenum">
              <a:t>67</a:t>
            </a:fld>
          </a:p>
        </p:txBody>
      </p:sp>
    </p:spTree>
  </p:cSld>
  <p:transition>
    <p:cover dir="l"/>
  </p:transition>
  <p:timing>
    <p:tnLst>
      <p:par>
        <p:cTn id="2342" dur="indefinite" restart="never" nodeType="tmRoot">
          <p:childTnLst>
            <p:seq>
              <p:cTn id="2343" dur="indefinite" nodeType="mainSeq">
                <p:childTnLst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heckForm(emai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 isValidEmailAddress(email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e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Email address is invali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ail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oc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ail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3200400"/>
            <a:ext cx="2667240" cy="457200"/>
          </a:xfrm>
          <a:prstGeom prst="wedgeEllipseCallout">
            <a:avLst>
              <a:gd name="adj1" fmla="val -110537"/>
              <a:gd name="adj2" fmla="val -232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 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2720" y="4038480"/>
            <a:ext cx="2666880" cy="457200"/>
          </a:xfrm>
          <a:prstGeom prst="wedgeEllipseCallout">
            <a:avLst>
              <a:gd name="adj1" fmla="val -104819"/>
              <a:gd name="adj2" fmla="val -11111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6840" y="560268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emailValidat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1219320"/>
            <a:ext cx="2590920" cy="990360"/>
          </a:xfrm>
          <a:prstGeom prst="wedgeEllipseCallout">
            <a:avLst>
              <a:gd name="adj1" fmla="val -103490"/>
              <a:gd name="adj2" fmla="val 2852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om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89F-2BB6-45ED-A1EB-3C0DA40BF892}" type="slidenum">
              <a:t>68</a:t>
            </a:fld>
          </a:p>
        </p:txBody>
      </p:sp>
    </p:spTree>
  </p:cSld>
  <p:transition>
    <p:cover dir="l"/>
  </p:transition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ValidEmailAddress(email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for empty address or invalid char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emailAddress == "" ||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InvalidChar(emailAddress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48A-C893-40B1-89BC-2500EC8A965C}" type="slidenum">
              <a:t>69</a:t>
            </a:fld>
          </a:p>
        </p:txBody>
      </p:sp>
    </p:spTree>
  </p:cSld>
  <p:transition>
    <p:cover dir="l"/>
  </p:transition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, Confirm, Prompt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user using dialog bo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window.aler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msg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a message in a dialog box that is dismissed by clicking O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window.confirm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msg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a message (question and asks for confirmation (OK and Cancel buttons). Returns true if user clicks OK, else return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25A-3A09-43A5-9E50-F8F05E9FE2C8}" type="slidenum">
              <a:t>7</a:t>
            </a:fld>
          </a:p>
        </p:txBody>
      </p:sp>
    </p:spTree>
  </p:cSld>
  <p:transition>
    <p:cover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for @ character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Pos = emailAddres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@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tPos ==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8EB-A441-4526-BDA8-86FF07A10C58}" type="slidenum">
              <a:t>70</a:t>
            </a:fld>
          </a:p>
        </p:txBody>
      </p:sp>
    </p:spTree>
  </p:cSld>
  <p:transition>
    <p:cover dir="l"/>
  </p:transition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for @ character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Pos = emailAddres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@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tPos ==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757-3744-40EA-B568-5E259503DD02}" type="slidenum">
              <a:t>71</a:t>
            </a:fld>
          </a:p>
        </p:txBody>
      </p:sp>
    </p:spTree>
  </p:cSld>
  <p:transition>
    <p:cover dir="l"/>
  </p:transition>
  <p:timing>
    <p:tnLst>
      <p:par>
        <p:cTn id="2604" dur="indefinite" restart="never" nodeType="tmRoot">
          <p:childTnLst>
            <p:seq>
              <p:cTn id="2605" dur="indefinite" nodeType="mainSeq">
                <p:childTnLst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that there are no more @ chars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emailAddres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@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tPos + 1) &gt;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353-2075-45D5-969C-B4330F5EB931}" type="slidenum">
              <a:t>72</a:t>
            </a:fld>
          </a:p>
        </p:txBody>
      </p:sp>
    </p:spTree>
  </p:cSld>
  <p:transition>
    <p:cover dir="l"/>
  </p:transition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for a dot somewhere after @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tPos = emailAddress.indexOf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Pos +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otPos ==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A4A-8E4E-441D-BB4D-3FCB73550623}" type="slidenum">
              <a:t>73</a:t>
            </a:fld>
          </a:p>
        </p:txBody>
      </p:sp>
    </p:spTree>
  </p:cSld>
  <p:transition>
    <p:cover dir="l"/>
  </p:transition>
  <p:timing>
    <p:tnLst>
      <p:par>
        <p:cTn id="2680" dur="indefinite" restart="never" nodeType="tmRoot">
          <p:childTnLst>
            <p:seq>
              <p:cTn id="2681" dur="indefinite" nodeType="mainSeq">
                <p:childTnLst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1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6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7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8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* Check for two or more characters af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the last dot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DotPos =emailAddress.lastIndexOf("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astDotPos + 3 &gt; emailAddress.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C0B-A3A0-485C-A761-8B67D665286B}" type="slidenum">
              <a:t>74</a:t>
            </a:fld>
          </a:p>
        </p:txBody>
      </p:sp>
    </p:spTree>
  </p:cSld>
  <p:transition>
    <p:cover dir="l"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ail validation example (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InvalidChar(email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validChars =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/;:,"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200"/>
                </a:solidFill>
                <a:latin typeface="Courier New"/>
              </a:rPr>
              <a:t>// not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invalidCha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 = invalidChar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har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mailAddress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dex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) &gt; 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FD4-9AD5-44B0-9255-7E7C69E9846B}" type="slidenum">
              <a:t>75</a:t>
            </a:fld>
          </a:p>
        </p:txBody>
      </p:sp>
    </p:spTree>
  </p:cSld>
  <p:transition>
    <p:cover dir="l"/>
  </p:transition>
  <p:timing>
    <p:tnLst>
      <p:par>
        <p:cTn id="2784" dur="indefinite" restart="never" nodeType="tmRoot">
          <p:childTnLst>
            <p:seq>
              <p:cTn id="2785" dur="indefinite" nodeType="mainSeq">
                <p:childTnLst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ular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gular expression is a pattern that describes a class of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s are used to test if a target string contains a match for the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also used to replace one or all occurrences of the pattern with a sub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terns are described by a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simplest case a pattern is just a fixed string such as the word "hello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274-32B5-4CAF-B695-7C21A4375B73}" type="slidenum">
              <a:t>76</a:t>
            </a:fld>
          </a:p>
        </p:txBody>
      </p:sp>
    </p:spTree>
  </p:cSld>
  <p:transition>
    <p:cover dir="l"/>
  </p:transition>
  <p:timing>
    <p:tnLst>
      <p:par>
        <p:cTn id="2860" dur="indefinite" restart="never" nodeType="tmRoot">
          <p:childTnLst>
            <p:seq>
              <p:cTn id="2861" dur="indefinite" nodeType="mainSeq">
                <p:childTnLst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matching char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cape charac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^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 beginning of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 end of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or more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r more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or one time (option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character except new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F81-98DC-44D3-9B16-65AB96A73C4F}" type="slidenum">
              <a:t>77</a:t>
            </a:fld>
          </a:p>
        </p:txBody>
      </p:sp>
    </p:spTree>
  </p:cSld>
  <p:transition>
    <p:cover dir="l"/>
  </p:transition>
  <p:timing>
    <p:tnLst>
      <p:par>
        <p:cTn id="2894" dur="indefinite" restart="never" nodeType="tmRoot">
          <p:childTnLst>
            <p:seq>
              <p:cTn id="2895" dur="indefinite" nodeType="mainSeq">
                <p:childTnLst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matching cha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 bou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B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word bound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digit 0 to 9(same as [0-9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non-dig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f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riage re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single whitespace charac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0C8-68D4-4A26-8BEB-5CA563034A00}" type="slidenum">
              <a:t>78</a:t>
            </a:fld>
          </a:p>
        </p:txBody>
      </p:sp>
    </p:spTree>
  </p:cSld>
  <p:transition>
    <p:cover dir="l"/>
  </p:transition>
  <p:timing>
    <p:tnLst>
      <p:par>
        <p:cTn id="2940" dur="indefinite" restart="never" nodeType="tmRoot">
          <p:childTnLst>
            <p:seq>
              <p:cTn id="2941" dur="indefinite" nodeType="mainSeq">
                <p:childTnLst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6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0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matching char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single non-whitespace ch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t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tical 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letter,number,unders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non-letter,-number,-unders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[abcd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characters insid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[^abc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char other than ones inside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 [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[a-e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char in specified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9BB-014E-4FC4-BD48-3A6B0DB6AFD6}" type="slidenum">
              <a:t>79</a:t>
            </a:fld>
          </a:p>
        </p:txBody>
      </p:sp>
    </p:spTree>
  </p:cSld>
  <p:transition>
    <p:cover dir="l"/>
  </p:transition>
  <p:timing>
    <p:tnLst>
      <p:par>
        <p:cTn id="2992" dur="indefinite" restart="never" nodeType="tmRoot">
          <p:childTnLst>
            <p:seq>
              <p:cTn id="2993" dur="indefinite" nodeType="mainSeq">
                <p:childTnLst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, Confirm, Prompt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r =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window.promp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msg,default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s a message and a text box. The user enters some input into the text box and clicks OK, Clear, or Cancel butt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ing entered by the user is the return value. If no input is entered an empty string is retur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ancel button is clicke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retu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4DF-5903-407F-95C4-84E29B5C9491}" type="slidenum">
              <a:t>8</a:t>
            </a:fld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 matching char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{n}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ccurrences of previous ch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{,n}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least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ccurre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{n,m}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ccur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ed grou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x|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on: either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[a-e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char in specified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3E6-B4A7-4CBC-8042-C6EFBC329178}" type="slidenum">
              <a:t>80</a:t>
            </a:fld>
          </a:p>
        </p:txBody>
      </p:sp>
    </p:spTree>
  </p:cSld>
  <p:transition>
    <p:cover dir="l"/>
  </p:transition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indefinite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8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4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1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l regular expressions patterns are delimited by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aracters as in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tch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ywhere in a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^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tches help only at the beginning of a 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^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es the string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b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tches help only as a complete wo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822-BDBB-4ADE-BF2D-CEC8A5588F56}" type="slidenum">
              <a:t>81</a:t>
            </a:fld>
          </a:p>
        </p:txBody>
      </p:sp>
    </p:spTree>
  </p:cSld>
  <p:transition>
    <p:cover dir="l"/>
  </p:transition>
  <p:timing>
    <p:tnLst>
      <p:par>
        <p:cTn id="3084" dur="indefinite" restart="never" nodeType="tmRoot">
          <p:childTnLst>
            <p:seq>
              <p:cTn id="3085" dur="indefinite" nodeType="mainSeq">
                <p:childTnLst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atch file names ending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ten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\S+\.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pg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4267080"/>
            <a:ext cx="1600200" cy="914400"/>
          </a:xfrm>
          <a:prstGeom prst="wedgeRectCallout">
            <a:avLst>
              <a:gd name="adj1" fmla="val -8430"/>
              <a:gd name="adj2" fmla="val -2109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or m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whitesp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419720"/>
            <a:ext cx="1218960" cy="685800"/>
          </a:xfrm>
          <a:prstGeom prst="wedgeRectCallout">
            <a:avLst>
              <a:gd name="adj1" fmla="val -118490"/>
              <a:gd name="adj2" fmla="val -26805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d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3505320"/>
            <a:ext cx="2590920" cy="914400"/>
          </a:xfrm>
          <a:prstGeom prst="wedgeRectCallout">
            <a:avLst>
              <a:gd name="adj1" fmla="val -106064"/>
              <a:gd name="adj2" fmla="val -11284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638680"/>
            <a:ext cx="3200400" cy="609840"/>
          </a:xfrm>
          <a:prstGeom prst="wedgeRectCallout">
            <a:avLst>
              <a:gd name="adj1" fmla="val -52976"/>
              <a:gd name="adj2" fmla="val -11484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allows chars that are n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rmally allowed in file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488-C6BF-4441-9F43-0F88991E1566}" type="slidenum">
              <a:t>82</a:t>
            </a:fld>
          </a:p>
        </p:txBody>
      </p:sp>
    </p:spTree>
  </p:cSld>
  <p:transition>
    <p:cover dir="l"/>
  </p:transition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2" fill="hold">
                      <p:stCondLst>
                        <p:cond delay="indefinite"/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atch file names ending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ten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\w+\.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pg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1371600" y="4267080"/>
            <a:ext cx="1600200" cy="914400"/>
          </a:xfrm>
          <a:prstGeom prst="wedgeRectCallout">
            <a:avLst>
              <a:gd name="adj1" fmla="val -8430"/>
              <a:gd name="adj2" fmla="val -2109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or m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419720"/>
            <a:ext cx="1218960" cy="685800"/>
          </a:xfrm>
          <a:prstGeom prst="wedgeRectCallout">
            <a:avLst>
              <a:gd name="adj1" fmla="val -118490"/>
              <a:gd name="adj2" fmla="val -26805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do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3505320"/>
            <a:ext cx="2590920" cy="914400"/>
          </a:xfrm>
          <a:prstGeom prst="wedgeRectCallout">
            <a:avLst>
              <a:gd name="adj1" fmla="val -106064"/>
              <a:gd name="adj2" fmla="val -11284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if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638680"/>
            <a:ext cx="3200400" cy="609840"/>
          </a:xfrm>
          <a:prstGeom prst="wedgeRectCallout">
            <a:avLst>
              <a:gd name="adj1" fmla="val -52976"/>
              <a:gd name="adj2" fmla="val -11484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w the only characters allow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e letters, digits, under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476-68B4-4CAC-A158-5E7D427187EF}" type="slidenum">
              <a:t>83</a:t>
            </a:fld>
          </a:p>
        </p:txBody>
      </p:sp>
    </p:spTree>
  </p:cSld>
  <p:transition>
    <p:cover dir="l"/>
  </p:transition>
  <p:timing>
    <p:tnLst>
      <p:par>
        <p:cTn id="3156" dur="indefinite" restart="never" nodeType="tmRoot">
          <p:childTnLst>
            <p:seq>
              <p:cTn id="3157" dur="indefinite" nodeType="mainSeq">
                <p:childTnLst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8" fill="hold">
                      <p:stCondLst>
                        <p:cond delay="indefinite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/ Case insensi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tch all occurrences of a pattern in a string use the global modifier (useful for replacing all occurrences of a patter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 case insensitive matches use the insensitvie mod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 both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16F-59EB-42AF-8091-AE8FEF9DCF9A}" type="slidenum">
              <a:t>84</a:t>
            </a:fld>
          </a:p>
        </p:txBody>
      </p:sp>
    </p:spTree>
  </p:cSld>
  <p:transition>
    <p:cover dir="l"/>
  </p:transition>
  <p:timing>
    <p:tnLst>
      <p:par>
        <p:cTn id="3194" dur="indefinite" restart="never" nodeType="tmRoot">
          <p:childTnLst>
            <p:seq>
              <p:cTn id="3195" dur="indefinite" nodeType="mainSeq">
                <p:childTnLst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5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1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reg exp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litera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gEx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e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ttern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tribu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^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e =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RegEx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attern, attribut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gEx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^hello$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gi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B74-8F0C-4470-AB35-524BB60DC9F6}" type="slidenum">
              <a:t>85</a:t>
            </a:fld>
          </a:p>
        </p:txBody>
      </p:sp>
    </p:spTree>
  </p:cSld>
  <p:transition>
    <p:cover dir="l"/>
  </p:transition>
  <p:timing>
    <p:tnLst>
      <p:par>
        <p:cTn id="3228" dur="indefinite" restart="never" nodeType="tmRoot">
          <p:childTnLst>
            <p:seq>
              <p:cTn id="3229" dur="indefinite" nodeType="mainSeq">
                <p:childTnLst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for a patt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regex is a regular expression object and s is a string to search then we can test if the pattern is present in s using the if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regex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tes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200"/>
                </a:solidFill>
                <a:latin typeface="Courier New"/>
              </a:rPr>
              <a:t>// pattern was f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BE2-E984-4FC7-B242-60519E20DFEF}" type="slidenum">
              <a:t>86</a:t>
            </a:fld>
          </a:p>
        </p:txBody>
      </p:sp>
    </p:spTree>
  </p:cSld>
  <p:transition>
    <p:cover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acing a patt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g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egular expression object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string to search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string to use to replace occurrences of the pattern then the replacement can be done u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s1 = s.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plac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regex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place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6D5-5924-4BCA-8284-ADAD491F6763}" type="slidenum">
              <a:t>87</a:t>
            </a:fld>
          </a:p>
        </p:txBody>
      </p:sp>
    </p:spTree>
  </p:cSld>
  <p:transition>
    <p:cover dir="l"/>
  </p:transition>
  <p:timing>
    <p:tnLst>
      <p:par>
        <p:cTn id="3270" dur="indefinite" restart="never" nodeType="tmRoot">
          <p:childTnLst>
            <p:seq>
              <p:cTn id="3271" dur="indefinite" nodeType="mainSeq">
                <p:childTnLst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6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a regular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html document can be used to test your regular expres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305920" cy="2355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57200" y="5450040"/>
            <a:ext cx="5667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testRegExp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FC9-20B5-4565-9BED-DF1A4B9A56F9}" type="slidenum">
              <a:t>88</a:t>
            </a:fld>
          </a:p>
        </p:txBody>
      </p:sp>
    </p:spTree>
  </p:cSld>
  <p:transition>
    <p:cover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and repl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is a more general te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077320" cy="3292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56840" y="5602680"/>
            <a:ext cx="621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replaceRegExp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6BD-F69B-4BBC-AEB4-BEBBFC2D94A0}" type="slidenum">
              <a:t>89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, Confirm, Prompt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e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is program can add two numbers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You will be asked to enter two numbers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Then you will be asked if you want to add them\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rst, second, num1, num2,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umber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promp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Enter 1st integer to ad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You entered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fir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ndow.promp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Enter 2nd integer to ad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cument.wri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&lt;br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cc00cc"/>
                </a:solidFill>
                <a:latin typeface="Courier New"/>
              </a:rPr>
              <a:t>"You entered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E20-4B85-48FC-8094-4C8B2C0C80BE}" type="slidenum">
              <a:t>9</a:t>
            </a:fld>
          </a:p>
        </p:txBody>
      </p:sp>
    </p:spTree>
  </p:cSld>
  <p:transition>
    <p:cover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idating email addres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^\w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r more word ch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[\.-]?\w+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or more ocur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.word or -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iteral @ symb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\w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[\.-]?\w+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b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\.\w{2,3})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s with 2 or 3 ch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33E-EA35-4A17-A72A-79EA7CBEB62A}" type="slidenum">
              <a:t>90</a:t>
            </a:fld>
          </a:p>
        </p:txBody>
      </p:sp>
    </p:spTree>
  </p:cSld>
  <p:transition>
    <p:cover dir="l"/>
  </p:transition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idating email addres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form validation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010280" cy="28116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760680" y="53690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emailValidateRegExp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5F1-F8D8-40DC-A0ED-7CCE41834B72}" type="slidenum">
              <a:t>91</a:t>
            </a:fld>
          </a:p>
        </p:txBody>
      </p:sp>
    </p:spTree>
  </p:cSld>
  <p:transition>
    <p:cover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e number validat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you want to accept phone numbers only from area codes 705, 911, or 416 using hypens as sepa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regular expression can be use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911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16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\d\d\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\d\d\d\d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CE1-4CFC-41BB-855A-6B2604DC9652}" type="slidenum">
              <a:t>92</a:t>
            </a:fld>
          </a:p>
        </p:txBody>
      </p:sp>
    </p:spTree>
  </p:cSld>
  <p:transition>
    <p:cover dir="l"/>
  </p:transition>
  <p:timing>
    <p:tnLst>
      <p:par>
        <p:cTn id="3342" dur="indefinite" restart="never" nodeType="tmRoot">
          <p:childTnLst>
            <p:seq>
              <p:cTn id="3343" dur="indefinite" nodeType="mainSeq">
                <p:childTnLst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fill="hold">
                      <p:stCondLst>
                        <p:cond delay="indefinite"/>
                      </p:stCondLst>
                      <p:childTnLst>
                        <p:par>
                          <p:cTn id="3351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e number valid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760680" y="484056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validatePhoneNumbe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572000" cy="16063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0C0-1E1D-44F7-BA63-8E1D634CCF9E}" type="slidenum">
              <a:t>93</a:t>
            </a:fld>
          </a:p>
        </p:txBody>
      </p:sp>
    </p:spTree>
  </p:cSld>
  <p:transition>
    <p:cover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e number valida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836640" y="4840560"/>
            <a:ext cx="749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forms/validatePhoneNumber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4343400" cy="1566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09F-67D5-4137-A6C2-06B0F767CDDB}" type="slidenum">
              <a:t>94</a:t>
            </a:fld>
          </a:p>
        </p:txBody>
      </p:sp>
    </p:spTree>
  </p:cSld>
  <p:transition>
    <p:cover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getElementById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can be used to access any ele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di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Titl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ther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div&gt;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accessed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v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.getElementBy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myTitl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1A6-5DCD-4325-87F5-9BC1F1CB4584}" type="slidenum">
              <a:t>95</a:t>
            </a:fld>
          </a:p>
        </p:txBody>
      </p:sp>
    </p:spTree>
  </p:cSld>
  <p:transition>
    <p:cover dir="l"/>
  </p:transition>
  <p:timing>
    <p:tnLst>
      <p:par>
        <p:cTn id="3358" dur="indefinite" restart="never" nodeType="tmRoot">
          <p:childTnLst>
            <p:seq>
              <p:cTn id="3359" dur="indefinite" nodeType="mainSeq">
                <p:childTnLst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CSS property has a corresponding property in the 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hange the color of an element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yle.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yellow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hange the background color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.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tyle.background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838440" y="5140440"/>
            <a:ext cx="548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colorChang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52280" y="6362640"/>
            <a:ext cx="5400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48A-256C-4BC5-9B38-227F873363C7}" type="slidenum">
              <a:t>96</a:t>
            </a:fld>
          </a:p>
        </p:txBody>
      </p:sp>
    </p:spTree>
  </p:cSld>
  <p:transition>
    <p:cover dir="l"/>
  </p:transition>
  <p:timing>
    <p:tnLst>
      <p:par>
        <p:cTn id="3374" dur="indefinite" restart="never" nodeType="tmRoot">
          <p:childTnLst>
            <p:seq>
              <p:cTn id="3375" dur="indefinite" nodeType="mainSeq">
                <p:childTnLst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ing the CSS display property to toggle visibility of blocks of t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splay property can be block or 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: Do a similar example with two levels of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1295640" y="3387960"/>
            <a:ext cx="5301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toggleTex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E37-2A9D-471A-9FD4-5D5E929692B4}" type="slidenum">
              <a:t>97</a:t>
            </a:fld>
          </a:p>
        </p:txBody>
      </p:sp>
    </p:spTree>
  </p:cSld>
  <p:transition>
    <p:cover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down menus using the CSS visibility property which can have the values visible or hidden. This is the way to implement layers using the DOM method getElementBy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er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.getElementBy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ayeri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er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yle.visibili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"hidd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835200" y="5216760"/>
            <a:ext cx="585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dropDownMenu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852-2E8A-4F0C-846A-994F5F3989C6}" type="slidenum">
              <a:t>98</a:t>
            </a:fld>
          </a:p>
        </p:txBody>
      </p:sp>
    </p:spTree>
  </p:cSld>
  <p:transition>
    <p:cover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DOM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layers using div and z-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er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ocument.getElementBy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ayeri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er.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yle.z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839160" y="4911840"/>
            <a:ext cx="456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dom/layer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196-4DDE-43AB-86E7-6A1EC93115CB}" type="slidenum">
              <a:t>9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46:46Z</dcterms:created>
  <dc:creator>Barry Adams</dc:creator>
  <dc:description/>
  <dc:language>en-US</dc:language>
  <cp:lastModifiedBy>Laurentian University </cp:lastModifiedBy>
  <cp:lastPrinted>2002-01-15T20:04:41Z</cp:lastPrinted>
  <dcterms:modified xsi:type="dcterms:W3CDTF">2004-02-18T17:33:00Z</dcterms:modified>
  <cp:revision>147</cp:revision>
  <dc:subject>Client Side JavaScript</dc:subject>
  <dc:title>COSC 2206,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295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