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985-F3FE-41AB-A573-0137BD80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265-DA9A-48D8-B554-06FB099B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CA8-C84C-4746-BA13-EB9E4734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D52-1622-4722-BA3F-75812C4F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21F3-446D-4224-A946-A6D9C934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BDC5-1CAB-4B7D-AA2B-E57732C3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E407-42F0-4DBF-986B-EAB5B4F0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66AB-7924-4649-A563-4075C0DE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BA3C-BB65-4490-A98E-91DB6996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D03A-6BBD-4993-B607-51D6A270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F72D-2527-4E6F-A758-B9488E8E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08B-774F-45D0-A685-E8C153D3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39CB-B74F-4792-90F3-35BF42ED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386F-279F-4A1F-9513-5F07173F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2E17-1E2C-49C7-864E-FFB3CB0C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14DD-9D19-41C2-9200-8DBD77D4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37124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858120"/>
            <a:ext cx="27849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A877-943E-4013-A46F-4320FDAC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713-9442-4F20-9A9E-3E01F582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70A-93E4-4F7A-A824-4320426C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3B2-BE9B-4B45-9707-3DFD5B9F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CFF-EBA6-4BCC-A1DC-6A2F71FE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C88-08CF-48AA-B9B6-526EECE6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85812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73A4-2EC3-424E-8752-58C14603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371240"/>
            <a:ext cx="42210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58120"/>
            <a:ext cx="86500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17E-4F0A-41D7-BA28-07C793BE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08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75E1-F849-46DB-B3B5-BE71E5C8630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AD64-97B9-461E-99F5-270525B762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990720"/>
            <a:ext cx="9009000" cy="1052280"/>
            <a:chOff x="0" y="9907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098360"/>
              <a:ext cx="711360" cy="474480"/>
              <a:chOff x="290520" y="10983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0983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0983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520640"/>
              <a:ext cx="737640" cy="474480"/>
              <a:chOff x="414360" y="15206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5206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5206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4475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9907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8118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C4FA-B8F4-4BBB-8421-805F60289309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7441-C142-4B78-ACF8-E099B29D27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3schools.com/sql/" TargetMode="External"/><Relationship Id="rId2" Type="http://schemas.openxmlformats.org/officeDocument/2006/relationships/hyperlink" Target="http://www.sqlzoo.net/" TargetMode="External"/><Relationship Id="rId3" Type="http://schemas.openxmlformats.org/officeDocument/2006/relationships/hyperlink" Target="http://sqlcourse.com/" TargetMode="External"/><Relationship Id="rId4" Type="http://schemas.openxmlformats.org/officeDocument/2006/relationships/hyperlink" Target="http://sqlcourse2/com" TargetMode="External"/><Relationship Id="rId5" Type="http://schemas.openxmlformats.org/officeDocument/2006/relationships/hyperlink" Target="http://dev.mysql.com/doc/mysql/en/Reference.html" TargetMode="External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C 2206 Internet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SQL Databas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ation 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QL 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tering command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all the data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W DATABAS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114560" y="2662200"/>
            <a:ext cx="507024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ql&gt; SHOW DATABASE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Database   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bookstore  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employee_db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mysql      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student_db 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test       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web_db     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--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37A-39D0-45D0-9948-3C2A5E6430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FA04E-3DB7-4021-BDA8-C073C6ECA19C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tering command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ing a database and showing its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SE test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W tabl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2952720"/>
            <a:ext cx="5070600" cy="325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sql&gt; USE tes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base change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sql&gt; SHOW tables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----------------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Tables_in_test |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----------------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books          |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name2          |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names          |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test           |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----------------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 rows in set (0.00 se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sq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227-D21B-47B3-B1E0-D6FCD85DA0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1366E-286C-4802-89AC-BD0A64D75813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tering command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the structure of a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SCRIBE nam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70000" y="2711520"/>
            <a:ext cx="8642160" cy="277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sql&gt; DESCRIBE names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-----------+-------------+------+-----+---------+----------------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Field     | Type        | Null | Key | Default | Extra          |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-----------+-------------+------+-----+---------+----------------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id        | int(11)     |      | PRI | NULL    | auto_increment |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firstName | varchar(20) |      |     |         |                |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lastName  | varchar(20) |      |     |         |                |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-----------+-------------+------+-----+---------+----------------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 rows in set (0.00 sec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sq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803-C61E-4288-B423-4978EED9B0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317FC-C134-4503-9028-E27A280C4C05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tering command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the rows of a table (all colum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* FROM nam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808200" y="2660760"/>
            <a:ext cx="687528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ql&gt; SELECT * FROM name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+-----------+--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id | firstName | lastName  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+-----------+--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1 | Fred      | Flintstone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2 | Barney    | Rubble    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+-----------+--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rows in set (0.00 sec)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q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90F-2778-4C5C-9AD9-4C7C0EC79F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BC539-5156-49A4-9352-5D8B5E4308A4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tering commands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ing a new re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SERT INTO names (firstName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astName) VALUES ('Rock','Quarry'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* FROM nam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09600" y="3544920"/>
            <a:ext cx="8602560" cy="26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ysql&gt; INSERT INTO names (firstName, lastName) VALUES ('Ralph', 'Quarry'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Query OK, 1 row affected (0.02 sec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ysql&gt; SELECT * FROM names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+-----------+------------+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id | firstName | lastName  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+-----------+------------+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1 | Fred      | Flintstone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2 | Barney    | Rubble    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3 | Ralph     | Quarry    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+-----------+------------+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 rows in set (0.00 sec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ysq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341-DD0A-490D-94DD-DB052825F47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4D003-5CDA-46C3-9A27-443EA85069EF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tering commands (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dating a re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PDATE names SET lastName = 'Stone'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ERE id=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* FROM nam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09600" y="3505320"/>
            <a:ext cx="8602560" cy="286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ysql&gt; UPDATE names SET lastName = 'Stone' WHERE id=3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Query OK, 1 row affected (0.28 sec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ws matched: 1  Changed: 1  Warnings: 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ysql&gt; SELECT * FROM names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+-----------+------------+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id | firstName | lastName  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+-----------+------------+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1 | Fred      | Flintstone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2 | Barney    | Rubble    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3 | Ralph     | Stone     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+-----------+------------+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 rows in set (0.00 sec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ysq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DB8-2D4B-427B-B7E2-CD286FE4323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6645E-5B4A-4E46-9B1B-0E22B9B11243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gging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mmands you type and their ouput can be logged to a file by using the following command inside the MySQL command line 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ee log.t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e log.txt is the name of the file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723-99FB-44A9-97CB-87CDA489CD2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A80C1-00F4-4059-A8F9-95153E852460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ecuting SQL fil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usually better to use an editor to write an SQL script and send it to the ser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ile of SQL commands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ks.sq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be executed by the server by using a command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:\mysql\bin\mysql -u root -p &lt; books.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assumes that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ks.sq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in your current directory. Otherwise the complete path t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ks.sq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suppl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6BE-53D3-4FC3-8A09-D7ED1891764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8DECA-79A7-466A-B800-2D3C40A5A098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ecuting SQL fil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ile of SQL commands such a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ks.sq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also be executed from inside the MySQL client 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ource c:\.....\books.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e the full path t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oks.sq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hould be us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A53-F379-4220-9109-5CC17EA713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96035-09D2-45B2-8812-C08630B223A0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SQL comes with a tutorial and complete documentation in a HUGE fi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:\mysql\Docs\manual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le of contents with lin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:\mysql\Docs\manual_toc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is file to locate the link to the topic you are interested 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3A4-5B57-49EE-BEA0-594E851A84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0EE52-4BBF-42E4-AE7B-9E6FC165F5D6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-Tier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614600" y="2583000"/>
            <a:ext cx="1728720" cy="1882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84760" y="2583000"/>
            <a:ext cx="1728720" cy="18828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68400" y="301932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li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6720" y="2890800"/>
            <a:ext cx="97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49680" y="29671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573360" y="3965400"/>
            <a:ext cx="17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91640" y="3905280"/>
            <a:ext cx="703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24360" y="2968560"/>
            <a:ext cx="690840" cy="88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724360" y="4005000"/>
            <a:ext cx="384480" cy="759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E97-1677-434D-9588-48DA6D8ECF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09102-0623-44A8-8EB2-CC9003240C95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base concept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lational database management system consists of a number of databa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database consists of a number of tab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976400" y="4780080"/>
            <a:ext cx="4952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2520" y="4326480"/>
            <a:ext cx="703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28800" y="4326480"/>
            <a:ext cx="6526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2800" y="4326480"/>
            <a:ext cx="9730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83520" y="4326480"/>
            <a:ext cx="64692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4480" y="4326480"/>
            <a:ext cx="7048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41240" y="4326480"/>
            <a:ext cx="78876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0080" y="471492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0560" y="4965840"/>
            <a:ext cx="495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60560" y="5195880"/>
            <a:ext cx="499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98720" y="5425920"/>
            <a:ext cx="491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83120" y="488808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w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recor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068600" y="5234040"/>
            <a:ext cx="46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78240" y="3403440"/>
            <a:ext cx="12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um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492600" y="3697200"/>
            <a:ext cx="42228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724360" y="3659040"/>
            <a:ext cx="119088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90640" y="47736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19640" y="47736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47736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62480" y="47736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08840" y="47736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CF3-E8A3-48E9-8540-83DF1767891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68B10-9D1B-4F73-B149-1BAB8A1B96DC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SQL data type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entry in a row has a type specified by the colum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eric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INYINT, SMALLINT, MEDIUMINT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, BIG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LOAT(display_length, decimal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UBLE(display_length, decimal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CIMAL(display_length, decimal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ER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same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694-4E72-4133-8F25-92867706F08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23F50-86C9-42B2-B95A-80D67611D71D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SQL data typ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 and tim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is YYYY-MM-D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E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YYYY-MM-DD HH:MM: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YYYYMMDDHHMM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HH:MM: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 length is 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4375-926B-4F46-BEF5-E0921D5DB3F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A2C8D-28FA-410C-9D3C-67003A29BCF2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QL data type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ing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length string, e.g.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(2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 length string, e.g., VARCHAR(2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LOB, TINYBLOB, MEDIUMBLOB, LONGBLO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NY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items from which value is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E21-0B79-4147-916D-5EA3B6C17F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0E34C-93C3-4F04-A1A7-14A0B9FB2B18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QL commands SHOW, U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 databases or tables in current databas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(command line client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w databas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how tabl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which database to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se bookstor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0D95-8296-4AF0-BA95-C18A9F65F91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FC137-FB15-4D3A-809B-8325D047214E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REATE Command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REAT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s a databas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988200" y="2057400"/>
            <a:ext cx="6368040" cy="308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REATE TABLE table_na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column_name1 column_type1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column_name2 column_type2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column_nameN column_typ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8960" y="5568840"/>
            <a:ext cx="598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e: To create a database use the state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db_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801-EA1B-4F9F-BB33-B9E70CF43F0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F47F4-628D-4C70-B025-886CA1341873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REATE Command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ying primary ke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75840" y="2133720"/>
            <a:ext cx="8075160" cy="39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REATE TABLE table_na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column_name1 column_type1 NOT NUL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DEFAULT '0'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column_name2 column_type2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column_nameN column_typeN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PRIMARY KEY (column_name1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9154-E5A6-4E03-9C7F-3E15A3E1142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4140E-ECB1-4F01-A92D-0C163B041C23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REATE Command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increment primary integer ke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76200" y="2133720"/>
            <a:ext cx="7861680" cy="39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REATE TABLE table_na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column_name1 column_type1 PRIMAR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KEY NOT NULL DEFAULT '0'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AUTO_INCREMENT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column_name2 column_type2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column_nameN column_typeN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69F-11D4-480B-B048-D8671158E3D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89BBA-D1B6-4EEA-906A-7B83194313DB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REATE Command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also create UNIQUE keys. They are similar to PRIMARY KEYS but can have NULL valu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also create INDEX fiel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994-E16A-46E3-867A-7940955539D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56EF4-A118-42EC-B701-BE900162FD7B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ditional Cre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database cre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REATE DATABASE IF NOT EXISTS db_na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table cre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REATE TABLE IF NOT EXISTS table_na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1D5-763C-4073-91C2-989D916CC85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16633-58FE-4F99-AFDA-5853C1281184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-Tier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15960" y="2583000"/>
            <a:ext cx="1728720" cy="1882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70120" y="301932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li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75080" y="2968200"/>
            <a:ext cx="537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498760" y="396720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878440" y="3389400"/>
            <a:ext cx="806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838840" y="3619440"/>
            <a:ext cx="844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37480" y="2584440"/>
            <a:ext cx="1728720" cy="1882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59600" y="3121200"/>
            <a:ext cx="131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65560" y="2583000"/>
            <a:ext cx="1728720" cy="18828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0400" y="3083040"/>
            <a:ext cx="9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25160" y="3290760"/>
            <a:ext cx="703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35200" y="2968560"/>
            <a:ext cx="1305000" cy="422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535200" y="3621240"/>
            <a:ext cx="1230480" cy="3459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EAF7-4E01-4C17-901A-BEDCF2F93E1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5FF28-2F9D-42B2-87D5-B8C941DB7BEE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DROP Comma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elete databases and tables use the DROP comm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OP DATABASE db_na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OP DATABASE IF EXISTS db_na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OP TABLE table_na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OP TABLE IF EXISTS table_na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699480" y="5433840"/>
            <a:ext cx="749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e: Don't conf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OP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which deletes row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f a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93C4-1DCA-4A5B-9FD8-0923F3A3DC7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06C3C-5DEF-4735-A433-03EE2F19F757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NSERT Comma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ing rows into a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1136520" y="2133720"/>
            <a:ext cx="6788160" cy="222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SERT INTO table_na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( col_1, col_2, ..., col_N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LU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( val_1, val_2, ..., val_N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2240" y="460368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 values are enclosed in single quotes by defaul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t double quotes are also allowed. Literal quot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ed to be escaped using \' and \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E9BB-C410-4A07-A3DE-B285157CC83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3191E-01BB-46F1-8067-14FEA7F0413D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LECT Command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ing rows from a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st form: select all colum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specified colum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selection of r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831960" y="3733920"/>
            <a:ext cx="7778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column_list FROM table_nam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1960" y="2590920"/>
            <a:ext cx="7778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* FROM table_nam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1960" y="4987800"/>
            <a:ext cx="777852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column_list FROM table_na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ERE condi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413-77C1-419E-BB52-EB4C223ADA6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77EF0-950A-4760-8E22-10CF99A7763B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LECT Command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ying ascending row ord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ying descending row ord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831960" y="2209680"/>
            <a:ext cx="777852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column_list FROM table_na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ERE condi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 by AS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4572000"/>
            <a:ext cx="77788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column_list FROM table_na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ERE condi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DER by DES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E77-DE3C-4599-AB6E-CFF0EF7572D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8BCFF-B4E6-407F-8D4F-0E007EDD41BC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LECT Command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other variations of the select comm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finding the number of records in a table assuming a primary key call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also perform searching using the WHERE o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831960" y="3657600"/>
            <a:ext cx="7778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COUNT(id) FROM table_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27E7-DDCF-4791-9C28-CA6D1501DBC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D9492-5F93-4973-90B1-5B1D9398B5E6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UPDATE Comma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to modify an existing re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update ver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2209680"/>
            <a:ext cx="77788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PDATE table_na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 col_1 = 'new_value1'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, col_n = 'new_value2'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495680"/>
            <a:ext cx="777888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PDATE table_na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 col_1 = 'new_value1'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, col_n = 'new_value2'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ERE condi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D6A-05C7-4D2A-804D-5AE26954108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A733D-3BAD-4805-87DA-F3E83FD7B44D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s.sql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552680" y="1828800"/>
            <a:ext cx="5246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49440" y="1375200"/>
            <a:ext cx="13557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63160" y="1375200"/>
            <a:ext cx="14684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5920" y="2936880"/>
            <a:ext cx="845316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U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est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REATE TA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rks (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studentID SMALLINT AUTO_INCREMENT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NOT NUL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first_name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R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20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OT NUL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last_name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R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20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OT NUL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mark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MALL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EFAULT 0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OT NUL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RIMARY KEY (studentID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280" y="176364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00360" y="1375200"/>
            <a:ext cx="142596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98320" y="1373760"/>
            <a:ext cx="78876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C1B-491B-4AF8-A82D-34D1151F886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96EB8-D183-4392-9447-6CA5DFD3DD65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s.sql (2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1579680"/>
            <a:ext cx="8458200" cy="43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-- Insert some rows into mark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SERT I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rks (first_name, last_nam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mark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'Fred', 'Jones', 78)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SERT I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rks (first_name, last_nam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mark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'Bill', 'James', 67)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SERT I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rks (first_name, last_nam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mark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'Carol', 'Smith', 82)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SERT I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rks (first_name, last_nam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mark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'Bob', 'Duncan', 60)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SERT I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rks (first_name, last_nam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mark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'Joan', 'Davis', 8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4F9-0D04-49E1-8052-9209770AEFA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B01E6-C1ED-4D5C-9061-1D5000C181B8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ecuting The Scrip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in MySQL use a command such 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ource  c:/.........../marks.sq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adds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ar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able to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ata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0F8-200E-4EB9-9397-2D4E4DD2490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5797C-4E83-4359-B272-049D34E6318C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arks Tabl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ing the complet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420840" y="2079720"/>
            <a:ext cx="8069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rk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3720" y="2776680"/>
            <a:ext cx="8066160" cy="3143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------------+-----------+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studentID | first_name | last_name | mark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------------+-----------+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      1 | Fred       | Jones     |   78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      2 | Bill       | James     |   67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      3 | Carol      | Smith     |   82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      4 | Bob        | Duncan    |   60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      5 | Joan       | Davis     |   86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------------+-----------+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rows in set (0.00 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3080-586B-41D6-A174-94D5CE8FBDE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02D01-6E9C-4258-8EC1-3E28C0FF15CA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QL lin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to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w3schools.com/sql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qlzoo.n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sqlcourse.c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(part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ttp://sqlcourse2/c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part 1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SQL online reference man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http://dev.mysql.com/doc/mysql/en/Reference.htm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648-70F2-49C4-97DD-0126D138AA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DCEFF-88BD-4B57-BC8D-F44E1C5684F0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WHERE Clause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rows according to some criter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2079720"/>
            <a:ext cx="8458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rk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HE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udentID &gt; 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udentID &lt; 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5920" y="3371760"/>
            <a:ext cx="84582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------------+-----------+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studentID | first_name | last_name | mark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------------+-----------+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      2 | Bill       | James     |   67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      3 | Carol      | Smith     |   82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      4 | Bob        | Duncan    |   60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------------+-----------+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rows in set (0.01 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8DF-E380-4419-9F45-1738D3695FE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D8BF6-FB79-49B1-8A67-C7A27D4974E5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WHERE Claus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rows with marks &gt;= 8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079720"/>
            <a:ext cx="845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rk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HE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rk &gt;= 8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5920" y="2852640"/>
            <a:ext cx="845820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------------+-----------+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studentID | first_name | last_name | mark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------------+-----------+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      3 | Carol      | Smith     |   82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      5 | Joan       | Davis     |   86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------------+-----------+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rows in set (0.00 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EFEC-55B1-46D1-829C-80F00D1D2E8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1C3C2-E25B-4E96-ACC8-4BD79378EF6B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ORDER BY Clau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rows according to some criter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2079720"/>
            <a:ext cx="845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rk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ORDER 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rk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ES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5920" y="2852640"/>
            <a:ext cx="845820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------------+-----------+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studentID | first_name | last_name | mark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------------+-----------+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      5 | Joan       | Davis     |   86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      3 | Carol      | Smith     |   82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      1 | Fred       | Jones     |   78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      2 | Bill       | James     |   67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      4 | Bob        | Duncan    |   60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------------+-----------+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rows in set (0.00 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4F9-FCFE-4FA8-A5C3-0128D549FB0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867B2-3F1C-40D2-AA63-149B17753946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ing Using LIKE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KE is used to search a table for values containing a search str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two wild-card characters used to specifiy patter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_ matches a single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% matches zero or more charac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also use NOT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ing is case insensi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267-29C9-41EF-8F5B-0DE8DCAB228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6448D-11DA-46F0-B833-B99E446D3C53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ing Using LIK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last names in marks table that begin with 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first names that have 3 let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2635200"/>
            <a:ext cx="8458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rk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st_nam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IK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'J%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4888080"/>
            <a:ext cx="8458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rk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rst_nam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LIK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'_ _ _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339-AA5B-4022-94B9-8389297B5DA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53C5E-2FB5-46FE-8400-C185CE2DFA17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oting str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string contains a single quote it must be backquoted (escaped) before it can be used in a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find records contain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'Rei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ast_na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ie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4325760"/>
            <a:ext cx="8458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rk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st_nam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=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'O\'Reilly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4A1-1DDF-4405-8FCC-D9449308035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4623C-4C43-40F0-9A7F-3CC234340E2A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miting number of row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IMI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be used to specify the maximum number of rows that are to be returned by a select query.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ark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LIM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query will return only the first 3 rows from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ar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return 15 rows beginning at row 5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ark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LIM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4, 15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B4DB-2691-4587-B9FA-BC64651058F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C8497-9FB2-47A5-9915-7F28F659BA62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SQL Function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any rows are ther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us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COUN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marks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stead of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COUN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*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2079720"/>
            <a:ext cx="845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OU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rk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20" y="2852640"/>
            <a:ext cx="84582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COUNT(*)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     5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row in set (0.00 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4D8-0EA3-4AF3-BCDD-9EC30D84D38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F9431-96BF-489A-9195-122F621B7D24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SQL Function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sum of all the mark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376200" y="2193840"/>
            <a:ext cx="845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mark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rk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5920" y="3111480"/>
            <a:ext cx="84582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SUM(mark)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    373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row in set (0.00 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08F-0170-4205-8C01-82EC14D8137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4280D-E34F-4021-B81D-2A1C00B3751C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SQL Function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average ma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76200" y="2193840"/>
            <a:ext cx="845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mark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rk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5920" y="3111480"/>
            <a:ext cx="84582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AVG(mark)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74.6000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row in set (0.00 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FE52-8370-4B0F-AD31-69ADDB129A4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C0CE6-2608-4B98-9AA7-DF0C286646E0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allation 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detailed installation instructions are given on the C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MySQL i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:\mysq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SQL can be installed as a servi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 2000/X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make icons on the desktop for starting and stopping the ser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5BA-F8B2-4027-8509-6BC9CA883E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D2483-3AEC-454C-B4E5-FA73D28783E3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SQL Function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minimum ma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376200" y="2193840"/>
            <a:ext cx="845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mark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rk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5920" y="3111480"/>
            <a:ext cx="84582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MIN(mark)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     60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row in set (0.00 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917-54B7-42F5-BDC9-BE9D7DF3B86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9A1D6-2268-400E-B580-74E257F7E38D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SQL Functions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maximum ma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376200" y="2193840"/>
            <a:ext cx="845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mark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rk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5920" y="3111480"/>
            <a:ext cx="84582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MAX(mark)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       86 |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-----------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row in set (0.00 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1B6-0CE9-4CC0-90C8-CCB70DBA53C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9FEF2-1A33-4357-B14C-6C529471AF72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s.sql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822320" y="1375200"/>
            <a:ext cx="4953600" cy="1368000"/>
            <a:chOff x="1822320" y="1375200"/>
            <a:chExt cx="4953600" cy="1368000"/>
          </a:xfrm>
        </p:grpSpPr>
        <p:sp>
          <p:nvSpPr>
            <p:cNvPr id="298" name=""/>
            <p:cNvSpPr/>
            <p:nvPr/>
          </p:nvSpPr>
          <p:spPr>
            <a:xfrm>
              <a:off x="1822320" y="1828800"/>
              <a:ext cx="495324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28440" y="1375200"/>
              <a:ext cx="70344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sb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31960" y="1375200"/>
              <a:ext cx="633240" cy="398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58080" y="1375200"/>
              <a:ext cx="973080" cy="398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uth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29440" y="1375200"/>
              <a:ext cx="646920" cy="398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80760" y="1375200"/>
              <a:ext cx="704880" cy="398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87160" y="1375200"/>
              <a:ext cx="788760" cy="398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80880" y="2936880"/>
            <a:ext cx="84582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U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web_db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REATE TA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ooks (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isb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15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RIMARY KEY NOT NUL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title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R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100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OT NUL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autho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R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100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OT NUL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ub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R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20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OT NUL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year YEAR NOT NULL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rice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ECIM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9,2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EFAULT NUL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6360" y="176364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67480" y="1676520"/>
            <a:ext cx="1295640" cy="990360"/>
          </a:xfrm>
          <a:prstGeom prst="wedgeRectCallout">
            <a:avLst>
              <a:gd name="adj1" fmla="val -83212"/>
              <a:gd name="adj2" fmla="val 1057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EEB-FD16-4350-A5B6-60FC46C6EC8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0F815-0F47-4B4D-8EBC-0E90950544FB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s.sql (2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1579680"/>
            <a:ext cx="8458200" cy="449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-- Insert some books into book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SERT I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ook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'0-672-31784-2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'PHP and MySQL Web Development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'Luke Welling, Laura Thomson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'Sams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2001, 74.9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SERT I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ook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'1-861003-02-1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'Professional Apache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'Peter Wainwright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'Wrox Press Ltd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1999, 74.9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DB5-A545-4F1A-B455-65B2D289AB97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94404-C6FE-4B8E-ADBB-F7D2E1F4D323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ecuting The Scrip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in MySQL use a command such 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ource  c:/.........../books.sq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adds the books table to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eb_d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ata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109-FAE9-4B0F-9BF4-E17A827ADB1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0A1EB-CBB1-46A0-9FE4-DE2F7FA9CEA3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ployee_db.sql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838080" y="1375200"/>
            <a:ext cx="5078520" cy="1368000"/>
            <a:chOff x="838080" y="1375200"/>
            <a:chExt cx="5078520" cy="1368000"/>
          </a:xfrm>
        </p:grpSpPr>
        <p:sp>
          <p:nvSpPr>
            <p:cNvPr id="314" name=""/>
            <p:cNvSpPr/>
            <p:nvPr/>
          </p:nvSpPr>
          <p:spPr>
            <a:xfrm>
              <a:off x="838080" y="1828800"/>
              <a:ext cx="5078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43120" y="1375200"/>
              <a:ext cx="160884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mploye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20360" y="1375200"/>
              <a:ext cx="845280" cy="398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72920" y="1375200"/>
              <a:ext cx="1169640" cy="398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29680" y="1375200"/>
              <a:ext cx="1157760" cy="398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80880" y="4786200"/>
            <a:ext cx="84582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REATE DATABASE IF NOT EXIST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mployee_db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U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mployee_db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ROP TABLE IF EXIST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mployees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ROP TABLE IF EXIT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job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324240" y="3097800"/>
            <a:ext cx="2548080" cy="1368000"/>
            <a:chOff x="3324240" y="3097800"/>
            <a:chExt cx="2548080" cy="1368000"/>
          </a:xfrm>
        </p:grpSpPr>
        <p:sp>
          <p:nvSpPr>
            <p:cNvPr id="321" name=""/>
            <p:cNvSpPr/>
            <p:nvPr/>
          </p:nvSpPr>
          <p:spPr>
            <a:xfrm>
              <a:off x="3324240" y="3551400"/>
              <a:ext cx="25351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29280" y="3097800"/>
              <a:ext cx="160884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mployee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84560" y="3097800"/>
              <a:ext cx="887760" cy="398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707520" y="1598760"/>
            <a:ext cx="149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loye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23720" y="3227400"/>
            <a:ext cx="77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06480" y="1854360"/>
            <a:ext cx="1382760" cy="13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EA6-21AF-42EF-BA1F-C4AAB3FFE174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0F972-0924-4107-91DF-24E6C1DA8875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ployee_db.sql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1521000"/>
            <a:ext cx="8458200" cy="48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REATE TA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mployees (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employeeID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MALLINT NOT NUL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name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R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20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OT NUL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positio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R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20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OT NUL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addres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R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40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OT NUL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RIMARY 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employeeID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SERT I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mployee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1001, 'Fred'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'programmer', '13 Windle St')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SERT I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mployee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1002, 'Joan'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'programmer', '23 Rock St')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SERT I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mployee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1003, 'Bill'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'manager', '37 Front St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FB4-4DA3-4854-84F7-486634EE3DF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B5544-A659-440B-897E-187FD9F79062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ployee_db.sql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1521000"/>
            <a:ext cx="8458200" cy="41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REATE TA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jobs (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employeeID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MALLINT NOT NUL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hour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ECIM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5,2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OT NUL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SERT I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job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1001, 13.5)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SERT I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job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1002, 2)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SERT I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job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1002, 6.25)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SERT I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job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1003, 4)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SERT I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job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1001, 1)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SERT I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job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1003, 7)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SERT I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job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1003, 9.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B07C-B4C8-411A-B8BE-C6155F61CB4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C0B77-ECAD-485E-A586-DF49E544A7AB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ecuting The Scrip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in MySQL use a command such 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ource  c:/......./employee_db.sq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creates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mployee_d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atabase and adds the employees and jobs tables to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F50-A223-4E5B-85BD-8B82E047CF4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0A919-8674-4107-8566-6308057CCB25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ect Queries With Join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tesian product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380880" y="2079720"/>
            <a:ext cx="845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mployees, job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3720" y="3078000"/>
            <a:ext cx="8458200" cy="26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------+------+------------+--------------+------------+-------+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employeeID | name | position   | address      | employeeID | hours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------+------+------------+--------------+------------+-------+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1 | Fred | programmer | 13 Windle St |       1001 | 13.5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2 | Joan | programmer | 23 Rock St   |       1001 | 13.5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3 | Bill | manager    | 37 Front St  |       1001 | 13.5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1 | Fred | programmer | 13 Windle St |       1002 |  2.0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2 | Joan | programmer | 23 Rock St   |       1002 |  2.0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3 | Bill | manager    | 37 Front St  |       1002 |  2.0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1 | Fred | programmer | 13 Windle St |       1002 |  6.25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2 | Joan | programmer | 23 Rock St   |       1002 |  6.25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3 | Bill | manager    | 37 Front St  |       1002 |  6.25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A7D-045C-4A4C-9B24-186707C2FD9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0A14D-14A4-40BE-A7BD-CA1627DEE24A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and Line Cli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tandard command line client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:\mysql\bin\mysql.ex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mmand line client can be used to send commands and SQL queries to the MySQL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lso GUI clients such as MyC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FC7-53DB-43BF-9FE2-EED1216D19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99698-1D2A-49D2-A2FB-3618A15B16E2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ect Queries With Join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tesian product query 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423720" y="2038320"/>
            <a:ext cx="8458200" cy="307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1 | Fred | programmer | 13 Windle St |       1003 |  4.0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2 | Joan | programmer | 23 Rock St   |       1003 |  4.0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3 | Bill | manager    | 37 Front St  |       1003 |  4.0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1 | Fred | programmer | 13 Windle St |       1001 |  1.0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2 | Joan | programmer | 23 Rock St   |       1001 |  1.0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3 | Bill | manager    | 37 Front St  |       1001 |  1.0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1 | Fred | programmer | 13 Windle St |       1003 |  7.0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2 | Joan | programmer | 23 Rock St   |       1003 |  7.0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3 | Bill | manager    | 37 Front St  |       1003 |  7.0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1 | Fred | programmer | 13 Windle St |       1003 |  9.5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2 | Joan | programmer | 23 Rock St   |       1003 |  9.5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     1003 | Bill | manager    | 37 Front St  |       1003 |  9.5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------+------+------------+--------------+------------+-------+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1 rows in set (0.01 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1040" y="5516640"/>
            <a:ext cx="643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artesian product query is rarely what we w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D3F-1E84-42C6-B1DE-F2C162F15CB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3046E-AEE3-4A44-BDFB-4BBEEA923E26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ect Queries With Join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stit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423720" y="3191040"/>
            <a:ext cx="8458200" cy="276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+-------+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name | hours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+-------+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Fred | 13.5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Joan |  2.0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Joan |  6.25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Bill |  4.0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Fred |  1.0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Bill |  7.0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Bill |  9.5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+------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 rows in set (0.00 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3583080"/>
            <a:ext cx="3301920" cy="1727280"/>
          </a:xfrm>
          <a:prstGeom prst="wedgeRoundRectCallout">
            <a:avLst>
              <a:gd name="adj1" fmla="val -108319"/>
              <a:gd name="adj2" fmla="val -137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 we are replacing the employeeID numbers in the jobs table by the employee's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3720" y="2084400"/>
            <a:ext cx="8458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, hour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mployees, job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HE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ployees.employeeID = jobs.employee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89A-82B5-4764-B1FC-7E1AFDCCF1A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1A1E6-FE3C-4B8A-BA10-5FCB3094F58D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ect Queries With Join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ies only for F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423720" y="3767040"/>
            <a:ext cx="8458200" cy="169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+-------+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name | hours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+-------+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Fred | 13.5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Fred |  1.0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+------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 rows in set (0.00 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3720" y="2084400"/>
            <a:ext cx="8458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, hour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mployees, job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HE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ployees.employeeID = jobs.employeeID A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 = 'Fred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F685-784A-4746-902E-70F18ECC58B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08E20-1F11-4E32-B14A-7D13F063E35F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ect Queries With Joins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hours worked for each per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423720" y="3767040"/>
            <a:ext cx="845820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+------------+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name | SUM(hours)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+------------+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Bill |      20.5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Fred |      14.5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Joan |       8.25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+------------+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 rows in set (0.00 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3720" y="2084400"/>
            <a:ext cx="8458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, SUM(hours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mployees, job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HE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mployees.employeeID = jobs.employeeID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GROUP 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0C0-E9AC-4CBF-AE40-33829355421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A0ADC-17D0-40D9-B894-F49D0A451E49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ect Queries With Joins (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hours worked, for F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423720" y="3767040"/>
            <a:ext cx="845820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+------------+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name | SUM(hours)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+------------+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Fred |      14.50 |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------+------------+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 row in set (0.00 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3720" y="2084400"/>
            <a:ext cx="8458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, SUM(hours)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mployees, job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HE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mployees.employeeID = jobs.employeeI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name = 'Fred'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GROUP 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B20-3214-49E6-A003-84DEBBADDEF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47886-E6E1-4148-897C-B2CD63A8936B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ent-Server Inte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106640" y="2286000"/>
            <a:ext cx="1636560" cy="1562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64440" y="2286000"/>
            <a:ext cx="1636560" cy="1562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971440" y="2666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4290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67520" y="1889280"/>
            <a:ext cx="20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a reque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QL que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72000" y="29829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8360" y="4459320"/>
            <a:ext cx="792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program can be a MySQL command line client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client, or a program written in any language suc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C, Perl, PHP, Java that has an interface to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SQL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028-3F25-431D-AEF9-0E0DA938DD4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8F34B-917E-4A52-BF74-93D1E945B49D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necting to the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 command prompt that sets the path t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:\mysql\b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llowing command connects to the serv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ysql -u root -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are prompted for the root passwo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an now send comands and SQL statements to the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7400-2505-4DEA-A665-68161D9FAD1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E628B-7382-43D5-893A-AA1BE33765A7}" type="datetime1">
              <a:rPr lang="en-US"/>
              <a:t>07/29/26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RNING W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Tahoma"/>
              </a:rPr>
              <a:t>WARNING</a:t>
            </a:r>
            <a:endParaRPr b="0" lang="en-US" sz="1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ways assume that everything is case sensitive, especially table na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not the case in Windows XP but it is the case in Linu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G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8DE4-DD82-4272-B4D7-462A61B009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D3D67-7DE0-4664-A25E-65C7D7C26D39}" type="datetime1">
              <a:rPr lang="en-US"/>
              <a:t>07/29/26</a:t>
            </a:fld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17:04:13Z</dcterms:created>
  <dc:creator>Barry Adams</dc:creator>
  <dc:description/>
  <dc:language>en-US</dc:language>
  <cp:lastModifiedBy>Laurentian University </cp:lastModifiedBy>
  <cp:lastPrinted>1999-09-14T12:12:50Z</cp:lastPrinted>
  <dcterms:modified xsi:type="dcterms:W3CDTF">2004-07-12T14:42:56Z</dcterms:modified>
  <cp:revision>138</cp:revision>
  <dc:subject>MySql summary</dc:subject>
  <dc:title>COSC 2206 Internet To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laurentian.ca/badams/c1046</vt:lpwstr>
  </property>
  <property fmtid="{D5CDD505-2E9C-101B-9397-08002B2CF9AE}" pid="9" name="LinkColor">
    <vt:r8>16711782</vt:r8>
  </property>
  <property fmtid="{D5CDD505-2E9C-101B-9397-08002B2CF9AE}" pid="10" name="MailAddress">
    <vt:lpwstr>barry@cs.laurentian.ca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ork\Html01\badams\c1046\ppt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