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AD4-A50A-4E4E-A6B6-BE16BA93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9CD-FB7A-4E20-A5D2-1E1373AC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B46-B62F-4C9A-931B-227DF540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C17-33ED-470F-B1F4-BE57006F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17C-1E1A-406D-89E7-FFD50F84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4E35-5C96-4CD5-A8C3-4BB46483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3AC-9FF2-4B85-83F7-F9719E8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2AEC-8A0D-4776-885B-4C7F5E64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7F61-1816-4700-980F-6233F08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B9B8-2896-4B69-B7C1-BB9DC7DF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4BA-9DF4-4AD3-BFE5-0BCD75A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F0A-1875-49F6-B667-0147443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CE0-FF07-4606-AA74-F943F81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FE33-F1BF-407E-875C-E56FE55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3A0F-C378-476B-AF85-EFD08769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C500-C092-4EDA-ACCC-2A30E64A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C8C7-542F-4166-A95E-CFE527E6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262-768E-46E5-86E5-B75B677A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A47-3FF0-4458-81C2-7D5BEB2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779-0FD6-4BDD-A78B-50A77945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81D-0B00-4CB0-8CE7-FCACF80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5FC-0B83-4501-A849-E937868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35F-0E62-44B5-9519-6755748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29A-FD6D-4132-9B74-48EED4D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FC7-7B0E-4E7E-93D8-05A7AE003EC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1F78-53B0-43DA-AF67-54D4496D4F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1CD-A867-4FB0-8DE0-E64A5B529A1B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B997-791C-4CFC-8F75-7292B6AE9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calhost/php/hidden/hidden_demo.php" TargetMode="External"/><Relationship Id="rId2" Type="http://schemas.openxmlformats.org/officeDocument/2006/relationships/hyperlink" Target="file:///php-txt/hidden/hidden_demo.php.txt" TargetMode="Externa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hp-txt/hidden/survey.php.txt" TargetMode="External"/><Relationship Id="rId2" Type="http://schemas.openxmlformats.org/officeDocument/2006/relationships/hyperlink" Target="http://localhost/php/hidden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calhost/php/session/page1.php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hp-txt/session/page1.php.txt" TargetMode="External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hp-txt/session/page2.php.txt" TargetMode="Externa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hp-txt/session/page3.php.txt" TargetMode="External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localhost/php/session2/page1.php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php-txt/session2/page1.php.txt" TargetMode="External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PHP Web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3827880" y="38286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447920"/>
            <a:ext cx="82296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age_tw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et the values just submitted from form 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ag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nsert them in form 2 as hidden field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ead&gt;&lt;title&gt;Page 2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1&gt;Page 2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77C-DA52-4427-A113-E5F7E82D37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725A-903A-4EED-972E-55672442A4C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447920"/>
            <a:ext cx="82296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hidden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am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hidden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g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&lt;td&gt;Favourite book: 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d&gt;&lt;input type="tex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ook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&lt;td&gt;&lt;input type="submi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ge2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how Result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able&gt;&lt;/form&gt;&lt;body&gt;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F41-9E3A-479A-8C1D-7A2F9DDB65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F2D3-6218-427E-9967-3C0B1E675DE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447920"/>
            <a:ext cx="82296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result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orm 2 was just submitted so get results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// for all field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hidden fiel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ag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hidden fiel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oo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ook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D5F-ADC3-4A16-A6AA-C03E4CF957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592A3-495D-4126-B14F-5BEF64D7424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82296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ead&gt;&lt;title&gt;Results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body&gt;&lt;h1&gt;Results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able border="1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r&gt;&lt;td&gt;Name&lt;/td&gt;&lt;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r&gt;&lt;td&gt;Age&lt;/td&gt;&lt;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r&gt;&lt;td&gt;Favourite book&lt;/td&gt;&lt;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oo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6228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localhost/php/hidden/hidden_demo.ph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524196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view source hidden/hidden_demo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E2D-AB7A-4A6F-B513-BA6BC2E787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394B-F33A-43D2-B5F1-A32617D305E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linked forms make up the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forms are conditional (form depends on previously submitted answ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iew script hidden/survey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localhost/php/hidden/index.htm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d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survey results in a file or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scripts to do statistics using this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8A4-6DA0-4529-A3EC-8250E57820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6F143-2461-4BE9-9115-8477572AFDB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management keeps track of users across multiple pages, in an online shopping application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hree ways to do sess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dden fields (restricted to set of linked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kies (general method that works unless user does not accept cook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rewriting using a session id in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93E-A320-4EC3-9A5D-B8998F45B0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01C93-3430-4D17-B041-D1C198D7ADD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sess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ssion is a set of connections that a specific user makes to a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 in a shopping cart application each item in the cart is entered in a separate conn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quests that a shopper makes in browsing the catalog, filling the cart and checking out constitute a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7B2-B6F0-43A0-B24C-1330B6AC4F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177A0-42F8-4F90-B64F-DFEA4A8AFEA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session managemen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_start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is function at top of each page before any data is sent to the browser. This will create a session if one doesn't exi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_destroy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this function to terminate a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default, cookies are valid until the browser is clo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times can be set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EE8-816E-408A-AD49-EF6E90A902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1991D-75D0-49CD-8EC9-2E197933F12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session management (2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session user receives a 32 hex digit id which is associated with the name PHPSESSID (cookie name or query na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alue is available in PHP using the function call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ession_id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5E5-A899-423D-8136-0DE13080FE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DE2D3-94AC-41B5-AEB8-555AF77A4E0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session variables (1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latest versions of PHP this is used to set a session variable and give it a value that will be remembered throughout the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unse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latest versions of PHP use this to unregister a session variable: remove it from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12E-7325-49C2-B6B0-A6DC4423C9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78901-1E44-45CD-8165-EBAA850E3FD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PHP WEB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den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session variab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variables are stored in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ust specify the default directory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. For example, I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_save_path="c:\apache\session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_save_path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he curren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_save_path(p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 the save path to the give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F17-7918-41D5-AC4C-2EE582B7A8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CCF4F-F126-40EA-844A-23D9FC063E1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example consists of three p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page1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art a session and set a session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page2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e session but unset the session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page3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ry to display session variable and destroy the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ession/page1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ust reload page when using Power Poi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322-EA74-4324-87B1-242A725010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3B044-A45C-4A1C-9383-B87A1064F48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/page1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371600"/>
            <a:ext cx="830592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Hello Worl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Management Page 1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Session Management Page 1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Value of the session variable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session id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session save path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ave_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ge2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o to page 2&lt;/a&gt;&lt;/p&gt;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6600" y="144792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session/page1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4724280"/>
            <a:ext cx="1752480" cy="914400"/>
          </a:xfrm>
          <a:prstGeom prst="wedgeEllipseCallout">
            <a:avLst>
              <a:gd name="adj1" fmla="val -70106"/>
              <a:gd name="adj2" fmla="val 50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645-455E-4C3D-BA87-FAA756F876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B8ED0-B580-4293-91B5-7C4A89FDB82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/page2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371600"/>
            <a:ext cx="830592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greet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un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Management Page 2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Session Management Page 2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Value if the session variable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?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ge3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 to page 3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66600" y="143208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session/page2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AE8-5B83-46BB-996D-AF2B9D3A24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FB08C-9578-426C-A849-604264C1503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/page3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371600"/>
            <a:ext cx="830592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$resul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Value of session variable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t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}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$result =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session variable is no longer se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Management Page 3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Session Management Page 3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95200" y="143208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session/page3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454-2FD6-4AAB-9E9F-71EB832029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9D6B7-9D9E-4EFA-8656-B13E66AB8C2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count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time the script page is accessed a counter is incremented and display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unt is remembered from one connection to the next until the browser is closed (the defa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769-7A64-4AC6-A8B4-1B4B1F8B22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9FCB0-4E1D-4684-84A9-DB4CE53FB9A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_counter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71600"/>
            <a:ext cx="830592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tar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++;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ssion_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-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tar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cookie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COOK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SESS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COOK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SESS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668-D2D0-441D-BF25-7877BBD5D94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9840C-E75B-4798-8C91-C10BB10FB7C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_counter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371600"/>
            <a:ext cx="830592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Counter Exampl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Session Counter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session id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session_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cookie name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cookie_value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count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Session has been active f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ssion_time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conds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session save path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session_save_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ssion_counter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oad page agai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8B9-9994-4139-80B3-87BD3BEF2B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EDE1E-825D-4E1F-B199-D627D89A023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count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version times out after 30 seconds and destroys the s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load will now begin a new session but using the same session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E81-035B-4CBD-B0AB-8AAA144710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172D1-CDAF-414E-9C4A-E8A765DA1CB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_counter2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371600"/>
            <a:ext cx="830592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tar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++;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ssion_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-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tar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cookie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COOK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SESS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COOK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SESS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ssion_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gt; 3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destro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4952880"/>
            <a:ext cx="3733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ADD-88A6-43E1-A271-7CBB2568B0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30F4B-5EEF-47F7-A389-677ABFC68BC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directory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File"/>
          <p:cNvSpPr/>
          <p:nvPr/>
        </p:nvSpPr>
        <p:spPr>
          <a:xfrm>
            <a:off x="3048120" y="2981160"/>
            <a:ext cx="167616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ile"/>
          <p:cNvSpPr/>
          <p:nvPr/>
        </p:nvSpPr>
        <p:spPr>
          <a:xfrm>
            <a:off x="457200" y="4429080"/>
            <a:ext cx="167652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ile"/>
          <p:cNvSpPr/>
          <p:nvPr/>
        </p:nvSpPr>
        <p:spPr>
          <a:xfrm>
            <a:off x="2362320" y="4429080"/>
            <a:ext cx="167616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ile"/>
          <p:cNvSpPr/>
          <p:nvPr/>
        </p:nvSpPr>
        <p:spPr>
          <a:xfrm>
            <a:off x="4267080" y="4429080"/>
            <a:ext cx="182880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ile"/>
          <p:cNvSpPr/>
          <p:nvPr/>
        </p:nvSpPr>
        <p:spPr>
          <a:xfrm>
            <a:off x="3048120" y="1371600"/>
            <a:ext cx="167616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d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7480" y="24400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828800" y="3886200"/>
            <a:ext cx="9144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11480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2200" y="4572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ile"/>
          <p:cNvSpPr/>
          <p:nvPr/>
        </p:nvSpPr>
        <p:spPr>
          <a:xfrm>
            <a:off x="6400800" y="4429080"/>
            <a:ext cx="182880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io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4038480"/>
            <a:ext cx="17524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9C9-45F2-470F-95A7-64F4B2B025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6BF23-655A-4973-9598-DE8051CE737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_counter2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371600"/>
            <a:ext cx="830592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Counter Exampl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Session Counter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session id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session_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cookie name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cookie_value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count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u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Session has been active f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ssion_time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conds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The session save path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session_save_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ssion_counter2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oad page agai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58C-E96E-4C24-954A-79FCAAFB697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D086B-B6B2-42BE-81C5-01BE27CF47C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ies / URL rewri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ookies are allowed PHP will use a cookie, otherwise URL rewriting i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e this set explorer security preferences for local access in local internet security and set cookies for pro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open browser for page1.php, answer no to cookies to see on page2.php a URL like 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ttp://localhost/php/session/page2.php?PHPSESSID=772bd400b802f81d8dfed45f577e27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910-766E-485C-8E4D-C7E038847F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AFD0C-0969-43D5-825D-DF85F26EDE2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example a session variable is used to hold the user's background color pre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ge1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use a form to get user's color preference or show first page if color has already been spec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ge2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how a page then unregister the session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ge3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how a page and destroy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ession2/page1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reload page when using PowerPoi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E92-42F3-4BD1-B70C-782C5BBE71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D78B5-8DF7-4037-A308-6F33458ABE6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2/page1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574640"/>
            <a:ext cx="830592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ni_set("session.cookie_lifetime", "30000"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age_on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form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C85-0966-442E-8132-82FD6373B08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1022E-6563-43CC-A823-9298A320508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2/page1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98680"/>
            <a:ext cx="830592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form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bgcolor page 1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Session bgcolor page 1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ction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 color code as &lt;code&gt;#HHHHHH&lt;/code&gt;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tex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gcolor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value="Submit Color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8A1-4690-4583-A84A-29C7B9E5F85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EAFB5-849A-4C38-9A42-2EB2AA9CA49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2/page1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574640"/>
            <a:ext cx="830592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_page_on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ssion bgcolor page 1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 bgcolor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Session bgcolor page 1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ground color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ge2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 to page 2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8880" y="1600200"/>
            <a:ext cx="39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session2/page1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BDE-FB7F-4030-8619-1657114A638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0F7AC-3482-4238-AD0B-6F4009B21C1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2/page2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574640"/>
            <a:ext cx="830592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g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#FFFFF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un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&lt;Session bgcolor page 2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 bgcolor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g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Session bgcolor page 2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ackground color i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bgcolor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ge3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 to page 3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07720" y="1600200"/>
            <a:ext cx="39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session2/page2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C63-B02D-4DF3-B30F-054C24CBED5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D6423-473F-421B-915A-78B68C36F44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2/page3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574640"/>
            <a:ext cx="830592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g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gcolo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#FFFFF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destro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&lt;Session bgcolor page 2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 bgcolor=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g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Session bgcolor page 2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ackground color i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bgcolor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84040" y="1600200"/>
            <a:ext cx="39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session2/page3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074-6247-4B86-A465-1DA29CAAFAA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13E34-909E-4681-986E-1A7F231ADEB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Authent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wser displays login dialog bo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browser requests a page server checks headers for a username and pass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ne, it sends an authenticate response asking the browser to send a user name and password. Browser uses login 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P can use this name and password to authenticate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PHP do the login on a web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uses form to get name and pass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D58-0DB5-416D-A7FA-BC2F896D43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A504C-5696-4D33-B900-6474A8A3F2F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request is made by browser the server needs to send the h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: Basic realm="...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/1.0 401 Unauthor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rowser will get a username and password and send it in the h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uses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PHP_AUTH_USER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PHP_AUTH_PW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get username and pass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95E-1CB8-456D-BC91-734AD5260F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C92EE-7F31-414A-848E-195DE7DEC23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Field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er/client communication is stat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client makes an HTTP request to a server, the server makes an HTTP response, delivering a document for example, and then closes the connection and forgets who the client w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very simple way to maintain state across multiple connections is to use hidden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88F-B29A-4D53-92D8-6C29DD8B96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2AB3D-D596-41C6-977E-2D2453B9089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.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tart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gin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Login Page&lt;/a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B9C-8853-4403-99E1-D121304368C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DE909-B20E-4E72-BE72-0FF92A8B5BF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81080"/>
            <a:ext cx="830592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clud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uth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Login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 have successfully logged in and you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 view the&lt;br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secretpage.php"&gt;&lt;h1&gt;secret page&lt;/h1&gt;&lt;/a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7840" y="4937040"/>
            <a:ext cx="41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authenticate/login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B8E-3EE8-463B-9726-C0632AB7D20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F8C3C-F404-4C0D-A711-BB533801B98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page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47920"/>
            <a:ext cx="830592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clud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uth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The secret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Here is the secret information: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name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AUTH_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r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 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AUTH_P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2680" y="5546880"/>
            <a:ext cx="48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authenticate/secretpage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6F5-9EA0-45BD-8B00-5B95AA8EAD3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7926E-0B3E-44A1-B9BB-527E7C636EC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h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523880"/>
            <a:ext cx="830592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uthoriz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fals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isset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AUTH_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AUTH_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''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AUTH_P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AUTH_P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''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amp;&amp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amp;&am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F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one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uthoriz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tru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E16-8DF2-453D-9439-C3145D4191C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43CA7-346F-4834-82B8-CB7A2E238EE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h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523880"/>
            <a:ext cx="830592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$authoriz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ead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WWW-Authenticate: Basic realm=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"Top Secret Files"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ead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HTTP/1.0 401 Unauthoriz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ead&gt;&lt;title&gt;Unauthorized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body&gt;&lt;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1&gt;You are not authorized to view the t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cret files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gin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h1&gt;Login&lt;/h1&gt;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center&gt;&lt;/body&gt;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927760"/>
            <a:ext cx="53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localhost/php/authenticate/start.htm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41400" y="1600200"/>
            <a:ext cx="40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authenticate/auth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3EC-27C9-4564-8556-15D9C0DE97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AE930-91D6-4709-9FC7-302DE1F5BC9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fiel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thod only works across a chain of forms (submission of one form followed by another form and so 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hidden input field of the form to save stat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not displayed but its name-value pair is submitted with the form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089240"/>
            <a:ext cx="7467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hidde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am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valu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579-E77C-4FA2-ADAD-391696440B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02159-C816-4139-AD7B-C5DF7A20470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with two fo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2480" y="3276720"/>
            <a:ext cx="3303720" cy="1303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051360" cy="1622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9480" y="4670280"/>
            <a:ext cx="1692360" cy="157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4120" y="1371600"/>
            <a:ext cx="2590560" cy="762120"/>
          </a:xfrm>
          <a:prstGeom prst="wedgeRoundRectCallout">
            <a:avLst>
              <a:gd name="adj1" fmla="val -96935"/>
              <a:gd name="adj2" fmla="val 937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1 h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362320"/>
            <a:ext cx="2590560" cy="1676160"/>
          </a:xfrm>
          <a:prstGeom prst="wedgeRoundRectCallout">
            <a:avLst>
              <a:gd name="adj1" fmla="val -99754"/>
              <a:gd name="adj2" fmla="val 4213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2 h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field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hidden fields from firs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371600"/>
            <a:ext cx="3276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200400"/>
            <a:ext cx="3276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64832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267080"/>
            <a:ext cx="2590560" cy="1828800"/>
          </a:xfrm>
          <a:prstGeom prst="wedgeRoundRectCallout">
            <a:avLst>
              <a:gd name="adj1" fmla="val -100305"/>
              <a:gd name="adj2" fmla="val -199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2 remembers the results from Page 1 so results of all three fields can be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846-C8B5-4A77-86E6-D77B385C41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8436E-C35E-4D07-9D03-610CCEEBDF3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229600" cy="482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age1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irst form submitted so display page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age_tw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age2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Second form submitted so display resul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result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no forms submitted so display page 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age_on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A61-6864-486D-90EF-112AFDAB62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CA46E-C7C4-4A2B-8F91-E7C4C6B7696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447920"/>
            <a:ext cx="8229600" cy="48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age_on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Page 1&lt;/title&gt;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Page 1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Name: 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&lt;input type="tex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am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9CD-4B30-49F3-AFC6-F48409F8B7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AB31E-42FB-45F8-8E49-CD10FA0E13F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_demo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2296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Age: 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d&gt;&lt;input type="tex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g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d&gt;&lt;input type="submi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ge1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valu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ext Pag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8E7-B018-4CF1-9656-1D3927C54F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2C2E6-2E74-4274-9686-DBA29D2F330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6-29T15:26:42Z</dcterms:modified>
  <cp:revision>121</cp:revision>
  <dc:subject>Mroe PHP Web Applications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