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E61-77CE-4CB5-8BEE-C6F017CF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E4E-863D-4875-A5CA-FB192D98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CEB-B347-447B-8B79-03D150E6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9A0-0309-4590-A739-821F7EFB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A5A7-CE99-4072-A860-5F0A87D1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8DB2-17E8-40B3-A4B2-6F744012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E829-E1E2-4CF9-BF7C-81FDDC19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8C23-5365-43B1-89C5-CD6C275A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F584-C353-43C9-990D-B1A6ECAE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55B4-C36B-4496-BED0-57B4F77A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A894-3C77-4843-BB14-286F600C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447-9E04-41D9-883B-B487FE2C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E6A6-6A13-4980-B03D-3DA3708F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1E1E-CD2D-4733-A0B7-B4FC56A2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FD02-C65E-4C7B-A40F-1ED607C7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AB16-E931-4E4B-BEAD-F3B9FE1C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618E-17B7-4966-B54F-B8DEBADA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BD8-63AC-4640-A06D-F17AB282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924-33B2-46F4-BAA7-E990A24F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046-9900-48F3-B446-C665EB50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0FE-BEB0-4392-AA7B-3859BBE6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5F7-A5F3-4916-8461-02B67749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DE5-2931-4964-9C30-5F5E57E1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C76-23F3-49A5-879B-C6E6A4D5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1DB6-2BA4-4721-B0AE-302A6FE1211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1363-0BA8-43F5-9A2B-7597AB3D5D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990720"/>
            <a:ext cx="9009000" cy="1052280"/>
            <a:chOff x="0" y="9907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098360"/>
              <a:ext cx="711360" cy="474480"/>
              <a:chOff x="290520" y="10983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0983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0983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520640"/>
              <a:ext cx="737640" cy="474480"/>
              <a:chOff x="414360" y="15206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5206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5206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4475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8118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D3EE-E589-46D7-900D-0D241C18D18B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D865-6A59-4F57-900C-46DA68A82D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ocalhost/php/simple/server.php" TargetMode="External"/><Relationship Id="rId2" Type="http://schemas.openxmlformats.org/officeDocument/2006/relationships/hyperlink" Target="file:///php-txt/simple/server.php.txt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php-txt/simple/display_table.php.tx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ocalhost/php/simple/globals.php" TargetMode="External"/><Relationship Id="rId2" Type="http://schemas.openxmlformats.org/officeDocument/2006/relationships/hyperlink" Target="file:///php-txt/simple/globals.php.txt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localhost/php/simple/server.php?name=Fre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localhost/php/simple/globals.php?name=Fred" TargetMode="External"/><Relationship Id="rId2" Type="http://schemas.openxmlformats.org/officeDocument/2006/relationships/hyperlink" Target="http://localhost/php/simple/globals.php?name=Fred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localhost/php/simple/get.php?a=b" TargetMode="External"/><Relationship Id="rId2" Type="http://schemas.openxmlformats.org/officeDocument/2006/relationships/hyperlink" Target="file:///php-txt/simple/get.php.txt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localhost/php/forms/form1_get.html" TargetMode="External"/><Relationship Id="rId2" Type="http://schemas.openxmlformats.org/officeDocument/2006/relationships/hyperlink" Target="http://localhost/php/forms/form1_get.html" TargetMode="Externa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localhost/php/forms/form1_post.html" TargetMode="External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php-txt/forms/doform1.php.txt" TargetMode="External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localhost/php/forms/doform1.php?firstname=Fred&amp;lastname=Jones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localhost/php/forms/doform2.php" TargetMode="External"/><Relationship Id="rId2" Type="http://schemas.openxmlformats.org/officeDocument/2006/relationships/hyperlink" Target="file:///php-txt/forms/doform2.php.txt" TargetMode="External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localhost/php/simple/hello.php" TargetMode="External"/><Relationship Id="rId2" Type="http://schemas.openxmlformats.org/officeDocument/2006/relationships/hyperlink" Target="http://localhost/php/index.html" TargetMode="External"/><Relationship Id="rId3" Type="http://schemas.openxmlformats.org/officeDocument/2006/relationships/hyperlink" Target="http://localhost/php/" TargetMode="External"/><Relationship Id="rId4" Type="http://schemas.openxmlformats.org/officeDocument/2006/relationships/hyperlink" Target="http://localhost/php/" TargetMode="External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localhost/php/forms/doform3.php" TargetMode="External"/><Relationship Id="rId2" Type="http://schemas.openxmlformats.org/officeDocument/2006/relationships/hyperlink" Target="file:///php-txt/forms/doform3.php.txt" TargetMode="External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localhost/php/forms/doform4.php" TargetMode="External"/><Relationship Id="rId2" Type="http://schemas.openxmlformats.org/officeDocument/2006/relationships/hyperlink" Target="file:///php-txt/forms/doform4.php.txt" TargetMode="Externa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localhost/php/forms/doform5.php" TargetMode="External"/><Relationship Id="rId2" Type="http://schemas.openxmlformats.org/officeDocument/2006/relationships/hyperlink" Target="http://localhost/php/forms/doform5.php" TargetMode="External"/><Relationship Id="rId3" Type="http://schemas.openxmlformats.org/officeDocument/2006/relationships/hyperlink" Target="file:///php-txt/forms/doform5.php.txt" TargetMode="External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php-txt/forms/doform6.php.txt" TargetMode="Externa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ocalhost/php/simple/hello_plain.php" TargetMode="External"/><Relationship Id="rId2" Type="http://schemas.openxmlformats.org/officeDocument/2006/relationships/hyperlink" Target="http://localhost/php/index.html" TargetMode="External"/><Relationship Id="rId3" Type="http://schemas.openxmlformats.org/officeDocument/2006/relationships/hyperlink" Target="http://localhost/php/" TargetMode="External"/><Relationship Id="rId4" Type="http://schemas.openxmlformats.org/officeDocument/2006/relationships/hyperlink" Target="http://localhost/php/" TargetMode="External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localhost/php/forms/regexp.php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php-txt/forms/regexp.php.txt" TargetMode="External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php-txt/forms/regexp.php.txt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ocalhost/php/simple/date.php" TargetMode="External"/><Relationship Id="rId2" Type="http://schemas.openxmlformats.org/officeDocument/2006/relationships/hyperlink" Target="file:///php-txt/simple/date.php.txt" TargetMode="External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localhost/php/forms/temp1.php" TargetMode="External"/><Relationship Id="rId2" Type="http://schemas.openxmlformats.org/officeDocument/2006/relationships/hyperlink" Target="file:///php-txt/forms/temp1.php.txt" TargetMode="External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localhost/php/forms/temp2.php" TargetMode="External"/><Relationship Id="rId2" Type="http://schemas.openxmlformats.org/officeDocument/2006/relationships/hyperlink" Target="file:///php-txt/forms/temp2.php.txt" TargetMode="External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ocalhost/php/simple/info.php" TargetMode="External"/><Relationship Id="rId2" Type="http://schemas.openxmlformats.org/officeDocument/2006/relationships/hyperlink" Target="file:///php-txt/simple/info.php.txt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C 2206 Internet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PHP Web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Server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Document"/>
          <p:cNvSpPr/>
          <p:nvPr/>
        </p:nvSpPr>
        <p:spPr>
          <a:xfrm flipH="1" rot="10800000">
            <a:off x="3827880" y="382860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lay </a:t>
            </a: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$_SERVE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 simple script that displays th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ray as an HTML t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a function to display an associative array as an HTM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a PHP scrip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rver.ph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uses it to make an HTML page containing the arr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simple/server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view 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C06-3AA4-4B3A-AE1C-C4A3C6D319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DE5F1-2621-4FF1-802E-18DA95D73B2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rver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unction to display an associative array: put it in fi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splay_table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565360"/>
            <a:ext cx="822960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&lt;table border="1" cellpadding="2"&gt;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oreach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s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tr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td&gt;&lt;b&gt;$key&lt;b&gt;&lt;/td&gt;\n&lt;td&gt;$value&lt;/td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/tr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/table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8200" y="571500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view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42E-5518-4063-AE12-D6489B7E56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FA0A0-1791-440F-A323-50F5AC4BF72C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rver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t i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rver.ph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057400"/>
            <a:ext cx="822960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clu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isplay_table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Server Variables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Server Variables&lt;/h1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ks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916-56F4-414E-803B-DE8EF16551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77A51-A807-4544-AB3A-C52D3F1A25C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al output of server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28760" y="1494000"/>
            <a:ext cx="8286480" cy="3154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895480" y="5105520"/>
            <a:ext cx="2362320" cy="685800"/>
          </a:xfrm>
          <a:prstGeom prst="wedgeEllipseCallout">
            <a:avLst>
              <a:gd name="adj1" fmla="val -132189"/>
              <a:gd name="adj2" fmla="val -9097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ch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1DA-8756-471D-B993-609D470D23C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9D081-A89C-4B8C-B0DA-9362C5F9335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lay $GLOBALS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 simple script that displays the associative arrays in $GLOBALS as HTML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isplay_tab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unction in a script call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lobals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simple/globals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view sour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C28-7574-4B17-8240-EAFE1539D9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9EB8F-F370-48CF-8C7F-86D4A9084FD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s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828800"/>
            <a:ext cx="822960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clu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isplay_table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Values in $GLOBALS array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Values in $GLOBALS array&lt;/h1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// See next slide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AEC-B167-4A70-9D9F-EAE0B18B5DC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5E58C-D356-4298-8F96-F9BFFBF0408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s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905120"/>
            <a:ext cx="822960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each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GLOBAL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s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e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h2&gt;$key&lt;/h2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!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mpt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$key is empty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D9E-57CD-47AE-9896-A93EAAFC5FC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CECFF-26A0-4717-A5E2-BA0CC6CE20C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al Output of globals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2240" y="1708200"/>
            <a:ext cx="4664160" cy="3440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86200" y="5486400"/>
            <a:ext cx="1905120" cy="685800"/>
          </a:xfrm>
          <a:prstGeom prst="wedgeEllipseCallout">
            <a:avLst>
              <a:gd name="adj1" fmla="val -151916"/>
              <a:gd name="adj2" fmla="val -9097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299-4D1B-49F0-AECB-9FB553A05FD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BC758-95D8-4F80-A5D7-0B6076E829E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GET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cript can be invoked using a query string of encoded name-value pai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can be done explicitly by including a query string at the end of the UR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?name1=val1&amp;name2=val2...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ernatively the query string can be provided by a form using the GET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D2E-5181-41E5-93FA-4B5798571B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71A0B-1A3B-41CE-AD68-6F2909D6CC2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Query St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he following 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simple/server.php?name=F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for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able 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shows that the query string is made available to the PHP script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QUERY_STRING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444-9144-495B-91AF-BD4073C309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1E6E9-FF01-46C8-BAD2-CBFBCC9B527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ple PHP WEB ap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lo world and date scri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 inf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er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 global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 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e cou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_GET and $_REQUEST arr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ame value pairs are made available to the script using the global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$_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$_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REQUE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r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e of the name value pairs i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=F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$_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EQUES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name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$_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GET[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name'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th have the value 'fred'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ee this try the following link and look for th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_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_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REQUE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localhost/php/simple/globals.php?name=F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374-BD81-43AB-A3A6-CF5FE3D9692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BB473-FA4F-4B58-B1A5-20AF517E8EE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OST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limitations to the GET metho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strings may exceed browser limi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value pairs are visible to any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URL's can be bookmark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 method doesn't have these limit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s can specify either GET or P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either case the name value pairs are always available in th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B62C-3F2C-4812-AA33-CCD13CBBF56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242EE-B2CB-47AD-890D-5AC1B558E87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T and POST 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 scripts interact with the client using the GET and POST methods and the superglobal associative array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_G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ains any name-value pairs sent using the GET meth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_PO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ains any name-value pairs sent using the POST meth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ains all name-value pai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_COOK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ains cookie name-valu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1FD-2F32-4AFB-BB48-3CF747571C6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97447-CE31-4B9C-B1FF-05951F6BACB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ermining the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cript can determine whether it was invoked using the GET or PUT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'REQUEST_METHOD'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will have the value 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'GET'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'PUT'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a test can be m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4394160"/>
            <a:ext cx="693396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REQUEST_METHO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=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E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0EDA-C502-430F-93A3-AD1B1A5E3CA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1B600-231A-4290-BE1F-72561EFBF45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t method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simple/get.php?a=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view sour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442880"/>
            <a:ext cx="75438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The GET method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&lt;h1&gt;The GET method&lt;/h1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REQUEST_METHO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QUERY_STRING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he request method is $request&lt;br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=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E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he query string is $query&lt;br/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9DF-95A4-4AE1-B202-7C8581F504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948D0-8E74-4810-A935-498E2BE8D05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wsers communicate with server-side scripts using HTML 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fill out a form you are specifying a number of name-value pai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submit the form the name-value pairs are sent to the server-side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case of PHP these values are available to the script in the arrays 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_GET, $_POST, $_REQU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F78-9759-4BD5-9C31-C13DFB901D0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6945C-5D16-4713-9E21-2C3EE9E0F36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versions of 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der versions of PHP (before 4.1) directly assigned form variable names to PHP variables of the same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could be exploited (security hole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we should always use the superglobal arrays lik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_G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PO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_REQU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the default with register_globals turned off in php.ini (this is now the defaul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F2F-795F-48D2-ADCA-0AAAF86959B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5BB26-28F9-422F-BA44-A776BA7A192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 processing using 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rm has the following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the form is submitted the script call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oform.php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be called using the GET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822600" y="2276640"/>
            <a:ext cx="731304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form action=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oform.ph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 method=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575-6881-4098-811A-1B77FBBFD6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63D67-F4AD-4DB8-A1CA-A713F419D25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k processing using 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ink of the form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a href="script.php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?name=fred&amp;age=24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"&gt;..&lt;/a&gt;</a:t>
            </a:r>
            <a:br>
              <a:rPr sz="2400"/>
            </a:b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processed using the GET method and the name value-pairs can be accessed u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_GE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name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ich has the value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fred'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_GE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age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ich has the value 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772-CADA-4ED5-863B-2AE8CBA76F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238B4-A056-48A0-BB7B-3553CFD346F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 processing using P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rm has the following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t is submitted the script call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oform.php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be called using the POST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822240" y="2276640"/>
            <a:ext cx="749592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form action=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oform.ph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 method=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OS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072-6327-46F4-A23F-A5DEA2F491F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A7757-C1E9-4D38-905F-6FF38E77640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 Directory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File"/>
          <p:cNvSpPr/>
          <p:nvPr/>
        </p:nvSpPr>
        <p:spPr>
          <a:xfrm>
            <a:off x="3048120" y="2981160"/>
            <a:ext cx="1676160" cy="9050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ile"/>
          <p:cNvSpPr/>
          <p:nvPr/>
        </p:nvSpPr>
        <p:spPr>
          <a:xfrm>
            <a:off x="457200" y="4429080"/>
            <a:ext cx="1676520" cy="9050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ile"/>
          <p:cNvSpPr/>
          <p:nvPr/>
        </p:nvSpPr>
        <p:spPr>
          <a:xfrm>
            <a:off x="2362320" y="4429080"/>
            <a:ext cx="1676160" cy="9050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ile"/>
          <p:cNvSpPr/>
          <p:nvPr/>
        </p:nvSpPr>
        <p:spPr>
          <a:xfrm>
            <a:off x="4343400" y="4419720"/>
            <a:ext cx="1676520" cy="9046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ile"/>
          <p:cNvSpPr/>
          <p:nvPr/>
        </p:nvSpPr>
        <p:spPr>
          <a:xfrm>
            <a:off x="3048120" y="1371600"/>
            <a:ext cx="1676160" cy="9050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do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Document"/>
          <p:cNvSpPr/>
          <p:nvPr/>
        </p:nvSpPr>
        <p:spPr>
          <a:xfrm>
            <a:off x="7400880" y="4352760"/>
            <a:ext cx="1285920" cy="981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7480" y="244008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828800" y="3886200"/>
            <a:ext cx="9144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40384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388620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3581280"/>
            <a:ext cx="221004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62720" y="4664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1447920"/>
            <a:ext cx="2286000" cy="1371600"/>
          </a:xfrm>
          <a:prstGeom prst="cloudCallout">
            <a:avLst>
              <a:gd name="adj1" fmla="val -75555"/>
              <a:gd name="adj2" fmla="val 452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p.zi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on the 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607-9DBC-4622-BE8C-827AD1665F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E324F-2621-42C4-9060-8CFF59D2630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put field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input type="text" name="firstname"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value="fred"/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alue is omitted if there is no default 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the form containing this element is submitted the value is available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firstname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0E1-F9EA-4D31-917D-3D7889843F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536D0-AD97-4CDF-BF18-498B2E3366B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1_get.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974880" y="1889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600200"/>
            <a:ext cx="853416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Processing form with GET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Processing form with GET&lt;/title&gt;&lt;/h1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form action="doform1.php" method="GET"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irst name: &lt;input type="text" name="firstname"&gt;&lt;br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st name: &lt;input type="text" name="lastname"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p&gt;&lt;input type="submit" name="button"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    value="Submit Name"&gt;&lt;/p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/form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6320" y="5689440"/>
            <a:ext cx="6581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http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2"/>
              </a:rPr>
              <a:t>://localhost/php/forms/form1_get.htm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0CD-4DB3-4E0C-BB38-4F54DA4AFC9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53A56-0018-4EFB-A856-AD132E84A66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1_post.ht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974880" y="1889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600200"/>
            <a:ext cx="853416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Processing form with POST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Processing form with POST&lt;/title&gt;&lt;/h1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form action="doform1.php" method="POST"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irst name: &lt;input type="text" name="firstname"&gt;&lt;br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st name: &lt;input type="text" name="lastname"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p&gt;&lt;input type="submit" name="button"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    value="Submit Name"&gt;&lt;/p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/form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6320" y="5689440"/>
            <a:ext cx="6733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http://localhost/php/forms/form1_post.htm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F7B-6FA1-413D-A85F-D7EFA25FE65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76721-5C68-4ECC-ACED-FD9629989A7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form1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974880" y="1889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447920"/>
            <a:ext cx="8534160" cy="391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get the submitted form valu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rst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firstnam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last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lastnam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Form Results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Form Results&lt;/title&gt;&lt;/h1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Hello $first_name $last_name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7360" y="5689440"/>
            <a:ext cx="4905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view source (forms/doform1.ph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B64-918D-4E4B-8F70-95B87F81E47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66384-B164-4AF2-9B5D-04C4A9FEEC3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y it directly with a UR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oform1.php script can be requested using a URL instead of a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forms/doform1.php?firstname=Fred&amp;lastname=Jon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506-0FD3-47E4-BFAC-4506088AC75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5CAB2-CF7D-44D2-9A80-0E620018DB1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 Generation with 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is example the form is generated by a static HTML p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HP script can display both the HTML page containing the form and the HTML page in resonse to the form sub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knows which page to display by detecting whether the submit button has been clicked or no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ABBF-E0AA-4724-B96F-55C39E14724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50B2D-2EB4-49C1-A896-5859F5B8768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 processing log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input element for the button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the PHP script logic has the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184480"/>
            <a:ext cx="7467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submit" name="button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 = "Submit Name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3733920"/>
            <a:ext cx="74674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utton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output_p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form_p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D2F-E887-4FF9-B6DD-717902236B4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437A5-02E3-4908-97B6-7375A4BCBC7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lay_form_page(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447920"/>
            <a:ext cx="853416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display_form_p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l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SELF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head&gt;&lt;title&gt;Forms, version 2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body&gt;&lt;h1&gt;Forms, version 2&lt;/title&gt;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&lt;form action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lf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?&gt;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" method="POST"&gt;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First name: &lt;input type="text" name="firstname"&gt;&lt;br&gt;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Last name: &lt;input type="text" name="lastname"&gt;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&lt;p&gt;&lt;input type="submit" name="button"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  value="Submit Name"&gt;&lt;/p&gt;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&lt;/form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FE1-79AC-438F-ABD8-B00293641CD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56291-55FA-41A8-928C-E1322BBBAF3C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form2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1752480"/>
            <a:ext cx="853416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utton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output_p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form_p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isplay_form_page goes here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isplay_output_page goes here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960" y="5842080"/>
            <a:ext cx="6276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http://localhost/php/forms/doform2.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5960" y="5410080"/>
            <a:ext cx="460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2"/>
              </a:rPr>
              <a:t>view source forms/doform2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66E-4EEB-49A4-AFBE-51F643E7B1E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289C9-37DA-42BD-9FA4-1DC95D5F93B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PHP_SEL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e the script u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$self =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PHP_SELF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gives the script location relative to the document root. For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/php/forms/doform2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ee this view the html before submitting the fo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81F-6B4E-4D17-898A-BB0243D9CAC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4E0E8-DC9A-4B76-8707-AE375C30788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lo Script (HTML Forma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simple/hello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localhost/php/index.htm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or jus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://localhost/php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/ at end is necessa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00200"/>
            <a:ext cx="693432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Hello Script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h1&gt;Hello PHP World!&lt;/h1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F6D-9CC3-4528-AE4D-6561BEFD98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7505A-8A1E-42BE-8A57-1F40DE80CB4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Multiple Button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the buttons different nam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which one was click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184480"/>
            <a:ext cx="784836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submit" name="button1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 = "Submit Name 1"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submit" name="button2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 = "Submit Name 2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394160"/>
            <a:ext cx="74674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utton1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|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utton2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output_p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form_p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F20-9835-4C06-9CEF-7DA246A02AB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E73EA-F939-45BC-9234-803359C75C3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Multiple Butt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1447920"/>
            <a:ext cx="74674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butto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utton1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?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utton1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: ''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button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utton2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?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utton2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: '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2971800"/>
            <a:ext cx="74674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butto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!= ''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process button1 click event he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button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!= ''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process button2 click event he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0720" y="5765760"/>
            <a:ext cx="60609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http://localhost/php/forms/doform3.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7200" y="5181480"/>
            <a:ext cx="460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2"/>
              </a:rPr>
              <a:t>view script forms/doform3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BBA-D8F9-4CE4-848F-7C9B3F8453F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A1817-59E1-4362-9219-64CA907DED7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ror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 contain only letters, hyphens, and '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2108160"/>
            <a:ext cx="746748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idate_for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rst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r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firstnam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last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r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lastnam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err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g_ex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/^[a-zA-Z\-\']+$/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!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eg_mat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g_ex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rst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err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.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First name is invalid ...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!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eg_mat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g_ex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last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err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.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Last name is invalid ...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err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3B7-6C66-4C57-8601-FED6F880BFD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37B2D-9305-4B29-B99B-E48A3C209F2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icky input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re are errors in a form it needs to be sent to the user to be corrected so we can supply the values that the user entered as defaul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3429000"/>
            <a:ext cx="74674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 name: &lt;input type="text" name="firstname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rst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 name: &lt;input type="text" name="lastname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last_name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0720" y="5613480"/>
            <a:ext cx="60609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http://localhost/php/forms/doform4.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7200" y="5029200"/>
            <a:ext cx="460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2"/>
              </a:rPr>
              <a:t>view script forms/doform4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235-1A4A-423C-B114-751E67CD4FD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03DD5-77EA-43A3-AB80-8F4050DBE53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box grou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rray notation [] in the form to indicate a group of checkbo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2793960"/>
            <a:ext cx="7467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ch wines do you lik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raz &lt;input type="checkbox" name="wines[]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hiraz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lot &lt;input type="checkbox" name="wines[]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erlo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ianti &lt;input type="checkbox" name="wines[]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value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hiant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197-82F7-4DEE-8246-59849D09C88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A1EF6-3F16-4814-B897-5B3526C8BCC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box grou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ng which boxes are check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2133720"/>
            <a:ext cx="746748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!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mpt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wines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ines selected were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oreach ($wines as $wine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$wine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"No wines were selected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0720" y="5613480"/>
            <a:ext cx="60609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http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2"/>
              </a:rPr>
              <a:t>://localhost/php/forms/doform5.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7200" y="5029200"/>
            <a:ext cx="460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3"/>
              </a:rPr>
              <a:t>view script forms/doform5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A51-0706-4B95-BD1B-C17D286EC6E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5B803-36B9-41D3-9BC2-DBDA30625EA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rop down l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select and option. The selected attribute indicates which choice has been made. If no choice is made the first one is sel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2971800"/>
            <a:ext cx="7467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your favourite wine from the list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elect name="wine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option selected="selected"&gt;Shiraz&lt;/op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option&gt;Merlot&lt;/op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option&gt;Chianti&lt;/op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option&gt;Other&lt;/op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elec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0720" y="5842080"/>
            <a:ext cx="60609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localhost/php/forms/doform6.php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7200" y="5257800"/>
            <a:ext cx="460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view script forms/doform6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BE8-EC06-4817-84CE-A2B411DB1F8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02184-EC1A-4689-AE31-CB1D878A40E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icky Checkbox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2057400"/>
            <a:ext cx="807696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he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group, $val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_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group)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_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group,$val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hecked = "checked"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2CC-7D23-445E-B006-9A0E7B729D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ADB00-D9E8-4686-9C0C-3E75D01EFF7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icky Checkbox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check function as fol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2133720"/>
            <a:ext cx="807732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raz &lt;input type="checkbox"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ines[]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="shiraz"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heck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wines,"shiraz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lot &lt;input type="checkbox"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ines[]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="merlot"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heck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wines,"merlot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?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ianti &lt;input type="checkbox"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ines[]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="chianti"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heck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wines,"chianti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384880"/>
            <a:ext cx="60609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localhost/php/forms/doform7.php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3680" y="4800600"/>
            <a:ext cx="460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ew script forms/doform7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C0C-A747-4CA6-A7F3-D275B7AEDE4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63AC9-2854-4979-BE5E-22F1365076A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icky Radio Button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2057400"/>
            <a:ext cx="807696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he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group, $val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$group === $val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hecked = "checked"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9D4-929E-4D74-838E-A5098790DA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1A84A-ACD3-46B7-84D2-857D0E3AD2F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lo Script (Plain Forma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simple/hello_plain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localhost/php/index.htm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or jus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://localhost/php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/ at end is necessa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803240"/>
            <a:ext cx="58672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head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"Content-type: text/plain"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h1&gt;Hello PHP World!&lt;/h1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352680"/>
            <a:ext cx="2133360" cy="762120"/>
          </a:xfrm>
          <a:prstGeom prst="wedgeRoundRectCallout">
            <a:avLst>
              <a:gd name="adj1" fmla="val -80652"/>
              <a:gd name="adj2" fmla="val -5854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ault typ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ext/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250-618C-4D73-AA61-41C1423CAF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61DEF-D3F4-475C-ADAD-AB0CB8DE44F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icky Radio Butt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check function as fol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133720"/>
            <a:ext cx="807732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raz &lt;input type="radio"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ine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="shiraz"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heck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wine,"shiraz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lot &lt;input type="radio"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ine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="merlot"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heck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wine,"merlot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?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ianti &lt;input type="radio"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ine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="chianti"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heck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wine,"chianti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5384880"/>
            <a:ext cx="60609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localhost/php/forms/doform8.php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3680" y="4800600"/>
            <a:ext cx="460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ew script forms/doform8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47B-B031-40C1-B4B2-E084A485045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7AED5-6E1B-4722-92D4-70C855595CD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icky Drop Down List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57400"/>
            <a:ext cx="807696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he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group, $val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$group === $val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selected = "selected"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264-C871-4DC2-80B2-736D73CB7E5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2C0DB-6C9B-4D00-97EC-3F739A68291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icky Drop Down List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check function as fol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2184480"/>
            <a:ext cx="86868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elect name="wine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optio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heck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wine,"Shiraz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Shiraz&lt;/op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optio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heck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wine,"Merlot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Merlot&lt;/op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optio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heck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wine,"Chianti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Chianti&lt;/op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optio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heck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wine,"Other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Other&lt;/op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elec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5384880"/>
            <a:ext cx="60609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localhost/php/forms/doform9.php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680" y="4800600"/>
            <a:ext cx="460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ew script forms/doform9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E82-120D-4F40-8762-E2BD3E0EC67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09AD6-17DF-42CB-B497-982CCE061F2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ic form script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1523880"/>
            <a:ext cx="838188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?php // A simple script to display parameters 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&lt;h1&gt;Form post and get parameters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empty($_REQUEST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echo "No parameters were sent to this script"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while(list($key, $value) = each($_REQUEST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  if (is_array($value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$value = implode(",", $valu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echo "$key = $value&lt;br&gt;";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&gt;&lt;/body&gt;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5918040"/>
            <a:ext cx="60609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localhost/php/forms/general.php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3680" y="5460840"/>
            <a:ext cx="460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ew script forms/general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B93-2C57-4530-BF72-B778B6A20A75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69E66-A2F7-440C-9A73-E867BCA7D33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ic form script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he script with the following query 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name=fred&amp;age=24&amp;wines[]=shiraz&amp;wines[]=merlot&amp;wines[]=chia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localhost/php/forms/general.php?name=fred&amp;age=25&amp;wines[]=shiraz&amp;wines[]=merlot&amp;wines[]=chiant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B91-A6D9-40E7-AD67-F1D5471356C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4BE56-A2C9-48A8-AF06-DA190B773C7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ing Perl Reg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1127160" y="5369040"/>
            <a:ext cx="58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http://localhost/php/forms/regexp.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5864040" cy="3085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974880" y="47354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28960" y="491184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3"/>
              </a:rPr>
              <a:t>view script forms/regexp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996-D00F-4E50-A6FA-2E7B37F654CF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2A443-F8C7-4F39-8286-04B67752E51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exp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1523880"/>
            <a:ext cx="861048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Testing Perl style regular expressions&lt;/title&gt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yle type="text/css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no { font-family: "Courier New", monospac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font-weight: bold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font-size: medium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background-color: #CCCCC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ty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711-9B95-490C-A73A-BDBDE0F4812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BBB9E-A4F4-4068-AD7D-ED26F196E38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exp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1523880"/>
            <a:ext cx="861048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Testing Perl style regular expressions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&gt;NOTE:&lt;/b&gt;&lt;br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ular expression should include the Perl sty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imiters&lt;br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tionally followed by an &lt;code&gt;i&lt;/code&gt; for a ca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nsitive match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l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SELF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gex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regex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regex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: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rg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targe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targe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: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F3C2-0964-409B-8FD6-D7B7336CB76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BAD33-FD5F-44C8-AB05-32E38EDCF5E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exp.php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1371600"/>
            <a:ext cx="861048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 action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l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 method="POST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able border="1" cellpadding="5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d&gt;Regular expression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d&gt;&lt;input class="mono" type="text" name="regexp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value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gex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 size="25"/&gt;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d Target string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d&gt;&lt;input class="mono" type="text" name="target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value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rg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 size="25"/&gt;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input type="submit" name="test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="Perform test" /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A2D-8936-44CB-8168-8C8ED0EE929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7CFCF-087E-4267-8D12-EEE1FBC9B75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exp.php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1371600"/>
            <a:ext cx="861048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check for a matc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tes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)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button click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if (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eg_mat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gex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rg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p&gt;&lt;b&gt;It's a match&lt;/b&gt;&lt;/p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p&gt;&lt;b&gt;It's not a match&lt;/b&gt;&lt;/p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26200" y="5537160"/>
            <a:ext cx="4447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view script forms/regexp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F7F-1760-451A-806E-FE53A40B0810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D27C5-DF28-4A93-8C83-E189C67B412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e Scrip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simple/date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view scrip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523880"/>
            <a:ext cx="830556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Date Script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Displaying the date and time&lt;/h1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he date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jS F Y, h:i A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962520"/>
            <a:ext cx="2438280" cy="838080"/>
          </a:xfrm>
          <a:prstGeom prst="wedgeRoundRectCallout">
            <a:avLst>
              <a:gd name="adj1" fmla="val -68555"/>
              <a:gd name="adj2" fmla="val -10549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PHP doc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more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814-F71A-4D31-8885-793F8771BA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74BDE-CEF2-4C5D-9C1C-8EEDC3FF566C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p conv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5303880" cy="1439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09480" y="4572000"/>
            <a:ext cx="5222880" cy="91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34320" y="1600200"/>
            <a:ext cx="1371600" cy="838080"/>
          </a:xfrm>
          <a:prstGeom prst="wedgeRoundRectCallout">
            <a:avLst>
              <a:gd name="adj1" fmla="val -93865"/>
              <a:gd name="adj2" fmla="val 5321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0" y="4114800"/>
            <a:ext cx="1371600" cy="838080"/>
          </a:xfrm>
          <a:prstGeom prst="wedgeRoundRectCallout">
            <a:avLst>
              <a:gd name="adj1" fmla="val -93865"/>
              <a:gd name="adj2" fmla="val 5321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527-9440-444F-A0AC-6C7E40C7AD7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4B01B-05EA-4422-B1D1-D3D35E26A29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inguishing GET and P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inguish between GET and POST methods to decide whether to display a form or use the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3022560"/>
            <a:ext cx="81536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quest_metho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REQUEST_METHO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quest_metho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E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/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 display form to get fahrenheit temperatu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quest_metho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OS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use submitted temperature to convert to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// celsius and display the resul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B266-EB23-4B19-8AC7-5245A82C136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7C3F4-2F6C-4668-A00D-E844B50F9CA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p1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600200"/>
            <a:ext cx="815364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&lt;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Fahrenheit to Celsius Conversion&lt;/tit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Fahrenheit to Celsius Conversion&lt;/h1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quest_metho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REQUEST_METHO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l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SELF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quest_metho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E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form action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l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 method="POST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ahrenheit Temperatur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input type="text" name="fahrenheit"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p&gt;&lt;input type="submit" name="convert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value="Convert to Celsius" /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for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795-94D5-4B9B-BACC-EDD5C2AA8BA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C8B3D-7AD3-4B81-AAF4-4633C45603A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p1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1447920"/>
            <a:ext cx="815364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lse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quest_metho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OS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Form was submitted so do calculation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ah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PO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fahrenhei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or $_REQUE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elsiu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ah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- 32)*(5.0/9.0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nt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%.2fF is %.2fC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ah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elsiu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 &lt;a href=\"$self\"&gt;Another conversion&lt;/a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5851440"/>
            <a:ext cx="588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http://localhost/php/forms/temp1.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84800" y="5029200"/>
            <a:ext cx="4295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2"/>
              </a:rPr>
              <a:t>view script forms/temp1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182-C60C-4432-B56E-0304442704F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61FB0-3BDD-4D6E-AEDD-E67DD4D2E9FF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way to decide whether to display the form or do the calculations and display the results: use button name. It will be sent to the PHP script only if it is click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3556080"/>
            <a:ext cx="815364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($_REQUEST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onvert'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]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// button click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do the conversion and display resul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display the for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581-3C16-4CB4-A611-0E6B04D3E18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DF83F-C8E9-4B3A-AADC-58B309890FB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p2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815364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&lt;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Fahrenheit to Celsius Conversion&lt;/tit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ead&gt;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Fahrenheit to Celsius Conversion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$self = $_SERVER['PHP_SELF'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(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'convert']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$fahr = $_REQUEST['fahrenheit'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$celsius = ($fahr - 32)*(5.0/9.0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nt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%.2fF is %.2fC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ah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elsiu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 &lt;a href=\"$self\"&gt;Another conversion&lt;/a&gt;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9E3-8066-4563-8A66-DD477EA7A245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51742-67C6-4232-B4E2-97C5FD7EDA6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p2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1447920"/>
            <a:ext cx="8153640" cy="421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form action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l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 method="POST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ahrenheit Temperatur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input type="text" name="fahrenheit"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p&gt;&lt;input type="submit" name="convert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value="Convert to Celsius" /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for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5775480"/>
            <a:ext cx="588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http://localhost/php/forms/temp2.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26200" y="5156280"/>
            <a:ext cx="4295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2"/>
              </a:rPr>
              <a:t>view script forms/temp2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04D-B816-4EE7-AA13-61712C37B65D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72AC4-51F7-4BBD-AD12-6BD14301827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way is to use an HTML page with some dynamic parts. The output is displayed on same page as the fo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312-DE9C-4003-BDE6-48F2E3F1532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E5232-1761-410F-AF87-2BEB069093BF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p3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1498680"/>
            <a:ext cx="815364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l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SELF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ah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fahrenheit']) ?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fahrenhei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: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&lt;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Fahrenheit to Celsius Conversion&lt;/tit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ead&gt;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Fahrenheit to Celsius Conversion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 action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l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 method="POST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hrenheit temperatur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text" name="fahrenheit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ah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input type="submit" name="test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="Convert to Celsius" /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rm&gt;&lt;p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ah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486-DD7C-4A93-9418-DE7354CFE8F1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386A1-6EF4-4F02-AFA3-84D3C2177A3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p3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1600200"/>
            <a:ext cx="815364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function to insert result into HTML pag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ah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if (!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ah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ah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fahrenhei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elsiu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ah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- 32)*(5.0/9.0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nt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%.2fF is %.2fC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ah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elsiu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 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8A07-4B0C-4FCB-8537-FD7EA3AA79E1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1EE55-24B3-4FB2-88A7-1D2000FDBE1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lay PHP Inf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simple/info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view scrip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803240"/>
            <a:ext cx="693432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PHP Info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hpinf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78B-DCDD-4B04-B671-22F65B004D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0918A-571A-4897-9914-742BA4C470F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rver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HP script is provided with a superglobal associative array called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variables that describe the server environ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DOCUMENT_ROOT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a string giving the document root directory, f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:\Apache\htdo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6A6-DBBE-4BDE-8CA6-95D037BC2D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31CC5-F6DF-44EF-9457-ABC273B74B1F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GLOBA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superglobal associative array whose keys are the names of the global arrays that are available in PH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rresponding values are these 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GLOBAL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_SERVER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probably won't us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GLOBA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F8A-9148-4FC0-A968-106A374B8E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14628-109B-4238-828A-D3C1E433318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17:04:13Z</dcterms:created>
  <dc:creator>Barry Adams</dc:creator>
  <dc:description/>
  <dc:language>en-US</dc:language>
  <cp:lastModifiedBy>Laurentian University </cp:lastModifiedBy>
  <cp:lastPrinted>1999-09-14T12:12:50Z</cp:lastPrinted>
  <dcterms:modified xsi:type="dcterms:W3CDTF">2004-06-28T13:24:32Z</dcterms:modified>
  <cp:revision>118</cp:revision>
  <dc:subject>Simple PHP Web Applications</dc:subject>
  <dc:title>COSC 2206 Internet To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laurentian.ca/badams/c1046</vt:lpwstr>
  </property>
  <property fmtid="{D5CDD505-2E9C-101B-9397-08002B2CF9AE}" pid="9" name="LinkColor">
    <vt:r8>16711782</vt:r8>
  </property>
  <property fmtid="{D5CDD505-2E9C-101B-9397-08002B2CF9AE}" pid="10" name="MailAddress">
    <vt:lpwstr>barry@cs.laurentian.ca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ork\Html01\badams\c1046\ppt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