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10F3-5DAF-45F7-8601-9C9F714AA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920" y="385812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AA88-4749-42AB-B174-FAF10D8B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3724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85EE-6DF1-4907-8CB8-8BC09ACEA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956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420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92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956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420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4349-1B6C-4E2E-A5F1-BEA65D6D4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CA0D-AB0E-447F-A37E-999EB3A99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7701-C3DE-4386-9F8C-53B436C9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BEA7-F236-4682-8AD0-62418B64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4598-EF6C-4C58-B3A7-DEC90D2B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3031-9005-4E98-9618-ECD40A79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5EB6-10A4-4D62-B7CC-5F6B49BA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9032-9D78-4EED-9212-D577C91A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48F0-114A-442D-BB17-EB394EED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3724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CC16-D3DE-4445-BA81-B4A9EF3E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8B19-7B92-47F3-80C2-45B855A8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04920" y="385812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CD9F-CE95-439C-8746-C78D3E45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3724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9EB4-D8A0-46B0-95E2-C7C0792C3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2956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5420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0492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2956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5420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67F6-EEBB-4D52-A5D5-FD5386842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A728-B9FF-41CD-BADF-F2B51BAA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F763-526B-4698-8B10-9288D354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BAF8-38A1-4667-B8CB-57F851CF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9BCB-1B16-4937-9EE5-B029264A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70AC-93C6-4150-9462-000768AC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3724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1200-0EF4-491F-AA47-7CE57E0D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3F60-F574-4216-98B7-FDF4318F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4129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7621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430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808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6351-BC21-4223-9FBB-A4462DE9935A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84EE-91AB-44A7-A81C-0A6F4D0718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990720"/>
            <a:ext cx="9009000" cy="1052280"/>
            <a:chOff x="0" y="990720"/>
            <a:chExt cx="9009000" cy="105228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1098360"/>
              <a:ext cx="711360" cy="474480"/>
              <a:chOff x="290520" y="109836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109836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10983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520640"/>
              <a:ext cx="737640" cy="474480"/>
              <a:chOff x="414360" y="152064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52064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5206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14475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99072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8118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FEF9-3EE5-45E3-979A-D06C047E0C95}" type="datetime">
              <a:rPr b="0" lang="en-US" sz="1400" spc="-1" strike="noStrike">
                <a:solidFill>
                  <a:srgbClr val="1c1c1c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FA75-FB6C-463E-AD34-9EE51CC116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php-txt/bookstore/catalog.php.txt" TargetMode="External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localhost/php/bookstore/index.html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php-txt/bookstore/cart.php.txt" TargetMode="External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php-txt/bookstore/checkout.php.txt" TargetMode="External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localhost/php/bookstore/admin/index.html" TargetMode="External"/><Relationship Id="rId2" Type="http://schemas.openxmlformats.org/officeDocument/2006/relationships/hyperlink" Target="file:///php-txt/bookstore/admin/display.php.txt" TargetMode="External"/><Relationship Id="rId3" Type="http://schemas.openxmlformats.org/officeDocument/2006/relationships/hyperlink" Target="file:///php-txt/bookstore/admin/delete.php.txt" TargetMode="External"/><Relationship Id="rId4" Type="http://schemas.openxmlformats.org/officeDocument/2006/relationships/hyperlink" Target="file:///php-txt/bookstore/admin/insert.php.txt" TargetMode="External"/><Relationship Id="rId5" Type="http://schemas.openxmlformats.org/officeDocument/2006/relationships/hyperlink" Target="file:///php-txt/bookstore/admin/update.php.txt" TargetMode="External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php-txt/db_connect_fake.php.txt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php-txt/bookstore/catalog.php.txt" TargetMode="External"/><Relationship Id="rId2" Type="http://schemas.openxmlformats.org/officeDocument/2006/relationships/hyperlink" Target="file:///php-txt/bookstore/cart.php.txt" TargetMode="External"/><Relationship Id="rId3" Type="http://schemas.openxmlformats.org/officeDocument/2006/relationships/hyperlink" Target="file:///php-txt/bookstore/checkout.php.txt" TargetMode="External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php-txt/bookstore/bookstore.sql.txt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C 2206 Internet Too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ine Bookstor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Document"/>
          <p:cNvSpPr/>
          <p:nvPr/>
        </p:nvSpPr>
        <p:spPr>
          <a:xfrm flipH="1" rot="10800000">
            <a:off x="3827880" y="382860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ustomers t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1600200"/>
            <a:ext cx="845820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REATE TABLE customer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customer_id  CHAR(32)    PRIMARY KEY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first_name   VARCHAR(50) NOT NULL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last_name    VARCHAR(50) NOT NUL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4114800"/>
            <a:ext cx="3657600" cy="1828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ustomer_id is no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ame as the session_i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ause a customer ma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ke multiple orders p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4343400"/>
            <a:ext cx="2514600" cy="1447920"/>
          </a:xfrm>
          <a:prstGeom prst="wedgeRoundRectCallout">
            <a:avLst>
              <a:gd name="adj1" fmla="val -99180"/>
              <a:gd name="adj2" fmla="val -114694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other fields and credit car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 in a rea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34E0-2065-40D9-A15F-25AB72B9640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B53A2F-AA74-4508-8694-B2F99B04336C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s_ordered t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600200"/>
            <a:ext cx="845820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REATE TABLE books_order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customer_id  CHAR(32)  PRIMARY KEY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isbn         CHAR(15)  NOT NULL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quantity     INT       NOT NUL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114800"/>
            <a:ext cx="3657600" cy="1828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ntents of a user'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t is transferred to thi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ble at checkout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114800"/>
            <a:ext cx="3429000" cy="1523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ustomers an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ks_ordered tabl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be joined to mak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4FD7-FB19-42AE-B85C-4EE2897FD9E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F08101-CD94-4B3B-9F18-F44857DA99D9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talog display p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650080" cy="32893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263960" y="5116680"/>
            <a:ext cx="4533120" cy="100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of these is form with a hidde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eld for the ISBN so we know whic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button was cli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8267760" y="4457520"/>
            <a:ext cx="380880" cy="609840"/>
          </a:xfrm>
          <a:custGeom>
            <a:avLst/>
            <a:gdLst>
              <a:gd name="textAreaLeft" fmla="*/ 243360 w 380880"/>
              <a:gd name="textAreaRight" fmla="*/ 381240 w 38088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791320" y="4952520"/>
            <a:ext cx="2666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97C2-780C-48CE-8151-41719159B1D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5BE3CD-EB08-4ADF-8996-7C69946CECD2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dden catalog field for ISB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splay of each catalog entry uses a table row containing a form in last colum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form is submitted the isbn is also be submitted as a hidden fiel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2489040"/>
            <a:ext cx="845820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form method="POST"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d&gt;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input type="hidden" name="isbn"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value="&lt;?php echo $isbn?&gt;"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input type="text" name="quantity" value="1" size="2"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input type="submit" name="remove" value="remove"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C362-E87E-4404-B536-DD1FB3DD96D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FAFEFF-6F80-433F-8E6B-9B797D47EC73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talog script logi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1600200"/>
            <a:ext cx="8458200" cy="238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 books from books table for catal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add button was clicked TH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add book to cart tab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display catalog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display catalog pag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4419720"/>
            <a:ext cx="594360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d boo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book already in cart TH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Update book quantity in cart tab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Insert new book into car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2209680"/>
            <a:ext cx="3581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43400" y="2590920"/>
            <a:ext cx="68580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4439-C72D-4BD7-9C64-A1890A3904B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008871-7E44-4C50-8730-4946547F639B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talog script display qu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1600200"/>
            <a:ext cx="8458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LECT * from $book_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29200" y="3733920"/>
            <a:ext cx="3505320" cy="1676160"/>
          </a:xfrm>
          <a:prstGeom prst="wedgeRectCallout">
            <a:avLst>
              <a:gd name="adj1" fmla="val -115398"/>
              <a:gd name="adj2" fmla="val -1018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query is used to ge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the book informa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e displayed as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ta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F8BB-FECD-400F-9102-90231CCC596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CD36A4-BAB6-4857-9714-DFE07E5F9637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talog script find qu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600200"/>
            <a:ext cx="8458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LECT * from $cart_tab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ERE session_id = '$session_id' AND isbn = '$isbn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029200" y="3733920"/>
            <a:ext cx="3505320" cy="1904760"/>
          </a:xfrm>
          <a:prstGeom prst="wedgeRectCallout">
            <a:avLst>
              <a:gd name="adj1" fmla="val -115398"/>
              <a:gd name="adj2" fmla="val -9558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query is used to fin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 if a book alread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ists in the car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fore inserting 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dating it when ad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ton is cli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8D85-314A-4844-81B8-8BB9245B19B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1731C5-9F79-47F4-A59B-479FB214BF9D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talog script insert qu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1600200"/>
            <a:ext cx="8458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SERT INTO $cart_table VALU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'$session_id', '$isbn', '$quantity'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29200" y="3733920"/>
            <a:ext cx="3505320" cy="1904760"/>
          </a:xfrm>
          <a:prstGeom prst="wedgeRectCallout">
            <a:avLst>
              <a:gd name="adj1" fmla="val -115398"/>
              <a:gd name="adj2" fmla="val -9558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query is used to ad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book to the cart for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time when the ad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ton is cli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965F-7496-4720-A54E-237D48532F0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998E60-565C-4E68-AAC2-88E7CAEFB1C8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talog script update qu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1600200"/>
            <a:ext cx="8458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PDATE $cart_table SET quantity = '$new_quantity'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ERE session_id = '$session_id' AND isbn = '$isbn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3733920"/>
            <a:ext cx="3505320" cy="1904760"/>
          </a:xfrm>
          <a:prstGeom prst="wedgeRectCallout">
            <a:avLst>
              <a:gd name="adj1" fmla="val -115398"/>
              <a:gd name="adj2" fmla="val -9558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query is used to update the quantity of a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isting book in the cart table when the add button is cli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A339-BAB7-4A1C-8CAC-42E02F3B2F7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8FA424-3854-4311-A9E8-543F62980787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talog.ph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826920" y="2293920"/>
            <a:ext cx="71740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iew script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bookstore/catalog.ph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A8AB-751B-46D2-A38C-A6861CD4240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1792B2-13D2-4DAC-8C89-38768A499863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nline Booksto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s of several php files and database t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contains an administration component for updating book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File"/>
          <p:cNvSpPr/>
          <p:nvPr/>
        </p:nvSpPr>
        <p:spPr>
          <a:xfrm>
            <a:off x="1752480" y="3809880"/>
            <a:ext cx="1295640" cy="828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ile"/>
          <p:cNvSpPr/>
          <p:nvPr/>
        </p:nvSpPr>
        <p:spPr>
          <a:xfrm>
            <a:off x="3581280" y="4343400"/>
            <a:ext cx="1676520" cy="828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k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ile"/>
          <p:cNvSpPr/>
          <p:nvPr/>
        </p:nvSpPr>
        <p:spPr>
          <a:xfrm>
            <a:off x="5715000" y="4886280"/>
            <a:ext cx="1295280" cy="828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4" idx="6"/>
          </p:cNvCxnSpPr>
          <p:nvPr/>
        </p:nvCxnSpPr>
        <p:spPr>
          <a:xfrm flipH="1" rot="16200000">
            <a:off x="2833560" y="4204800"/>
            <a:ext cx="315000" cy="118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/>
          <p:nvPr/>
        </p:nvCxnSpPr>
        <p:spPr>
          <a:xfrm flipH="1" rot="16200000">
            <a:off x="4966200" y="4738320"/>
            <a:ext cx="31500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248560" y="1964520"/>
            <a:ext cx="51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localhost/php/bookstore/index.htm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E289-345A-4006-94E0-04459F51109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CA7FE0-3191-4475-9815-C2E40D691FDE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rt display p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650080" cy="2954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215000" y="4937040"/>
            <a:ext cx="4533120" cy="100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of these is form with a hidde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eld for the ISBN so we know whic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ove button was cli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8218440" y="3848040"/>
            <a:ext cx="380880" cy="609480"/>
          </a:xfrm>
          <a:custGeom>
            <a:avLst/>
            <a:gdLst>
              <a:gd name="textAreaLeft" fmla="*/ 243360 w 380880"/>
              <a:gd name="textAreaRight" fmla="*/ 381240 w 3808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791320" y="4343400"/>
            <a:ext cx="261756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C645-AF3A-46DE-96C4-5A6D89DBB6A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36B01C-B6C1-4B58-BB05-231D70480C8A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dden cart field for ISB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splay of each cart entry uses a table row containing a form in last colum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form is submitted the isbn is also submitted as a hidden fiel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514600"/>
            <a:ext cx="845820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form method="POST"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d&gt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input type="hidden" name="isbn"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value="&lt;?php echo $isbn?&gt;"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input type="submit" name="remove" value="remove"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5C56-31C3-49FA-A637-FD9FF633AD4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1BFA64-1FFA-441E-A70B-E2F5667DF309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rt script logi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1600200"/>
            <a:ext cx="8458200" cy="25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remove button was clicked TH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Remove book from car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Get current cart content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Display customer's books in car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Get current cart content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Display customer's books in car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1262-E216-4B15-83DC-2CF80BED140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7C2E8F-2AB0-468C-B796-E6BEE07FE18E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rt script delete qu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1600200"/>
            <a:ext cx="8458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TE FROM $cart_table WHER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session_id = '$session_id' AND isbn = '$isbn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29200" y="3733920"/>
            <a:ext cx="3505320" cy="1676160"/>
          </a:xfrm>
          <a:prstGeom prst="wedgeRectCallout">
            <a:avLst>
              <a:gd name="adj1" fmla="val -115398"/>
              <a:gd name="adj2" fmla="val -1018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query is used to remove a book from the cart given the book isbn and the shopper session_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AA99-44CA-4448-9905-1E3088BB82F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5AD29C-FAC0-4623-B7CA-7FA6546CD440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rt script select qu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1600200"/>
            <a:ext cx="845820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LECT $cart_table.isbn AS isbn, quantity, title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uthor, pub, year, pric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OM $cart_table, $book_tab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ERE $cart_table.session_id = '$session_id'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ND $cart_table.isbn = $book_table.is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257800" y="3657600"/>
            <a:ext cx="3505320" cy="1676520"/>
          </a:xfrm>
          <a:prstGeom prst="wedgeRectCallout">
            <a:avLst>
              <a:gd name="adj1" fmla="val -47870"/>
              <a:gd name="adj2" fmla="val -7405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query joins the car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books tables on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bn field to get all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ation needed t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lay the shopper's c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733920"/>
            <a:ext cx="1447920" cy="990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09680" y="3733920"/>
            <a:ext cx="1447920" cy="990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5649840"/>
            <a:ext cx="21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in on isbn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43000" y="480060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361960" y="48769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CA54-9156-46DD-89C5-3C3D1837AA9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161E95-9C66-46EA-90C8-FEEDFF5BDE26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rt.ph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1360440" y="2293920"/>
            <a:ext cx="66405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iew script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bookstore/cart.ph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DB6A-0A5F-4DD1-B61E-A30C77ED178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148BF2-5930-4B62-8C1E-E38A1D48FF73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eckout displa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62120" y="1768320"/>
            <a:ext cx="4114800" cy="32785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019920" y="4648320"/>
            <a:ext cx="2819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more fields would be needed in a real application such as credit card and address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E8BB-4636-425A-B3F3-A27CD8B515E7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FEEBC9-198C-46FF-9530-54DB72674AF1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eckout script logic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1523880"/>
            <a:ext cx="8458200" cy="466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 customer's books from car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there are no books in cart TH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Display empty cart pag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IF submit button clicked TH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Validate for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IF form is valid TH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Make a customer ord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Remove customer's books from car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Display order complete pag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EL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Display page for correction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ENDI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display customer data pag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1522-0931-4D80-B307-78060FE3B19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58511B-87F7-4671-9928-5B6E74E6304B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eckout script logic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1600200"/>
            <a:ext cx="845820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nerate a unique customer I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customer has entries left in cart D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Insert entry in to order_tab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WHI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sert customer data into customers tab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5880" y="4343400"/>
            <a:ext cx="2514600" cy="685800"/>
          </a:xfrm>
          <a:prstGeom prst="wedgeRectCallout">
            <a:avLst>
              <a:gd name="adj1" fmla="val -56125"/>
              <a:gd name="adj2" fmla="val -16597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ke a customer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94EA-4F23-4749-B107-20D16DE6A3D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0060C4-EE48-4437-94E3-FCF7EA15B7CB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eckout script select qu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600200"/>
            <a:ext cx="8458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LECT isbn, quantity FROM $cart_tab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ERE session_id = '$session_id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29200" y="4267080"/>
            <a:ext cx="3505320" cy="1676520"/>
          </a:xfrm>
          <a:prstGeom prst="wedgeRectCallout">
            <a:avLst>
              <a:gd name="adj1" fmla="val -124092"/>
              <a:gd name="adj2" fmla="val -9327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query obtains all the books in the cart for a given shopper given by session_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4F49-935D-4A5F-8DD8-F58DF7B4149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5832B0-6EB1-4B3D-B145-598AB57658EB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ening p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14400" y="1550880"/>
            <a:ext cx="4191120" cy="1995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31880" y="3870360"/>
            <a:ext cx="780084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ead&gt;&lt;title&gt;Online Bookstore&lt;/title&gt;&lt;/head&gt;&lt;body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1&gt;Online Bookstore&lt;/h1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p&gt;&lt;a href=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"catalog.php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Enter Bookstore&lt;/a&gt;&lt;/p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p&gt;&lt;a href=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"admin/index.html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Bookstor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Administration&lt;/a&gt;&lt;/p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5BFD-774B-4FFE-8721-986395CF6BF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40CAD-54FC-4C7B-B101-C9FFD6568094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eckout script insert qu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1600200"/>
            <a:ext cx="8458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SERT INTO $order_tab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S ('$customer_id', '$isbn', '$quantity'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2971800"/>
            <a:ext cx="3505320" cy="1676520"/>
          </a:xfrm>
          <a:prstGeom prst="wedgeRectCallout">
            <a:avLst>
              <a:gd name="adj1" fmla="val -50453"/>
              <a:gd name="adj2" fmla="val -7727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query is used in a loop to transfer books from the shopping cart to the books_ordered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2895480"/>
            <a:ext cx="12189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4952880"/>
            <a:ext cx="2209680" cy="990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ks_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03280" y="3794040"/>
            <a:ext cx="286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 entries from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t table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ks_ordered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4276-303A-4ABC-9439-38CAA1B90443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D7AE82-6682-4EEA-924F-9A0E4B47BF7E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eckout script insert qu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1600200"/>
            <a:ext cx="8458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SERT INTO $customer_tab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S ('$customer_id', '$first_name', '$last_name'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38480" y="3581280"/>
            <a:ext cx="3505320" cy="1676520"/>
          </a:xfrm>
          <a:prstGeom prst="wedgeRectCallout">
            <a:avLst>
              <a:gd name="adj1" fmla="val -124092"/>
              <a:gd name="adj2" fmla="val -9327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query is used to make an entry in the customers table for the shopper chekcing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E3BF-89A3-4DF2-B230-BDB499B59F4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0D722B-00E5-464F-8980-0BE4630BA02D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eckout script delete qu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1600200"/>
            <a:ext cx="8458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TE FROM $cart_tab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ERE session_id = 'session_id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38480" y="3581280"/>
            <a:ext cx="3505320" cy="1676520"/>
          </a:xfrm>
          <a:prstGeom prst="wedgeRectCallout">
            <a:avLst>
              <a:gd name="adj1" fmla="val -124092"/>
              <a:gd name="adj2" fmla="val -9327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query is used to delete the given shopper'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ks in the c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C824-379F-40F4-82F2-8F9DDA6543C9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5206B9-5A27-435A-8DD8-11F3830C52A3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eckout.ph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2293920"/>
            <a:ext cx="73915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iew script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bookstore/checkout.ph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00F9-B3A1-478A-B41D-EFE67210B8A9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EC25C7-4504-46F9-B720-DCCE6BFF6383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ministration scrip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dex.ht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dmin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splay.ph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play the books in the 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elete.ph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 book given its ISB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sert.ph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new book given its ISB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pdate.ph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book information given its ISB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3142080" y="1432080"/>
            <a:ext cx="556956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localhost/php/bookstore/admin/index.htm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581280" y="2361240"/>
            <a:ext cx="50292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script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bookstore/admin/display.php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81280" y="3351960"/>
            <a:ext cx="50292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script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bookstore/admin/delete.php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250520"/>
            <a:ext cx="50292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script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bookstore/admin/insert.ph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81280" y="5240880"/>
            <a:ext cx="50292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script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5"/>
              </a:rPr>
              <a:t>bookstore/admin/update.php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C82A-0728-4AE8-90A1-25964D4CE32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A5F5A0-7172-4A9D-8F16-E36B4B91BB58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database displa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95440" y="1852560"/>
            <a:ext cx="7953120" cy="31528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990720" y="5715000"/>
            <a:ext cx="2057400" cy="533520"/>
          </a:xfrm>
          <a:prstGeom prst="wedgeEllipseCallout">
            <a:avLst>
              <a:gd name="adj1" fmla="val 114504"/>
              <a:gd name="adj2" fmla="val -9493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s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5400000">
            <a:off x="4267080" y="4038480"/>
            <a:ext cx="533520" cy="2362320"/>
          </a:xfrm>
          <a:custGeom>
            <a:avLst/>
            <a:gdLst>
              <a:gd name="textAreaLeft" fmla="*/ 0 w 533520"/>
              <a:gd name="textAreaRight" fmla="*/ 192600 w 53352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735"/>
                </a:lnTo>
                <a:cubicBezTo>
                  <a:pt x="10800" y="9635"/>
                  <a:pt x="16200" y="10535"/>
                  <a:pt x="21600" y="10535"/>
                </a:cubicBezTo>
                <a:cubicBezTo>
                  <a:pt x="16200" y="10535"/>
                  <a:pt x="10800" y="11435"/>
                  <a:pt x="10800" y="1233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657600" y="5790240"/>
            <a:ext cx="50292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script bookstore/admin/display.ph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42C7-292E-4914-BED7-C33525ECD494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C08817-8CA6-4F6F-9140-7EA16C44DE7F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sert new book for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989000" y="1685880"/>
            <a:ext cx="5166000" cy="34862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200400" y="5774400"/>
            <a:ext cx="487692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script bookstore/admin/insert.ph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B2F6-7A3B-4BAE-8C46-9ABA63C065B7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8F2282-5E6E-462B-A307-5BE57C5BA0D2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pdate book for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3040200" cy="19429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622440" y="3124080"/>
            <a:ext cx="7897680" cy="32004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343400" y="1371600"/>
            <a:ext cx="3124080" cy="990720"/>
          </a:xfrm>
          <a:prstGeom prst="wedgeRoundRectCallout">
            <a:avLst>
              <a:gd name="adj1" fmla="val -82217"/>
              <a:gd name="adj2" fmla="val 51601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 an ISBN and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date book for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be sh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33920" y="5926680"/>
            <a:ext cx="50292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script bookstore/admin/update.ph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A090-E745-4AE6-B2A2-6804B0BFDD1C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AFDDE5-9B06-4A19-9B2B-D65394483FF7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lete book for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057480" y="2475000"/>
            <a:ext cx="3029040" cy="190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581280" y="5790240"/>
            <a:ext cx="49532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script bookstore/admin/delete.ph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EB1D-A8AB-4CA3-9F48-293D76D3B260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4B8DED-01FE-4C32-BEE9-AE1F4A4CF8E3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ngs to d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would be better to include price information in the cart and books_ordered tables: price may change between order generation and process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min scripts should be protected by a user name and password (Don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an order fullfillment script that displays a complete order page using the books, customers, and books_ordered t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34B6-97D2-47E8-9E8F-604F1D9867E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C6219C-162B-4417-892F-76EAFF3B22C8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store file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atalog.ph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dex.ht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lays the user catalog with add buttons next to each book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art.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lays shopping cart (books ordered) with remove buttons next to each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heckout.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ing out (shipping and credit card inform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E224-C0C5-421C-A597-7614A7447BD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8D22AC-DFDC-4BEE-B9E0-11B286BA1C86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store file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b_connect.php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to connect to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file is in the includes director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:\Apache\php-includes\db_connect.php(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view source db_connect.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8003-A709-44E5-9417-61EB31C2B16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102B45-C109-4FAB-B49A-D92B770B6500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k structure of booksto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1371600"/>
            <a:ext cx="2057400" cy="990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talog.p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10080" y="1371600"/>
            <a:ext cx="2057400" cy="990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t.p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10080" y="3886200"/>
            <a:ext cx="2057400" cy="990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out.p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/>
          <p:nvPr/>
        </p:nvCxnSpPr>
        <p:spPr>
          <a:xfrm>
            <a:off x="3581280" y="175212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/>
          <p:nvPr/>
        </p:nvCxnSpPr>
        <p:spPr>
          <a:xfrm flipH="1">
            <a:off x="3580920" y="201888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/>
          <p:nvPr/>
        </p:nvCxnSpPr>
        <p:spPr>
          <a:xfrm flipV="1">
            <a:off x="6400440" y="2361600"/>
            <a:ext cx="108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2133720" y="2362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33720" y="457200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590560" y="419112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590920" y="2362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4893480"/>
            <a:ext cx="464832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script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bookstore/catalog.php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5334840"/>
            <a:ext cx="464832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script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bookstore/cart.php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7720" y="5622120"/>
            <a:ext cx="462780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script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bookstore/checkout.php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EE4A-F1BD-4F3F-BA84-200689F3CC1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39D9B7-6E49-4076-94AF-33AC93E9D77E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base tab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bn, title, author, publisher, year, pr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id, isbn and quantity for each book in the cart (multiple shopp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id, first and last name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oks_ord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id, isbn, qua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4438080" y="5866560"/>
            <a:ext cx="45608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script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bookstore/bookstore.sql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9A49-3395-416B-BDF8-D79190AC99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B0CE33-5E74-4076-9CCD-CA8731E257A3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s t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1600200"/>
            <a:ext cx="845820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REATE TABLE book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isbn   CHAR(15)     PRIMARY KEY NOT NULL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title  VARCHAR(100) NOT NULL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author VARCHAR(100) NOT NULL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pub    VARCHAR(20)  NOT NULL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year   YEAR         NOT NULL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price  DECIMAL(9,2) DEFAULT NUL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F7B5-7C19-458C-9F98-9EB7926F086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0CB696-009D-44A0-BE61-D4F69E15F519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rt t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600200"/>
            <a:ext cx="845820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REATE TABLE car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session_id  CHAR(32)  NOT NULL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isbn        CHAR(15)  PRIMARY KEY NOT NULL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quantity    I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114800"/>
            <a:ext cx="3429000" cy="1523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ession_id i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cally generat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PHP sess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48320" y="4114800"/>
            <a:ext cx="3429000" cy="1523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art is for multip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pp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DB93-A3EE-41B7-BFD4-BA2F5811479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7AEEFF-8811-424D-AD10-C221FAAB92D0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3T17:04:13Z</dcterms:created>
  <dc:creator>Barry Adams</dc:creator>
  <dc:description/>
  <dc:language>en-US</dc:language>
  <cp:lastModifiedBy>Laurentian University </cp:lastModifiedBy>
  <cp:lastPrinted>1999-09-14T12:12:50Z</cp:lastPrinted>
  <dcterms:modified xsi:type="dcterms:W3CDTF">2003-12-27T14:03:33Z</dcterms:modified>
  <cp:revision>110</cp:revision>
  <dc:subject>Online Bookstore Application</dc:subject>
  <dc:title>COSC 2206 Internet Too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laurentian.ca/badams/c1046</vt:lpwstr>
  </property>
  <property fmtid="{D5CDD505-2E9C-101B-9397-08002B2CF9AE}" pid="9" name="LinkColor">
    <vt:r8>16711782</vt:r8>
  </property>
  <property fmtid="{D5CDD505-2E9C-101B-9397-08002B2CF9AE}" pid="10" name="MailAddress">
    <vt:lpwstr>barry@cs.laurentian.ca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work\Html01\badams\c1046\ppt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