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1D7-35EF-40C2-9D25-22F2253E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1A7-329C-4AC9-A861-02F12F5F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9AB-535F-43AF-BDE3-A56ABE12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C0B-70B5-4CA6-A4F6-074C0B6C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9EE4-C051-41C6-A67A-64C887C9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358F-E599-4274-9211-DE7C01EA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2317-B2CA-41FA-88C1-732B721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DC6D-45DD-408B-B42A-652AF746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5098-161D-411E-9F16-F18669A1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A8BE-2D8E-4454-97CE-F034648B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B7B8-12BB-44DE-9548-5E8081A7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17E-6748-4B9E-9261-7CCFB175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A4DD-872E-4674-A54E-FACF5E17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B6F0-18A7-4E30-AC92-5A8EBBF9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F202-7605-4BD3-BFDC-AA4F2042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9147-32E3-4D5E-A69C-CD086A43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9438-759B-4AEE-9728-25E4BF91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8C7-C352-4B0C-97A7-4D6064E6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FE8-7C21-4E93-A122-02EB50DE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BC9-CC5C-4200-BF9A-E9C2E7B4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69A-1955-49A0-90EB-0D362CF0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BD5-12DC-4B90-B377-47252255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D4F-5EB3-48FD-B9B5-3CE727DC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FAF-2DFF-44AE-879C-EB2906CE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A63E-716D-4B0C-AEF1-5DC6EC6FCA2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74FB-6E95-4C91-8F4D-6F8B8A1CFD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153E-349E-4B68-8259-99B9F2874DB7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F861-D007-430D-ACD6-3521DEFCCD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k:@MSITStore:C:%5Cphp%5Cdocs%5Cphp_manual_en.chm::/function.mysql-connect.html" TargetMode="External"/><Relationship Id="rId2" Type="http://schemas.openxmlformats.org/officeDocument/2006/relationships/hyperlink" Target="mk:@MSITStore:C:%5Cphp%5Cdocs%5Cphp_manual_en.chm::/function.die.html" TargetMode="External"/><Relationship Id="rId3" Type="http://schemas.openxmlformats.org/officeDocument/2006/relationships/hyperlink" Target="mk:@MSITStore:C:%5Cphp%5Cdocs%5Cphp_manual_en.chm::/function.mysql-error.html" TargetMode="External"/><Relationship Id="rId4" Type="http://schemas.openxmlformats.org/officeDocument/2006/relationships/hyperlink" Target="mk:@MSITStore:C:%5Cphp%5Cdocs%5Cphp_manual_en.chm::/function.print.html" TargetMode="External"/><Relationship Id="rId5" Type="http://schemas.openxmlformats.org/officeDocument/2006/relationships/hyperlink" Target="mk:@MSITStore:C:%5Cphp%5Cdocs%5Cphp_manual_en.chm::/function.mysql-close.html" TargetMode="External"/><Relationship Id="rId6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k:@MSITStore:C:%5Cphp%5Cdocs%5Cphp_manual_en.chm::/function.mysql-connect.html" TargetMode="External"/><Relationship Id="rId2" Type="http://schemas.openxmlformats.org/officeDocument/2006/relationships/hyperlink" Target="mk:@MSITStore:C:%5Cphp%5Cdocs%5Cphp_manual_en.chm::/function.die.html" TargetMode="External"/><Relationship Id="rId3" Type="http://schemas.openxmlformats.org/officeDocument/2006/relationships/hyperlink" Target="mk:@MSITStore:C:%5Cphp%5Cdocs%5Cphp_manual_en.chm::/function.mysql-error.html" TargetMode="External"/><Relationship Id="rId4" Type="http://schemas.openxmlformats.org/officeDocument/2006/relationships/hyperlink" Target="mk:@MSITStore:C:%5Cphp%5Cdocs%5Cphp_manual_en.chm::/function.mysql-select-db.html" TargetMode="External"/><Relationship Id="rId5" Type="http://schemas.openxmlformats.org/officeDocument/2006/relationships/hyperlink" Target="mk:@MSITStore:C:%5Cphp%5Cdocs%5Cphp_manual_en.chm::/function.die.html" TargetMode="External"/><Relationship Id="rId6" Type="http://schemas.openxmlformats.org/officeDocument/2006/relationships/hyperlink" Target="mk:@MSITStore:C:%5Cphp%5Cdocs%5Cphp_manual_en.chm::/function.mysql-error.html" TargetMode="Externa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k:@MSITStore:C:%5Cphp%5Cdocs%5Cphp_manual_en.chm::/function.mysql-select-db.html" TargetMode="External"/><Relationship Id="rId2" Type="http://schemas.openxmlformats.org/officeDocument/2006/relationships/hyperlink" Target="mk:@MSITStore:C:%5Cphp%5Cdocs%5Cphp_manual_en.chm::/function.echo.html" TargetMode="External"/><Relationship Id="rId3" Type="http://schemas.openxmlformats.org/officeDocument/2006/relationships/hyperlink" Target="mk:@MSITStore:C:%5Cphp%5Cdocs%5Cphp_manual_en.chm::/function.mysql-errno.html" TargetMode="External"/><Relationship Id="rId4" Type="http://schemas.openxmlformats.org/officeDocument/2006/relationships/hyperlink" Target="mk:@MSITStore:C:%5Cphp%5Cdocs%5Cphp_manual_en.chm::/function.mysql-error.html" TargetMode="External"/><Relationship Id="rId5" Type="http://schemas.openxmlformats.org/officeDocument/2006/relationships/hyperlink" Target="mk:@MSITStore:C:%5Cphp%5Cdocs%5Cphp_manual_en.chm::/function.mysql-select-db.html" TargetMode="External"/><Relationship Id="rId6" Type="http://schemas.openxmlformats.org/officeDocument/2006/relationships/hyperlink" Target="mk:@MSITStore:C:%5Cphp%5Cdocs%5Cphp_manual_en.chm::/function.mysql-query.html" TargetMode="External"/><Relationship Id="rId7" Type="http://schemas.openxmlformats.org/officeDocument/2006/relationships/hyperlink" Target="mk:@MSITStore:C:%5Cphp%5Cdocs%5Cphp_manual_en.chm::/function.echo.html" TargetMode="External"/><Relationship Id="rId8" Type="http://schemas.openxmlformats.org/officeDocument/2006/relationships/hyperlink" Target="mk:@MSITStore:C:%5Cphp%5Cdocs%5Cphp_manual_en.chm::/function.mysql-errno.html" TargetMode="Externa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php-txt/simple/books.sql.txt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php-txt/simple/dbase.php.txt" TargetMode="External"/><Relationship Id="rId2" Type="http://schemas.openxmlformats.org/officeDocument/2006/relationships/hyperlink" Target="http://localhost/php/simple/dbase.php" TargetMode="Externa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php-txt/sbox/sbox.php.txt" TargetMode="External"/><Relationship Id="rId2" Type="http://schemas.openxmlformats.org/officeDocument/2006/relationships/hyperlink" Target="http://localhost/php/sbox/sbox.php" TargetMode="Externa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php-txt/sbox/sbox.sql.txt" TargetMode="External"/><Relationship Id="rId2" Type="http://schemas.openxmlformats.org/officeDocument/2006/relationships/hyperlink" Target="file:///scripts/sbox/sbox.sql.txt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php-txt/sbox/sbox.php.txt" TargetMode="External"/><Relationship Id="rId2" Type="http://schemas.openxmlformats.org/officeDocument/2006/relationships/hyperlink" Target="file:///scripts/sbox/sbox.php.txt" TargetMode="External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php-txt/notes/notes.php.txt" TargetMode="External"/><Relationship Id="rId2" Type="http://schemas.openxmlformats.org/officeDocument/2006/relationships/hyperlink" Target="http://localhost/php/notes/notes.php" TargetMode="Externa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php-txt/notes/notes.sql.txt" TargetMode="External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file:///php-txt/poll/poll.php.txt" TargetMode="External"/><Relationship Id="rId2" Type="http://schemas.openxmlformats.org/officeDocument/2006/relationships/hyperlink" Target="file:///scripts/poll/poll.php.txt" TargetMode="External"/><Relationship Id="rId3" Type="http://schemas.openxmlformats.org/officeDocument/2006/relationships/hyperlink" Target="http://localhost/php/poll/poll.php" TargetMode="External"/><Relationship Id="rId4" Type="http://schemas.openxmlformats.org/officeDocument/2006/relationships/hyperlink" Target="http://localhost/php/poll/poll.php" TargetMode="External"/><Relationship Id="rId5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file:///php-txt/poll/poll.sql.txt" TargetMode="External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C 2206 Interne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-MySQL database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Document"/>
          <p:cNvSpPr/>
          <p:nvPr/>
        </p:nvSpPr>
        <p:spPr>
          <a:xfrm flipH="1" rot="10800000">
            <a:off x="3827880" y="382860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From PHP Do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879560"/>
            <a:ext cx="830556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php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$link =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mysql_conn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"localhost", "mysql_user", "mysql_password"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    o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"Could not connect: " 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3"/>
              </a:rPr>
              <a:t>mysql_err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4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"Connected successfully"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5"/>
              </a:rPr>
              <a:t>mysql_clo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link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538-C874-4958-B81C-655CE3517F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8F64F-CF50-4176-B240-405CF991B6E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1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1727280"/>
            <a:ext cx="84582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p&gt;&lt;a href="seeit.php"&gt;View Source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ree_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result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35F-0C4C-4592-8112-DBCA2FC9C5CA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95D07-E18B-4AD2-8F89-ACE75C7898B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1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27280"/>
            <a:ext cx="8458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ubmit_poll_v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user_i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user_v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ote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p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v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= 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y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= 0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Get the current total votes and total yes vot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ELECT votes, yes FROM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ote_table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query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Query faile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FE4-B60E-49E4-A437-9B20E0258B19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5B594-FC8A-43DA-98FE-8741FE150D5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1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27280"/>
            <a:ext cx="8458200" cy="45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== 1 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etch_ass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v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votes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y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yes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initialize the po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INSERT INTO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ote_table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                      SET votes = '0', yes ='0'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query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Query failed&lt;/p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6BC-C060-4BBE-BD54-90887EDDF9F9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75300-48E9-4D8C-B392-224BC4D364E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1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1727280"/>
            <a:ext cx="8458200" cy="45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Update total votes and total yes vot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y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y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user_v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1 = y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v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UPDATE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ote_table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   SET votes = 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votes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, yes = 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yes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query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Update vote failed&lt;/p&gt;\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Record the browser ip so user can only vote o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INSERT INTO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p_table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                              SET ip = 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user_ip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query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Insertion of ip failed&lt;/p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353-65DB-49EA-A480-6316217536A1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22E2E-9FD6-4609-B472-1C0D90B88A4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thentication with My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using basic authentication that is implemented using HTTP headers it is better to use a database to store user names and passwo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ession variable can be used to identify a valid u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create a data base with fields for the user id and the passwor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7ED-C94D-4ECF-8EFB-00D3319B2E46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F1C95-96F9-4607-983A-D7204DF2693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n.sql (user databas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1727280"/>
            <a:ext cx="845820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U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eb_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ROP TABLE IF EXISTS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log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REATE 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lo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R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0)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OT NU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ass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R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30)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OT NU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MARY 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# insert a few users and encrypt the password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log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tes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ASS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123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log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look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ASS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kool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log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Fre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ASS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Jones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78600" y="1965240"/>
            <a:ext cx="35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login-db/login.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05A-5A8B-4993-AEEE-8844E3592814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F78FE-8CDF-4106-B1D2-9D24B56461BF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ata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727280"/>
            <a:ext cx="8458200" cy="391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ql&gt; use web_db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base chang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ql&gt; SELECT * FROM login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+-------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name | password        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+-------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test | 773359240eb9a1d9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look | 7d74a0bb51520618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Fred | 64099a8d551f7d81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+-------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rows in set (0.00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q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614-AED8-41AA-BFC9-B4283AA1768C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E0CEC-8EBC-492D-9A15-164B3CA32CD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n script log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1727280"/>
            <a:ext cx="845820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 a sess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username AND password were submitt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heck that these values are alphanumeric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not THEN set them to empty strings END I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there is a matching row in login table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Set a 'valid-user' session variable hav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value the username as valu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Display login page with form to lo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login page with form to lo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F43-CBCF-4E55-96A2-8BE10E4B9011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54D0E-B738-4849-BA97-DF171945447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n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1523880"/>
            <a:ext cx="845820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quire_o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b_connect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_REQUEST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user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&amp;&amp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asswor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Check for alphanumeric value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re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^[a-zA-Z0-9]+$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user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?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user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$pass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re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^a-zA-Z0-9]+$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asswor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?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asswor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now try to authenticate thes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97360" y="45720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login-db/login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246-9473-4BD8-B79C-CDE43A43C1C9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641B0-FE7A-47C6-ABB3-3B9DC13A6E9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n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380880" y="1523880"/>
            <a:ext cx="845820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Authen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valid_us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members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login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Invalid login, try agai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first time so display form to lo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login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Please log i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763-0D0B-41F2-9EF4-70AFC86D5A17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95C93-7D6C-483D-8C6E-24BAA57DD41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ing A Data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select_db(name, l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a database given by the string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ink is optional and specifies the open link value such a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turned by a connect stat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t supplied the last opened link is u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TRUE on success else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ysql_select_d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web_db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447920"/>
            <a:ext cx="533412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31B-5884-41BB-A55E-4A76DFDB32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23E09-80BC-4901-88DF-AD555F5BA2F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n.php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380880" y="152388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Authen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ass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b_conn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eb_db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ELECT * FROM login WHERE name=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AND password = PASSWORD(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assword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)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al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&gt; 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ree_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clo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al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114-0B90-4883-9F16-F0698322F860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17A48-5461-42B6-972D-F3A880914E4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n.php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523880"/>
            <a:ext cx="845820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login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mess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Members Login Page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Login Page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2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mess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2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method="POS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able border="1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r&gt;&lt;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878-3973-4E49-9BB1-EE9ECED3E904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8E3D5-F5A2-4A53-B50E-972658BD023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n.php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380880" y="152388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able border="0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r&gt;&lt;td&gt;User Name: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d&gt;&lt;input type="text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useri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lt;/td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r&gt;&lt;td&gt;Password: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d&gt;&lt;input type="password" name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passwor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r&gt;&lt;td colspan=2 align=cente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input type="submit" value="Log in"&gt;&lt;/td&gt;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tab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d&gt;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&lt;/body&gt;&lt;/html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94C-08EE-4FAC-96FD-5484D3B372B3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14C98-CF1C-4CF9-AB23-72B97BA3149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n.php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152388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members_p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&lt;head&gt;&lt;title&gt;Members Page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ou have successfully logged in as u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rong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valid-us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trong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 href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members.php?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Memb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s&lt;/a&gt;&lt;b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 href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logout.php?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Logout&lt;/a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}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759-0F94-4C95-AE55-DCC0D8710DE1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11951-A568-47CA-9B96-D1C6F4B6237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out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380880" y="1523880"/>
            <a:ext cx="845820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un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valid-us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destro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Logout Page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Logout Page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you were logged in you have been logged ou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login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Login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96640" y="457200"/>
            <a:ext cx="37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login-db/logout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28F-75D5-464F-9226-DC7041EAF63D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43520-A569-4308-B845-247C0866EBD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bers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152388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ssion_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!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valid-us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&lt;head&gt;&lt;title&gt;Login Error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Login Error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ou are not authorized to view this page, plea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a href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login.php?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login&lt;/a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i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89920" y="1660680"/>
            <a:ext cx="41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login-db/members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8BE-6574-4C9E-B439-A2D5C580A3F7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8D79D-E448-4765-8219-833F0FCD715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bers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1523880"/>
            <a:ext cx="8458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Member Page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Member Page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a member page.&lt;b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ou are logged in as u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rong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valid_us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trong&gt;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logout.php?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out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848-00A4-40E7-BE11-85E311EB10B7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21AFE-3E44-41E7-B6EC-6B86A087EA9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From PHP Do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879560"/>
            <a:ext cx="830556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php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lnk =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mysql_conn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'localhost', 'mysql_user', 'mysql_password'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   o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'Not connected : ' 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3"/>
              </a:rPr>
              <a:t>mysql_err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);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make foo the current db </a:t>
            </a:r>
            <a:br>
              <a:rPr sz="2000"/>
            </a:b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4"/>
              </a:rPr>
              <a:t>mysql_select_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'foo', $lnk) o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5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'Can\'t use foo : ' 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6"/>
              </a:rPr>
              <a:t>mysql_err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);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087-DB87-408D-A581-ABFE90B8E2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D2962-F091-40F7-A10D-8553E5A25A8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 Reporting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error(l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an error string or error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ink is op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t supplied the last opened link is u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ty string is returned if there is no err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ysql_err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447920"/>
            <a:ext cx="533412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7EB-8ABD-400B-9D1F-775352087F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6A7B8-C921-4E63-8079-B0F2482A8A8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 Reporting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no(l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the error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ink is op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t supplied the last opened link is u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 is returned if there is no err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ysql_n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447920"/>
            <a:ext cx="533412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04E-9990-4B51-ACA6-62742E28F2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0403B-EE8B-4225-A6CD-122DDA7725B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 Reporting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lso parameters that can be set in the php.ini file to control error repor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perator can be used in front of a function call to suppress error mess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903-3CDA-41DA-8DCD-F6C456B623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A7058-0756-4A15-B673-63F4FFC819C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From PHP Do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879560"/>
            <a:ext cx="830556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php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mysql_connect("localhost", "mysql_user", "mysql_password");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mysql_select_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"nonexistentdb"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3"/>
              </a:rPr>
              <a:t>mysql_errn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 . ": " 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4"/>
              </a:rPr>
              <a:t>mysql_err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. "\n";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5"/>
              </a:rPr>
              <a:t>mysql_select_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"kossu"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6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"SELECT * FROM nonexistenttable"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7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8"/>
              </a:rPr>
              <a:t>mysql_errn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 . ": " . mysql_error() . "\n"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922-2798-4B21-ABC0-F65DD9E3CC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15106-7492-45A3-B885-77E08EE6BD1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ing A Query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query(query, l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a select query (link is option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ry is a string for the MySQL qu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't end the query with a semi-col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value is a resource identifier or FALSE if the query is SELECT, SHOW or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(select all rows of books tab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SELECT * FROM books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447920"/>
            <a:ext cx="533412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212-D054-46AF-A0CC-4FE8ADEAC9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F89AF-45E4-472D-9BA8-B3DEA791F70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ing A Query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 and UPDATE qu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se queries a resource is not retu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 is returned on su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SE is returned on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(describe the books tab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DESCRIBE books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statu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33F-766D-496E-8CEB-4AF6A7812D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FA4B9-B302-4E5C-8724-49F0E9A57C4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From PHP Do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879560"/>
            <a:ext cx="83055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php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result = mysql_query("SELECT my_col FROM my_tbl"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or die("Invalid query: " . mysql_error()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6BF-36E0-4E7C-9B7D-B342A8BB761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EAD88-FC1B-4193-8A2E-D96BDC8FF88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SQL Database 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ef review of MySQ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MySQL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store display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Database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trieving Table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list_fields(database, table, l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select query it retrieves information from given table in given database. link is op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turned resource can be used to obtain properties of the table such as names of the table columns and field typ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mysql_list_fiel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web_db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books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433520"/>
            <a:ext cx="70102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151-271F-4E2E-B88A-EB51B99818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38A74-9E27-425F-A3FD-918C3BA12DD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ber Of Table Colum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num_fields(resul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the numbers of columns in a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 is the resource returned by a call to the mysql_list_fields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114800"/>
            <a:ext cx="8001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list_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eb_db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book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um_colum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num_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447920"/>
            <a:ext cx="472428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F45-E4C7-48ED-8BF4-BCB3A81EDF0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FEE92-0007-44C7-A6AD-D1894388B16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es Of Table Colum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field_name(result, inde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the name of the table column whose position is given by index (0,1,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 is the resource returned by a call to mysql_list_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the first column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699080"/>
            <a:ext cx="8001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list_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eb_db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book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sb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ield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elds,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447920"/>
            <a:ext cx="594360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9F3-7B90-4A47-84AC-D28BFC51714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562AD-2C38-4DD7-8D10-26DCB493CAD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From PHP Do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879560"/>
            <a:ext cx="830556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php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link = mysql_connect('localhost', 'mysql_user', 'mysql_password');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fields = mysql_list_fields("database1", "table1", $link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columns = mysql_num_fields($fields);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$i = 0; $i &lt; $columns; $i++) {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echo mysql_field_name($fields, $i) . "\n"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1BE-2695-4F10-894A-328F43ED6C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A6B53-2C17-4157-AF9F-F2FD61B7594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able Row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fetch_row(resul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all returns the next row as an indexed array where result is a resource returned from a call to mysql_query (FALSE if no more ro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038480"/>
            <a:ext cx="800100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"SELECT * FROM book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etch_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row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sb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isbn for row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433520"/>
            <a:ext cx="44956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1CF-F348-43DA-9E1E-D855F9E38C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DA200-AF4C-4DF3-9234-63D7920B99CF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able Row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fetch_assoc(resul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in mysql_fetch_row  but next row is returned as an associative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3657600"/>
            <a:ext cx="800100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"SELECT * FROM book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etch_ass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row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sb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isbn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isbn for row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414440"/>
            <a:ext cx="480060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01C-895D-4EE6-ADBD-9E5A351A7A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50703-8D24-46B0-8409-1BFC6CE8DF8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able Row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fetch_array(resul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s mysql_fetch_row, mysql_fetch_asso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row information as both an associative array and an indexed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962520"/>
            <a:ext cx="80010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"SELECT * FROM book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etch_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row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sbn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isbn for row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sbn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isbn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// can also get it this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447920"/>
            <a:ext cx="472428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B86-7A83-40E7-9281-03189FB838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BF51C-5423-47EC-99F8-D9C6B8BADECF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able row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num_rows(resul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number of rows from a select qu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 is the resource returned by the select qu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affected_rows(resul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after an INSERT, UPDATE, or DELETE query to return the number of rows aff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 is the resource retu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671400" y="1419120"/>
            <a:ext cx="472464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3457440"/>
            <a:ext cx="525780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8CB-57AB-4704-8627-22912119FF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2B9A1-E617-42A0-BA6B-9A82D34DA13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real_escape_string(string,l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a string safe to use in mysql_qu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ySQL 4.1 there are mysqli_... functions which are supposed to be impro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other MySQL functions that we will not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e PHP function reference for complete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433520"/>
            <a:ext cx="70102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63E-38B8-4F29-BF33-DD8FFFC4A2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206FD-0691-41C8-A5AC-1E17CE99808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eeing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free_result(resul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 memory associated with the given resource called result (after a select quer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necessary except for large result 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automatically when script ex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close(l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he database connection associated with the given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n't do anything for persistent lin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371600"/>
            <a:ext cx="4724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895480"/>
            <a:ext cx="32004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A92-76A8-4EB0-B42A-BC1DA69F3A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BE9E4-9B01-4A00-AA76-51F4ACBC733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Review Of My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ySQL comand line moni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ng database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ing column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523880"/>
            <a:ext cx="7543800" cy="46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Get resource for the field names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list_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eb_db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book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Get number of table 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um_col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num_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process them using a for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um_col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ield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o something here with $na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C50-88FD-4271-89F8-71118E0EEB2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7347F-42E5-4E7E-BDD6-830BB162D1E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ing table row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523880"/>
            <a:ext cx="754380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etch_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or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 = 0; $i &lt; count($row); *i+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$col_value = $row[$i]'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o something with $col_value he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o end of row processing he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o end of table processing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2057400"/>
            <a:ext cx="2362320" cy="762120"/>
          </a:xfrm>
          <a:prstGeom prst="wedgeRoundRectCallout">
            <a:avLst>
              <a:gd name="adj1" fmla="val -51342"/>
              <a:gd name="adj2" fmla="val -7625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SEL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89080" y="5040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8240" y="5268960"/>
            <a:ext cx="69278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$row is returned as an array so the inner loop is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5EC-7592-4C7F-A265-4E9EC31795C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C5D42-2161-492A-B92D-5520BC6A29E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ing table row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523880"/>
            <a:ext cx="754380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etch_ass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oreach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s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l_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o something with $col_value he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o end of row processing he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o end of table processing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2057400"/>
            <a:ext cx="2362320" cy="762120"/>
          </a:xfrm>
          <a:prstGeom prst="wedgeRoundRectCallout">
            <a:avLst>
              <a:gd name="adj1" fmla="val -51342"/>
              <a:gd name="adj2" fmla="val -7625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SEL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480060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$row is returned as an associated array so the inner loop is a foreach loop. The foreach is easier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E1A-1A84-43AF-BB73-5D811EF94B4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695F8-7261-45D9-BF71-236105D14F6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db_connect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function can be used in scripts to connect to a database. Put it in a file call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b_connect.ph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your include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2971800"/>
            <a:ext cx="754380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b_conn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host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localhost:3306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user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xxxxx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ass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yyyyy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conn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host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user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ass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Could not connect to $host_nam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select_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Could not select database $db_nam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B22-4A22-4AA5-AB63-58BE5B1711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85F02-2B2F-4767-BEA7-D67C43468EF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 Display Exampl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create the following books.sql file containing a sample databas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2666880"/>
            <a:ext cx="7619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514600"/>
            <a:ext cx="7543800" cy="330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DATABASE IF NOT EXISTS web_db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 web_db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book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bn   CHAR(15)       PRIMARY KEY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title  VARCHAR(100) 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uthor VARCHAR(100) 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pub    VARCHAR(20)  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year   year         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price  DECIMAL(9,2)   DEFAULT NU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FDE-2696-4639-A3A9-87A5B757EC8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EC0BF-01EA-4FA1-8386-E6DE98BAD87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 Display Exampl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s.sql continued (insert some book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 a few more (se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simple\books.sq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2666880"/>
            <a:ext cx="7619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209680"/>
            <a:ext cx="7543800" cy="271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INTO books VALUE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0-672-31784-2'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PHP and MySQL Web Development'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Luke Welling, Laura Thomson'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Sams', 2001, 74.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891-34C0-4888-882B-043F5AF847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06946-4B4E-4388-A8CC-3F2C419696E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 Display Exampl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ks.sq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rough MySQL using the 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sql -u xxxxx -p &lt; c:/.../books.sq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use the gui cli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xx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your MySQL username and the -p option means to prompt for the pass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write a PHP script call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base.ph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displays the books in an HTM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279-0A6A-4D92-ACCA-1D5B682C8A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BD01E-8D16-4E1A-988B-1020432FA47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229600" cy="30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513-1D69-4CEB-A815-33FAEE73401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E6B9A-B858-4D97-A838-5F3B9C7F026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base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 header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2209680"/>
            <a:ext cx="838224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quire_o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b_connect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playing the book database table using 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Displaying thebook database table using PHP&lt;/h1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BC1-332B-4368-9783-DAF9A6FBB8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348A9-1330-41D8-B894-D7803B23A1C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base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a database conn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uses the function defined in the include fi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b_connect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 include path i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hp.in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clude_path=".;c:\Apache\php-includ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209680"/>
            <a:ext cx="7772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b_conn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eb_db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5486400"/>
            <a:ext cx="3124440" cy="609480"/>
          </a:xfrm>
          <a:prstGeom prst="wedgeEllipseCallout">
            <a:avLst>
              <a:gd name="adj1" fmla="val -40398"/>
              <a:gd name="adj2" fmla="val -9661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BD9-E0D8-4FA2-80AA-0E0C9D38F0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5064F-5F1E-454D-ABD2-38B3679E484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and Line Cli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the MySQL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:\mysql\mysql\docs\manual_toc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MySQL install instructions on C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and to enter monitor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sql - u xxxx -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execute an SQL script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sql -u xxxx -p &lt; /path/script.sq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 client MyCC is be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590920"/>
            <a:ext cx="1905120" cy="2057400"/>
          </a:xfrm>
          <a:prstGeom prst="wedgeRoundRectCallout">
            <a:avLst>
              <a:gd name="adj1" fmla="val -195666"/>
              <a:gd name="adj2" fmla="val 2577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y a username and a password when prom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97B-92E1-4571-9AE4-08F311D598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4D99D-51F4-42A9-8D99-BAE649BC47C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base.php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 a SELECT query for all colum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table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36760"/>
            <a:ext cx="7772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ELECT * FROM book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QL Query faile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4546440"/>
            <a:ext cx="79246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list_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eb_db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books"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um_colum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num_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0E9-0439-457F-9117-C2CC21B228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6140A-B5F3-4620-9422-2EB029860B6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base.php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 column headings in an HTML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743200"/>
            <a:ext cx="7772400" cy="26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&lt;table border="1"&gt;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r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&lt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um_colum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h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ield_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fiel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/th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/tr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21F-F717-4635-B326-4319AA9344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3FCB5-4F08-4CD4-A09C-55240137983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base.php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 the books table in as an HTML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336760"/>
            <a:ext cx="777240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etch_ass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r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oreach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s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l_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d&gt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ol_value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&lt;/td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/tr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/table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833-9AA1-4450-B91C-6DF5D8C7FA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8BAEC-8E22-4D23-AACB-20865D2A9EF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base.php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 resources and close conn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view script simple/dbase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localhost/php/simple/dbase.ph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2260440"/>
            <a:ext cx="77724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ree_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clo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3C5-A12A-41A4-9D08-94523F93DBA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36DC8-D76C-4617-A5EB-94DC108BCA9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ling Script From Butt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the button a name and a val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orm is submitted the name will ex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submit buttons should have different names or same name, different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198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submit" name="choice" value="Display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124080"/>
            <a:ext cx="784872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hoi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process the button click he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254-2054-40EB-A18A-8022235E2BF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61026-A23F-4184-AA0A-A6E1816A363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ling Script From Butt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approach is to use the submit button label (value) to distinquish cho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ubmit buttons can have the same name but different labels (valu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641680"/>
            <a:ext cx="784872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hoi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hoi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"Display"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process the button click he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127-6FE4-45EF-BDDE-F91E7013C02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D5D1F-1FF0-47B7-9FF2-568016ED98B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ling Script From Li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ink can be clicked to invoke the script again or to pass a parameter to it using the GET method (query string in l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3124080"/>
            <a:ext cx="78487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his_ur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SEL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edit_ur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his_url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?choice=edit&amp;id=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elete_ur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his_url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?choice=delete&amp;id=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 href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edit_url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[ Edit ]&lt;/a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 href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elete_url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[ Delete ]&lt;/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212-0B62-4B86-A3B7-5F57F21767E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0FE4C-4D72-421C-91E9-AB0FD9CC3AB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ggestion 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s make suggestions through a textarea in a form and submit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ggestion is saved in a MySQL database table called sbox in database web_d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ggestions are displayed along with the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view script sbox/sbox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localhost/php/sbox/sbox.ph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308-59F9-416C-B6D0-0BB93935151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42362-C47D-44FB-AE89-E450CD9BB3B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ggestion Box Displ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143160" cy="2263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886200" y="1631880"/>
            <a:ext cx="5006880" cy="2378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581280" y="14479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4800600"/>
            <a:ext cx="1752480" cy="1066680"/>
          </a:xfrm>
          <a:prstGeom prst="wedgeRoundRectCallout">
            <a:avLst>
              <a:gd name="adj1" fmla="val -35509"/>
              <a:gd name="adj2" fmla="val -11637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4495680"/>
            <a:ext cx="1752840" cy="1371600"/>
          </a:xfrm>
          <a:prstGeom prst="wedgeRoundRectCallout">
            <a:avLst>
              <a:gd name="adj1" fmla="val -59509"/>
              <a:gd name="adj2" fmla="val -7476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when submit link i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34B-1EE0-4EDE-AFAD-C7C4A53304F1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9A043-788D-43C3-918A-2E008530BF0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box.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600200"/>
            <a:ext cx="8458200" cy="347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DATABASE IF NOT EXITS web_db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 web_db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OP TABLE IF EXISTS sbox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sbo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INT UNSIGNED NOT NULL AUTO_INCREMENT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DATETIME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ggestion TEXT NOT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25640" y="457200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view script sbox/sbox.sq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06E-2073-4072-8929-E5945591D998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C9F1E-4A61-4F47-8BEC-2AF61354EEF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Database T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eb_d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tabase to hold the tab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REATE DATABASE web_db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reate a table called no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E web_db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REATE TABLE notes (...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some rows for testing if necess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easy to write an sql script call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otes.sq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use monitor to execut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99B-C788-48DF-9B93-1D333BAA93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F20B0-568D-4594-83CD-B6E24BE13E8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ript Log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00200"/>
            <a:ext cx="8458200" cy="45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request for new suggestion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form to get new sugges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form was submitt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insert suggestion into database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NDI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rieve suggestions from database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there are suggestions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display the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Suggestion table is empt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NDI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vide self link to enter a new sug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365-7C53-48B8-9F77-D12232E1E760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A0D13-703D-4925-AD5E-314F01AB5D0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box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0020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require_o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b_connect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&lt;head&gt;&lt;title&gt;Suggestion Box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&lt;h1&gt;Suggestion Box&lt;/h1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SEL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new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)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link was click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form action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method="POS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nter your suggestion:&lt;b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extarea name="suggestion" rows="5" cols="50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&lt;/textarea&gt;&lt;b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p&gt;&lt;input type="submit" name="add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ue="Submit"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form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1F5-9443-4F60-BA37-CD23FEEEBAA9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AC636-A8A2-44F5-9912-EF1A776F4C5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box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1600200"/>
            <a:ext cx="845820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b_conn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eb_db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ad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ugges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suggestion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INSERT INTO sbox SET time=NOW(),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uggestion=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uggestion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05120" y="5334120"/>
            <a:ext cx="6172200" cy="609480"/>
          </a:xfrm>
          <a:prstGeom prst="wedgeRoundRectCallout">
            <a:avLst>
              <a:gd name="adj1" fmla="val -38578"/>
              <a:gd name="adj2" fmla="val -13984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got to use addslashes and stripsl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7BC-218F-4533-86A5-6A257E07A6E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4AC35-2D48-41E3-A5BC-86C075923C6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box.php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600200"/>
            <a:ext cx="845820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isplay all the suggestion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ELECT time, suggestion FROM sbox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&gt;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while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etch_ass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i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tim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ugges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suggestion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&gt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ime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:&lt;/b&gt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uggesion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&lt;br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E50-D12F-43D1-BCDA-150731D92C6B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D2CC7-698A-4AAC-8A27-D05276E9EA0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box.php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600200"/>
            <a:ext cx="8458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he suggestion box is empty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p&gt;&lt;a href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new=1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ubmit a new suggestion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267080"/>
            <a:ext cx="2057400" cy="1752840"/>
          </a:xfrm>
          <a:prstGeom prst="wedgeRoundRectCallout">
            <a:avLst>
              <a:gd name="adj1" fmla="val -49384"/>
              <a:gd name="adj2" fmla="val -110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rick for calling a script from a link with a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1800" y="54705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view script sbox/sbox.php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0BB-38AB-475F-AF5B-C25E94FDA2C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05137-487D-42F1-AD94-6A723A301FC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Ver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versions sbox2, sbox3, sbox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box2 handles quotes and HTML text prope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box3 adds error che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box4 is a simpler version of sbox3 for which the form is always displayed so no link is needed to add a new sugg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0FE-DEEF-49CF-BDAD-C1B19B6C8CC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674D6-3A0A-46C4-BEAB-35473BB61CD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box4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1600200"/>
            <a:ext cx="845820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require_o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b_connect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$db_link = db_connect("web_db"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SEL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&lt;head&gt;&lt;title&gt;Suggestion Box&lt;/title&gt;&lt;/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&lt;h1&gt;Suggestion Box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action=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method="POS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 your suggestion:&lt;b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xtarea name="suggestion" rows="5" cols="50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textarea&gt;&lt;b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input type="submit" name="add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"Submit"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E1D-7277-46E5-A6B9-201CD7790F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81D98-4812-4DED-A50E-CDE1984AEE1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371600" y="3505320"/>
            <a:ext cx="693432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600200"/>
            <a:ext cx="845820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add a new suggestion if there is on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PO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ad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ugges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ddslash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PO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suggestion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ugges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&gt;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INSERT INTO sbox SET time=NOW(),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         suggestion=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uggestion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box4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260-BFCB-4299-9D6B-8653543D29C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3C25C-CCE2-429B-BB05-217FA200E46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14400" y="1981080"/>
            <a:ext cx="769608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4419720"/>
            <a:ext cx="69343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display all the suggestions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ELECT time, suggestion FROM sbox ORDER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   BY time DESC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&gt;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while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etch_ass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{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i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'time'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ugges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tmlspecialcha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ripslash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'suggestion']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strong&gt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ime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:&lt;/strong&gt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uggestion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&lt;br&gt;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           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box4.php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F3F-3A5F-4A6D-8076-CF766CACD4F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2318B-02CA-4A06-A4F1-EC4C28E7038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box4.php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1600200"/>
            <a:ext cx="845820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he suggestion box is empty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ABF-4BCA-4070-BE5E-D7D1C2860783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BC0E4-B179-45B0-B176-2F4030E0579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asic Que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databases and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table rows based on certain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 one or more rows of a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new row in a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ws in a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 the structure of a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A15-7061-4119-BAEA-D6B16896B7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6DC08-5660-498C-BCA1-4A93FB22776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otes Data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 for submitting notes to the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ton to submit a no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ton to display the current no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ton to display notes based on search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 can be edited and de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view script notes/notes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localhost/php/notes/notes.ph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A86-446F-4906-9CF7-242AC5710CA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FF2B6-FC6A-440D-9A35-01EC941CB73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s.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600200"/>
            <a:ext cx="8458200" cy="407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DATABASE IF NOT EXISTS web_db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 web_db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OP TABLE IF EXISTS note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not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d      INT NOT NULL AUTO_INCRE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time    DATETIME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ntent TEXT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MARY KEY (id)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DEX (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05760" y="5181480"/>
            <a:ext cx="33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view script notes/notes.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222-2A72-4F7D-B5E4-A610CA79B268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345BE-436A-474B-8410-38817A03C04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mission Form And Displ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23880" y="1495440"/>
            <a:ext cx="5105520" cy="4829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10280" y="4267080"/>
            <a:ext cx="1981440" cy="1067040"/>
          </a:xfrm>
          <a:prstGeom prst="wedgeRoundRectCallout">
            <a:avLst>
              <a:gd name="adj1" fmla="val -70995"/>
              <a:gd name="adj2" fmla="val 501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_note does each 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1295280"/>
            <a:ext cx="2133720" cy="1067040"/>
          </a:xfrm>
          <a:prstGeom prst="wedgeRoundRectCallout">
            <a:avLst>
              <a:gd name="adj1" fmla="val -22916"/>
              <a:gd name="adj2" fmla="val 5163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_notes does this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77B-7784-468E-BA73-E595C74EED6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D957F-7D9B-4350-A99B-A5A49535078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Displ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62120" y="1339920"/>
            <a:ext cx="6476760" cy="4984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638680" y="1295280"/>
            <a:ext cx="3200400" cy="1067040"/>
          </a:xfrm>
          <a:prstGeom prst="wedgeRoundRectCallout">
            <a:avLst>
              <a:gd name="adj1" fmla="val -17657"/>
              <a:gd name="adj2" fmla="val 4747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_search_hits does this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0280" y="3809880"/>
            <a:ext cx="1981440" cy="1067040"/>
          </a:xfrm>
          <a:prstGeom prst="wedgeRoundRectCallout">
            <a:avLst>
              <a:gd name="adj1" fmla="val -71712"/>
              <a:gd name="adj2" fmla="val 8556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_note does each 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975-63F9-4D15-996E-02FCCC13853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CD2C1-D517-4973-8B6A-E2B09F222F1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090880" y="2143080"/>
            <a:ext cx="496080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CF1-6081-4E45-8919-9C529B28AC21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7A451-08CF-471E-B34D-38C136692CA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 Script Log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371600"/>
            <a:ext cx="845820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first time THEN display note entry for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IF note submitt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sert note, display entry form and no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IF display button click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entry form and no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IF search button click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entry form and search hi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IF delete link clicked for a note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entry form and no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IF edit link was click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note edit for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IF update button on edit form click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update note, display entry form and no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IF cancel button on edit form click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entry form and no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error ENDIF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B02-A0FD-4D0C-8F7C-4A565FA7459D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92F7A-5554-432F-AE41-0CC2FF46B86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s.php (setu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37160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quire_o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b_connect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atab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eb_db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note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Get form parameters. Non-existent values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are mapped to empty string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hoi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hoic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""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onten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onten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""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?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: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rtolow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o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ddslash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3962520"/>
            <a:ext cx="2057400" cy="761760"/>
          </a:xfrm>
          <a:prstGeom prst="wedgeRoundRectCallout">
            <a:avLst>
              <a:gd name="adj1" fmla="val -62810"/>
              <a:gd name="adj2" fmla="val 8520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 is a hidden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646-4A04-409C-A7EF-6E4EC99AB467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7E956-8C78-4CAF-963D-71F728AC3CD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s.php (logic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371600"/>
            <a:ext cx="845820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art_htm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b_conn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atab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entry_fo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ubmi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sert_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entry_fo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n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81680" y="3200400"/>
            <a:ext cx="1752840" cy="1066680"/>
          </a:xfrm>
          <a:prstGeom prst="wedgeRoundRectCallout">
            <a:avLst>
              <a:gd name="adj1" fmla="val -109240"/>
              <a:gd name="adj2" fmla="val -3288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it button wa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1828800"/>
            <a:ext cx="1752840" cy="1066680"/>
          </a:xfrm>
          <a:prstGeom prst="wedgeRoundRectCallout">
            <a:avLst>
              <a:gd name="adj1" fmla="val -175541"/>
              <a:gd name="adj2" fmla="val 2023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ime no button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BD5-84CF-4F88-89CD-AD0BD8BBEB4C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3E716-A7BC-440B-A686-965978C856C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s.php (logic 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371600"/>
            <a:ext cx="845820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isplay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entry_fo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n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earch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entry_fo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search_hi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81680" y="1523880"/>
            <a:ext cx="1752840" cy="1067040"/>
          </a:xfrm>
          <a:prstGeom prst="wedgeRoundRectCallout">
            <a:avLst>
              <a:gd name="adj1" fmla="val -147375"/>
              <a:gd name="adj2" fmla="val -4106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button wa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2819520"/>
            <a:ext cx="1752840" cy="1066680"/>
          </a:xfrm>
          <a:prstGeom prst="wedgeRoundRectCallout">
            <a:avLst>
              <a:gd name="adj1" fmla="val -141486"/>
              <a:gd name="adj2" fmla="val -1116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 button wa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899-205A-4C3C-819E-BFCA757C9EE5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7E945-04BE-44B1-861E-338F98B6A0A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s.php (logic 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1371600"/>
            <a:ext cx="845820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elet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lete_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entry_fo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n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&lt;string&gt;A note with ID#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as not found&lt;/b&gt;&lt;/p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81680" y="1523880"/>
            <a:ext cx="1752840" cy="1067040"/>
          </a:xfrm>
          <a:prstGeom prst="wedgeRoundRectCallout">
            <a:avLst>
              <a:gd name="adj1" fmla="val -147375"/>
              <a:gd name="adj2" fmla="val -4106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button wa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53C-FAB3-45C5-BC61-FC2B56AECF67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CAC13-2961-40FF-AA06-B560C706A3E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P MySQL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necting to a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ing a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results of a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ing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sing the conn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s.php (logic 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371600"/>
            <a:ext cx="845820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edi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ect_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edit_fo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echo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&lt;string&gt;A note with ID#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as not found&lt;/b&gt;&lt;/p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n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2590920"/>
            <a:ext cx="1752840" cy="1066680"/>
          </a:xfrm>
          <a:prstGeom prst="wedgeRoundRectCallout">
            <a:avLst>
              <a:gd name="adj1" fmla="val -126722"/>
              <a:gd name="adj2" fmla="val -5327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 link wa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0E3-1D59-491E-94B1-C14F6B4120C8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F6D66-3B51-4F8E-AD37-4D395CCAF28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es.php (logic 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37160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updat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update_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entry_fo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n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cancel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entry_fo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n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shouldn't get her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clo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nd_htm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i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438280"/>
            <a:ext cx="1752480" cy="1524240"/>
          </a:xfrm>
          <a:prstGeom prst="wedgeRoundRectCallout">
            <a:avLst>
              <a:gd name="adj1" fmla="val -98009"/>
              <a:gd name="adj2" fmla="val -4375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button on edit form wa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4191120"/>
            <a:ext cx="1752480" cy="1523880"/>
          </a:xfrm>
          <a:prstGeom prst="wedgeRoundRectCallout">
            <a:avLst>
              <a:gd name="adj1" fmla="val -131069"/>
              <a:gd name="adj2" fmla="val -7229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cel button on edit form wa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F2E-94EE-4401-82C0-0C0083A5F129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174BF-BC50-4F09-A950-BCA7A08C92F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_entry_form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1371600"/>
            <a:ext cx="845820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entry_fo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cript_ur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SEL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&lt;&lt;END_HTM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form method="POST" action=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cript_ur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nter a new note to submit or a search string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p&gt;&lt;textarea name="content" rows="5" cols="50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wrap=hard"&gt;&lt;/textare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input type="submit" name="choice" value="Submi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input type="submit" name="choice" value="Display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input type="submit" name="choice" value="Search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form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_HTM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9FB-1E88-4443-ABF7-18FB0256631D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C5534-BED0-46B4-AB5D-895CE6A9FAC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_not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371600"/>
            <a:ext cx="845820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n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hr&gt;\n&lt;h2&gt;Current Notes&lt;/h2&gt;\n&lt;hr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ELECT id,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ATE_FORMAT(time, '%W, %M %D, %Y at %r')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AS time2, content FROM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ORDER BY time DESC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Query faile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0BF-AD3C-47AD-8F2E-DA6523229F3E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878A0-2E55-41F3-AD08-08F59627480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_not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1371600"/>
            <a:ext cx="845820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he database is empty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while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etch_ass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ree_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9A9-B447-47E6-8AE8-66E28BF959F4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47973-7CF6-484B-B513-29AADD0FA34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_search_hit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137160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search_hi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arch_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arch_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r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arch_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arch_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&lt;b&gt;Please enter a search term&lt;/b&gt;&lt;/p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ELECT id, 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ATEFORMAT(time,'%W, %M, %D, %Y at %r') 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AS times2, content FROM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WHERE 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content LIKE '%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arch_string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%'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ORDER BY time DESC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41D-A03A-4E3E-9F82-1B016F9350D9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CE867-62AE-4A10-9FAB-774B97A5DC0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_search_hit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371600"/>
            <a:ext cx="845820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Query faile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h2&gt;Search found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0 ?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nothing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um_rows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not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gt; 1 ?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 matching \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ripslash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earch_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\"&lt;/h2&gt;\n&lt;hr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gt;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  while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etch_ass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{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ree_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2D5-669A-4860-A5BE-35E8FE14EA2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65B1E-9909-4A80-ADBE-0E27220D3BE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_not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371600"/>
            <a:ext cx="8458200" cy="391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i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tmlspecialcha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ripslash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conten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i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time2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Use get method to call this script for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// either the edit or delete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his_ur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SEL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edit_ur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his_url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?choice=edit&amp;id=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elete_ur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his_url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?choice=delete&amp;id=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7120" y="2666880"/>
            <a:ext cx="2057400" cy="762120"/>
          </a:xfrm>
          <a:prstGeom prst="wedgeRoundRectCallout">
            <a:avLst>
              <a:gd name="adj1" fmla="val 6944"/>
              <a:gd name="adj2" fmla="val 23104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 is a hidden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7BC-2430-43A6-8299-6ED4BEDB055D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B048C-ADBF-4D4B-937D-D80F6E9C2D6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_not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1371600"/>
            <a:ext cx="845820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&lt;&lt;END_HTM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able width="100%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r valign="top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d width="80%"&gt;&lt;b&gt;Time:&lt;/b&gt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i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re style="margin-left:2em;margin-top:0.5em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gin-bottom:0.5em"&gt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r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d&gt; width="10%"&gt;&lt;a href=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edit_ur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[ Edit 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a&gt;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d&gt; width="10%"&gt;&lt;a href=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elete_ur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[ Delete 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a&gt;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_HTM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C6A-87FA-48FE-A4B1-6A48A777360E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CDA4D-5665-4355-AE5B-976B4DDAAB4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lay_edit_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1371600"/>
            <a:ext cx="845820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edit_fo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$row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$script_url = $_SERVER['PHP_SELF'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$id = $row['id'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$note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tmlspecialcha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ripslash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$row['content']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&lt;&lt;&lt;END_HTM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&gt;Note Editing Form&lt;/b&gt;&lt;br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method="POST" action="$script_url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hidden" name="id" value="$id"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xtarea name="content" rows="5" cols="50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wrap=hard&gt;$note&lt;/textarea&gt;&lt;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submit" name="choice" value="Update"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submit" name="choice" value="Cancel"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&gt;&lt;/form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_HTM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05720" y="2666880"/>
            <a:ext cx="1904760" cy="762120"/>
          </a:xfrm>
          <a:prstGeom prst="wedgeRoundRectCallout">
            <a:avLst>
              <a:gd name="adj1" fmla="val -37333"/>
              <a:gd name="adj2" fmla="val 8812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 is a hidden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7F8-0B27-4922-A8FD-324ECC371BC2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432C1-7095-4046-8E91-A5931FB956E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HP documentation contains complete desciptions of the PHP functions needed to communicate with MySQ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ice feature of PHP is that MySQL support is built-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search the PHP docs for a complete description of all MySQL fun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E0D-E5BB-4DD2-A43C-793130DE56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FBD00-2B3A-49A3-8C7B-CB8B12F37C4F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e_no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1955880"/>
            <a:ext cx="845820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lete_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ELETE FROM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WHERE id = 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Deletion failed&lt;/p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gt; 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11480" y="4879800"/>
            <a:ext cx="3582720" cy="1143000"/>
          </a:xfrm>
          <a:prstGeom prst="wedgeRoundRectCallout">
            <a:avLst>
              <a:gd name="adj1" fmla="val -38875"/>
              <a:gd name="adj2" fmla="val -12180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row was deleted then $result will be 1 so the return value i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179-7A9E-4FF4-AB31-F38FC02088C5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C27B6-D7BD-4F69-88C9-226C5C4E2BB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_no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879560"/>
            <a:ext cx="845820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sert_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r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!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INSERT INTO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SET time = NOW(),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.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content = 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ote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Insertion failed&lt;/p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C1C-BBCE-4E79-A4B9-B937A4F56F89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1879D-2EE1-4741-A93B-F9F6BA39829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_no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1676520"/>
            <a:ext cx="84582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ect_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ELECT * FROM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WHERE id = 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Select note failed&lt;/p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etch_ass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4648320"/>
            <a:ext cx="3429000" cy="1371600"/>
          </a:xfrm>
          <a:prstGeom prst="wedgeRoundRectCallout">
            <a:avLst>
              <a:gd name="adj1" fmla="val -48009"/>
              <a:gd name="adj2" fmla="val -10682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note with given id is not found then a false value will be retu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F48-3442-4FB6-9B29-36B3B7F2C6D2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BC89C-C39A-45C0-86A6-0E3B65E99AC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date_no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1879560"/>
            <a:ext cx="845820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update_n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$query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UPDATE $table SET content = 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note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 "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         . "WHERE id = 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d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$result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&gt;Select note failed&lt;/p&gt;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8FF-B2C2-4C53-BB53-AC8964C23401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90896-4143-4401-B234-9A00418D4D3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form that gives a list of choices for the po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e poll result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't allow user to do the poll more than once from the same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 a "show results" button that gives the percentages for each entry in the list of cho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view script poll/poll.php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_x000b_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://localhost/php/poll/poll.ph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002-9C0B-412E-8FB7-F9131311BBA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49EA4-BF82-489C-9348-999DDC3E732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 Results Databas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67652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poll_resul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otes INT UNSIGNED NOT NULL DEFAULT 0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yes   INT UNSIGNED NOT NULL DEFAULT 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INTO poll_results VALUES(0,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4419720"/>
            <a:ext cx="2971800" cy="1447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able keeps tra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total number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es and the tot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yes v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865840" y="17366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view script poll/poll.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B89-04CB-4B9C-A2E4-D2DEA6DF9DC8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A1727-A4E8-484C-8F5F-D834C949A70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P Address Databas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676520"/>
            <a:ext cx="84582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poll_ip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p VARCHAR(255)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RIMARY KEY (ip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3962520"/>
            <a:ext cx="4495680" cy="1447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user votes the ip addre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stored in this table so that noo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is location can vote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A2A-893D-4B6F-B079-FECB4175D3AA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02194-25DE-4A08-85FD-70BC41BA49D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ting Displ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960640" cy="20462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925560" y="3809880"/>
            <a:ext cx="2732040" cy="2160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4917960" y="3513240"/>
            <a:ext cx="3463920" cy="2582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09480" y="1447920"/>
            <a:ext cx="32004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3809880"/>
            <a:ext cx="32004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76920" y="3429000"/>
            <a:ext cx="35812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1447920"/>
            <a:ext cx="1600200" cy="914400"/>
          </a:xfrm>
          <a:prstGeom prst="wedgeRoundRectCallout">
            <a:avLst>
              <a:gd name="adj1" fmla="val -83629"/>
              <a:gd name="adj2" fmla="val 17239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after vo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86600" y="1295280"/>
            <a:ext cx="1676520" cy="1219320"/>
          </a:xfrm>
          <a:prstGeom prst="wedgeRoundRectCallout">
            <a:avLst>
              <a:gd name="adj1" fmla="val -82101"/>
              <a:gd name="adj2" fmla="val 11679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after trying to vote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909-CDD9-46D5-825F-5D35D84DF6FF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8CEB5-C9C4-4F2B-B251-7B04A5D6B8D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ript Log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422360"/>
            <a:ext cx="845820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n a database conn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user IP addre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results button was click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the poll resul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submit button clicked AND vote enter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Get the vote from radio butt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user has already vot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Warn u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submit the vo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NDI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the poll resul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the poll voting for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ose the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402-5198-4460-913C-C2A3D386DEB4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06AD4-A2DD-4C6C-9547-1FAB40C42D7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1574640"/>
            <a:ext cx="8458200" cy="45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quire_o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b_connect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art_htm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p_addre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REMOTE_ADD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oll_ques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o you like Java programming?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Table for ip addresse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p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poll_ip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Table for total votes and total yes vote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ote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poll_result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b_conn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eb_db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C79-5DC7-4FF7-8F1E-46D5E24AAD2C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82EF5-AB05-45EC-AF71-473EC8C72B7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_connect(server, username, pass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s to a MySQL server through a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fault is the string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localhost:3306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name is a string for the user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word is a string for the pass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FALSE on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mysql_conn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localhost:3306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tes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123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the persistent mysql_pconn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415880"/>
            <a:ext cx="822960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necting To A Data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F78-520D-40BD-8D61-AD56766C04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7CC1D-1FE8-4C6E-A483-47B2A29C8D7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1574640"/>
            <a:ext cx="845820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results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poll_resul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oll_ques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ote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(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submi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&amp;&amp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s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vot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)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REQU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vote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as_vot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p_addre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p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&lt;span class="warn"&gt;Someone at your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               location has already votes&lt;/span&gt;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D71-E1E2-4362-BFC3-8182BCD1FEAF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C2002-24E0-4AC2-B304-B9DF83E3B9F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1574640"/>
            <a:ext cx="845820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ubmit_poll_v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p_addre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o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ote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p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poll_resul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oll_ques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ote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poll_fo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oll_ques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clo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db_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nd_htm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i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A2C-9016-43B1-96BD-237174593FE6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2DF02-F118-4C19-B93E-F61A7D5FE21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157464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art_htm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Web Poll using MySQL&lt;/tit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style type="text/css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warn {font-weight: bold; font-size: smal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color: #FF0000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bg1 { background-color: #AEC6D9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bg2 { background-color: #0099CC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styl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ead&gt;&lt;body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094-B8C0-4572-92C6-AB6FE7FFAF95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EC7B2-F8D0-4E22-92BA-A5D8E51A7BF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1574640"/>
            <a:ext cx="845820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nd_htm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89C-A37C-4C65-8E80-BCCD129E673C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11880-9DDC-4796-ABBD-96FEC966D12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1727280"/>
            <a:ext cx="845820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as_vot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user_i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ip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return false // comment when testing is complet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ELECT ip FROM $ip_table WHERE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                                 ip = '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user_ip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CheckIP query faile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&gt; 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AB5-DEC6-414A-B21A-087E46EA4382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C561B-0C11-4DDE-A54B-3DDA2AD840B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7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172728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poll_fo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oll_ques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script_ur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_SERV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PHP_SEL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h2&gt;Poll Question&lt;/h2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h3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oll_question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h3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form method="POST" action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$script_url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input type="radio" name="vote" value=1 /&gt;Yes&lt;br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input type="radio" name=vote" value=0 /&gt;No&lt;br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input type="submit" name="submit" value="Submit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input type="submit" name="results value="Results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form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080-5363-467C-8672-C815D7566CE3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8F6BF-D165-4E63-93F2-CBECA55377C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8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1727280"/>
            <a:ext cx="845820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play_poll_resul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oll_ques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ote_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v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y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n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ercent_y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ercent_n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ELECT votes, yes FROM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vote_table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qu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o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Query faile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num_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== 1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ysql_fetch_ass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esu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v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votes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y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'yes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n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v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y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B43-2568-4AC7-B796-9DB8F66E6207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B59FD-26CE-4F84-B2E5-255F5BECABB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9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172728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v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!=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ercent_y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ou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(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y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/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vot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100), 1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ercent_n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ou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(100 -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ercent_y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1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2E1-4D40-4159-9011-C13B57F1016C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62C39-3EC5-42D8-9CEA-DF87035715E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10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1727280"/>
            <a:ext cx="8458200" cy="23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h2&gt;Poll Results&lt;/h2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able border="0" cellpadding="5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&lt;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&lt;td class="bg2" colspan="3"&gt;&lt;b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oll_ques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&gt;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1A7-C5D2-4B2A-B5B4-2311E2EA5A87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304AE-EA13-413E-8D87-95564CCFD96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l.php (1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380880" y="1727280"/>
            <a:ext cx="845820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d class="bg1"&gt;Yes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d class="bg1"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ercent_y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% 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d class="bg1"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y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ot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tr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&lt;td class="bg1"&gt;No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&lt;td class="bg1"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percent_n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%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&lt;td class="bg1"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php ech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$total_n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ot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064-3B3F-4F15-94F5-FEA7BF106FD7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C5A25-8DF8-4B99-B885-5CC22258045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7:04:13Z</dcterms:created>
  <dc:creator>Barry Adams</dc:creator>
  <dc:description/>
  <dc:language>en-US</dc:language>
  <cp:lastModifiedBy>Laurentian University </cp:lastModifiedBy>
  <cp:lastPrinted>1999-09-14T12:12:50Z</cp:lastPrinted>
  <dcterms:modified xsi:type="dcterms:W3CDTF">2004-07-15T15:58:57Z</dcterms:modified>
  <cp:revision>132</cp:revision>
  <dc:subject>PHP-MySQL Database Applications</dc:subject>
  <dc:title>COSC 2206 Internet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laurentian.ca/badams/c1046</vt:lpwstr>
  </property>
  <property fmtid="{D5CDD505-2E9C-101B-9397-08002B2CF9AE}" pid="9" name="LinkColor">
    <vt:r8>16711782</vt:r8>
  </property>
  <property fmtid="{D5CDD505-2E9C-101B-9397-08002B2CF9AE}" pid="10" name="MailAddress">
    <vt:lpwstr>barry@cs.laurentian.ca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ork\Html01\badams\c1046\pp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