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8DD-252E-455C-8BC0-36ACA5F1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9F6-43F8-4408-9287-D91635C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2AD-9B37-4EC2-AB0F-39D8D497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8A7-8242-4B6D-ABBC-8EB425F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780-91DC-4342-95E0-AC28164E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F2A3-A3A4-481A-8184-5F95EB0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DC36-4D7E-4C7E-8F06-749AF045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AB7-BB0C-4AAC-9292-15345434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1B93-BB97-48FE-AAC9-87E5B7D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B18-1B5A-4C7C-BAAB-82BAA83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6B1-F935-4F51-BA65-B761A2D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D69-45E2-47E5-A18E-11F4A1EE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9EF6-BE6B-4A8B-8BA0-8DC8210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D9A-A9A1-4168-A848-4FFB95C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84A-541A-4CE3-9C80-C23E6E0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70F-BD29-4546-8927-70782E99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FC6C-456B-4524-B11D-53A7972B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C95-1E47-4F07-B40D-30F8558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591-2C14-4FF0-8F6D-6B1DE82D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3B1-CA0B-42E9-8E04-59EC54C5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705-31DE-49EA-814D-4EE1E62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FC-0BA5-4C64-9633-E7953E7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BE4-5F93-4699-8D19-E333CFC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66-2A8B-4CAB-86B0-7C19CA3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A91-0C1F-4552-B07A-39E17E6D276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A42-F9EC-4E67-9C32-4429F3C0E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9137-9ECE-4361-B22E-7FB6C338DFEE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EF1-A095-4BCF-84D9-CF8AF3873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ocalhost/php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p.net/" TargetMode="External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localhost/php/lang/scalars.php" TargetMode="External"/><Relationship Id="rId2" Type="http://schemas.openxmlformats.org/officeDocument/2006/relationships/hyperlink" Target="file:///php-txt/lang/scalars.php.txt" TargetMode="External"/><Relationship Id="rId3" Type="http://schemas.openxmlformats.org/officeDocument/2006/relationships/hyperlink" Target="http://localhost/php/lang/display.php" TargetMode="External"/><Relationship Id="rId4" Type="http://schemas.openxmlformats.org/officeDocument/2006/relationships/hyperlink" Target="file:///php-txt/lang/display.php.txt" TargetMode="External"/><Relationship Id="rId5" Type="http://schemas.openxmlformats.org/officeDocument/2006/relationships/hyperlink" Target="http://localhost/php/lang/strings1.php" TargetMode="External"/><Relationship Id="rId6" Type="http://schemas.openxmlformats.org/officeDocument/2006/relationships/hyperlink" Target="file:///php-txt/lang/strings1.php.txt" TargetMode="External"/><Relationship Id="rId7" Type="http://schemas.openxmlformats.org/officeDocument/2006/relationships/hyperlink" Target="http://localhost/php/lang/strings2.php" TargetMode="External"/><Relationship Id="rId8" Type="http://schemas.openxmlformats.org/officeDocument/2006/relationships/hyperlink" Target="file:///php-txt/lang/strings2.php.txt" TargetMode="External"/><Relationship Id="rId9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http://localhost/php/lang/strings3.php" TargetMode="External"/><Relationship Id="rId2" Type="http://schemas.openxmlformats.org/officeDocument/2006/relationships/hyperlink" Target="file:///php-txt/lang/strings3.php.txt" TargetMode="External"/><Relationship Id="rId3" Type="http://schemas.openxmlformats.org/officeDocument/2006/relationships/hyperlink" Target="http://localhost/php/lang/arithmetic.php" TargetMode="External"/><Relationship Id="rId4" Type="http://schemas.openxmlformats.org/officeDocument/2006/relationships/hyperlink" Target="file:///php-txt/lang/arithmetic.php.txt" TargetMode="External"/><Relationship Id="rId5" Type="http://schemas.openxmlformats.org/officeDocument/2006/relationships/hyperlink" Target="http://localhost/php/lang/math.php" TargetMode="External"/><Relationship Id="rId6" Type="http://schemas.openxmlformats.org/officeDocument/2006/relationships/hyperlink" Target="file:///php-txt/lang/math.php.txt" TargetMode="External"/><Relationship Id="rId7" Type="http://schemas.openxmlformats.org/officeDocument/2006/relationships/hyperlink" Target="http://localhost/php/lang/arrays1.php" TargetMode="External"/><Relationship Id="rId8" Type="http://schemas.openxmlformats.org/officeDocument/2006/relationships/hyperlink" Target="file:///php-txt/lang/arrays1.php.txt" TargetMode="External"/><Relationship Id="rId9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http://localhost/php/lang/arrays2.php" TargetMode="External"/><Relationship Id="rId2" Type="http://schemas.openxmlformats.org/officeDocument/2006/relationships/hyperlink" Target="file:///php-txt/lang/arrays2.php.txt" TargetMode="External"/><Relationship Id="rId3" Type="http://schemas.openxmlformats.org/officeDocument/2006/relationships/hyperlink" Target="http://localhost/php/lang/arrays3.php" TargetMode="External"/><Relationship Id="rId4" Type="http://schemas.openxmlformats.org/officeDocument/2006/relationships/hyperlink" Target="file:///php-txt/lang/arrays3.php.txt" TargetMode="External"/><Relationship Id="rId5" Type="http://schemas.openxmlformats.org/officeDocument/2006/relationships/hyperlink" Target="http://localhost/php/lang/arrays4.php" TargetMode="External"/><Relationship Id="rId6" Type="http://schemas.openxmlformats.org/officeDocument/2006/relationships/hyperlink" Target="file:///php-txt/lang/arrays4.php.txt" TargetMode="External"/><Relationship Id="rId7" Type="http://schemas.openxmlformats.org/officeDocument/2006/relationships/hyperlink" Target="http://localhost/php/lang/sort.php" TargetMode="External"/><Relationship Id="rId8" Type="http://schemas.openxmlformats.org/officeDocument/2006/relationships/hyperlink" Target="file:///php-txt/lang/sort.php.txt" TargetMode="External"/><Relationship Id="rId9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hyperlink" Target="http://localhost/php/lang/testing.php" TargetMode="External"/><Relationship Id="rId2" Type="http://schemas.openxmlformats.org/officeDocument/2006/relationships/hyperlink" Target="file:///php-txt/lang/testing.php.txt" TargetMode="External"/><Relationship Id="rId3" Type="http://schemas.openxmlformats.org/officeDocument/2006/relationships/hyperlink" Target="http://localhost/php/lang/comparison.php" TargetMode="External"/><Relationship Id="rId4" Type="http://schemas.openxmlformats.org/officeDocument/2006/relationships/hyperlink" Target="file:///php-txt/lang/comparison.php.txt" TargetMode="External"/><Relationship Id="rId5" Type="http://schemas.openxmlformats.org/officeDocument/2006/relationships/hyperlink" Target="http://localhost/php/lang/regexp1.php" TargetMode="External"/><Relationship Id="rId6" Type="http://schemas.openxmlformats.org/officeDocument/2006/relationships/hyperlink" Target="file:///php-txt/lang/regexp1.php.txt" TargetMode="External"/><Relationship Id="rId7" Type="http://schemas.openxmlformats.org/officeDocument/2006/relationships/hyperlink" Target="http://localhost/php/lang/scoping.php" TargetMode="External"/><Relationship Id="rId8" Type="http://schemas.openxmlformats.org/officeDocument/2006/relationships/hyperlink" Target="file:///php-txt/lang/scoping.php.txt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http://localhost/php/lang/loops.php" TargetMode="External"/><Relationship Id="rId2" Type="http://schemas.openxmlformats.org/officeDocument/2006/relationships/hyperlink" Target="file:///php-txt/lang/loops.php.txt" TargetMode="External"/><Relationship Id="rId3" Type="http://schemas.openxmlformats.org/officeDocument/2006/relationships/hyperlink" Target="http://localhost/php/lang/functions1.php" TargetMode="External"/><Relationship Id="rId4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localhost/testphp/hello.php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ing PHP (brie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608040" y="27619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PHP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hp.n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et th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also on the CD-ROM (version 4.3.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indows it should have a name lik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-4.3.7-Win32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zip it into your top leve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gives a directory call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-4.3.7-Win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ame this directory to jus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FAD-90C9-4128-8332-5007BC39E6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6CA8E-1535-4661-B3F2-47ED4BD3E6F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s by 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y each element of an array by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2057400"/>
            <a:ext cx="59418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s2_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amp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2 * $a[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62920" y="1981080"/>
            <a:ext cx="1600200" cy="1143000"/>
          </a:xfrm>
          <a:prstGeom prst="wedgeRoundRectCallout">
            <a:avLst>
              <a:gd name="adj1" fmla="val -208930"/>
              <a:gd name="adj2" fmla="val -290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080" y="4648320"/>
            <a:ext cx="777240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,2,3,4,5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 var_ex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/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1,2,3,4,5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s2_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 var_ex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/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2,4,6,8,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1CB-796F-4CC8-AF07-36DF7F675BA4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5E0FF-CAAB-41D6-93FC-8F4300573D99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number of ar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max of sever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2286000"/>
            <a:ext cx="7772400" cy="391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ax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unc_get_ar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1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unc_num_arg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unc_get_ar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ax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ax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unc_get_ar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ax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217-B2F0-45F1-AF2E-E266299B4BD6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0C97-12F9-471B-9FE4-5689AFEA225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ding fi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le can be included in another file using include and req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clude_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its the scope of the include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ing is in HTML mode so code must use the php tag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?php ... ?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qui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quire_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include but causes fatal error if file doesn't ex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2BB-50C4-4883-9A59-909A43309975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3A75E-D0CC-465A-9EFF-1E6E7063EE9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ding fi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searches for include files in the paths specified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 in windows you could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lude_path = ".;c:\php;c:\Apache\php-includ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the search is in the current directory (the dot) and if not found there then in the directori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Apache\php-incl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B77-2F92-4594-BFDC-1CE13CD80740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829E-39F6-4518-96E9-A2BE15D11A9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es and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has object oriented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support data encapasulation however since data fields are always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4D9-EECD-4F20-8793-18B66111D083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2AB96-2586-4107-B35C-DF209C59897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ing lines to a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open the file for wri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out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p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test.dat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w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some data to the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wr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out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Line 1\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wr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out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Line 2\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 the file when finis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out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ppending use 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w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4191120"/>
            <a:ext cx="1904760" cy="533160"/>
          </a:xfrm>
          <a:prstGeom prst="wedgeRoundRectCallout">
            <a:avLst>
              <a:gd name="adj1" fmla="val -89000"/>
              <a:gd name="adj2" fmla="val -6339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DFB-5105-4637-BC75-1E2C494190EA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F12F4-7CBA-448C-8A04-98AACA4FE59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765" dur="indefinite" restart="never" nodeType="tmRoot">
          <p:childTnLst>
            <p:seq>
              <p:cTn id="1766" dur="indefinite" nodeType="mainSeq">
                <p:childTnLst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lines from a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open the file for rea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in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p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test.dat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loop to read and display 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 (!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eo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in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get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in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100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 the file when finis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in_f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800600"/>
            <a:ext cx="1904760" cy="1143000"/>
          </a:xfrm>
          <a:prstGeom prst="wedgeRoundRectCallout">
            <a:avLst>
              <a:gd name="adj1" fmla="val -21666"/>
              <a:gd name="adj2" fmla="val -11597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most 9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7A1-4A6B-4A0B-8CF0-88F9B5A4F4B4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CBA22-D34D-4564-BE7B-E2934E6E267E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file oper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getss(fp, leng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fgets but strips out PHP and HTML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getcsv(fp, length, delimi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fgets but returns array of strings using delimiter as separation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ad(fp, leng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length bytes using file pointer 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getc(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s a single character and returns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6D9-9D30-4408-B0FE-092288E862E6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4297-504A-4ABA-BCC9-960D468AE0E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file oper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file(filena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s an entire file and echoes it to standard output (browser). returns number of bytes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(f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s entire file as lines into an array which is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_exists(filena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the specified file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6BC-7B09-4977-AEA5-8F3A09E0933B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FFD74-3C8D-4A52-A544-98E5AFCE372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file operat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nlink(filena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the specified file. Returns true if the file was dele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lesize(filena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length in bytes of specified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file operations such as rewind, fseek, and ftell to support direc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locking is supported with f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DAF-46F8-4ABB-9CF9-522DEACDEA1A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06B79-B8D0-43AB-BA5B-DF85796AB28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PHP docu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cumentation is an 1800 page manual and it is necessary to have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omes in several formats but the best for Windows is the help fil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this format download th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_manual_chm_12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zip it in you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\doc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rectory and put a shortcut to it on your start men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lso available on the 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36D-2781-4333-89A5-03E67A5F16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EAA61-F8D1-4F6A-8560-0A16DC5DE50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Based Page Hit 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easy in PHP to make a simple page hit cou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file that contains one number, the number of times the page has been acces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 this count and display it each time the page is acc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cript lang/counter_tes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localhost/php/lang/counter_test.ph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B17-77B7-4D6F-9948-F1BC396271EE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0A6BE-C773-43BA-A65D-B2ABA6CEAE5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ter_tes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600200"/>
            <a:ext cx="815364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unter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Testing the counter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Testing the counter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page has been visite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count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unter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ime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1FB-24AB-4B60-821C-7A4D47AB2925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1991C-8385-4B2D-A184-B88B6E82EE9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ter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447920"/>
            <a:ext cx="84582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unction returns counter value with given count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ile name (without extensio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ile_exis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da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_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da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0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DFF-68CF-46C5-815A-67C12E0AFD7F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B8141-5364-420C-A04C-629F8D65FFA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ter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1600200"/>
            <a:ext cx="8458200" cy="29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write the new value to the file using exclusive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//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get_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da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er_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lease_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66F-1EBB-4DD6-9EE4-BC5887092B45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856A3-9F56-4A31-A0DD-5FFDF2630B6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ter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1600200"/>
            <a:ext cx="8458200" cy="40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get_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maphore_file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maphore_file_name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sem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fp, 2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$f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lease_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fp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lo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fp, 3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fp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1400" y="5765760"/>
            <a:ext cx="4752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 script simple/counter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432-C680-4586-B75F-F9C90A77C0F8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5B2BD-87BC-4618-B200-CEAD337D436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example scripts illustrate the PHP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etter way to show them is to use the link http://localhost/php/ which shows both the source and the output in side by side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BFD-185E-439D-8541-68A546F42566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4A391-29EA-4823-BCF0-4EE0EA60329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lang/scalars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localhost/php/lang/display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localhost/php/lang/strings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localhost/php/lang/strings2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3CB-0959-4D1C-A937-BA760CF9660D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A1B86-9413-4964-BFDA-A0268225224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lang/strings3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localhost/php/lang/arithmetic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localhost/php/lang/math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localhost/php/lang/arrays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BC0-3A0A-4640-8DFB-4DCBB98FA92B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C1659-69B0-430F-B795-4F55B5617EE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lang/arrays2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localhost/php/lang/arrays3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localhost/php/lang/arrays4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localhost/php/lang/sor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26B-4139-4AE9-A7A3-906D82865A78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138CC-C17F-4D8B-A4AC-CF4EA80B573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lang/testing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localhost/php/lang/comparison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localhost/php/lang/regexp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localhost/php/lang/scoping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CC7-E594-475B-837E-3DD3A9B323E1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7E582-A7D5-4515-AFFC-4BEADE7C700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.ini configuration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director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ou will find a default configuration file call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-recommen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y it to your windows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ame the copy to jus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DC6-157B-43D3-87BE-C22B7C9BB3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32CFA-D1CC-4D0E-91B0-326CA38D41D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php/lang/loops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w sour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localhost/php/lang/functions1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lang/trigtable.ph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lang/write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D12-C6B5-4E3B-9C3F-CB9664F96B51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2CCEA-34A7-4570-98F4-F942B8AD56E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cript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lang/read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lang/append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localhost/php/lang/counter_test.ph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 (counter_test.ph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source (counter.ph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2FC-44A6-42F8-A9B6-FAE8E535E2F7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797AA-6B02-46D4-9E29-8B09CD1DB4B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hp.in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following changes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c_root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c_root = "c:\Apache\htdoc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_errors =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_errors = O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or learning PH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ssume that Apache is installed director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Ap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DE3-2C34-4FCC-B71E-A8625321EE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93CAB-163A-4583-8790-1D9306E7E2F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hp.in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following changes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ment t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extension=php_gd2.dll ;extension=php_pdf.d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 the 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nsion_dir = "./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nsion_dir = "c:\php\extension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617-452C-440E-8268-FDB474DA70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27745-6400-42D1-B276-A7C8B335AEF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hp.in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he following change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hp.i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th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ion_save_path = "/tmp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(make directo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ion_save_path = "c:\Apache\session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line for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include_path = ".;c:\php\includ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(make directo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hp-includ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lude_path = ".;c:\php;c:\Apache\php-includes"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32B-3BBD-44B6-8CDF-D29B82D037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8AC4A-A694-4A5A-B6F1-203169F47DD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Apach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figure PHP as an Apache module locate th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php\php4ts.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y it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windows\system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it is necessary to configure apache as a module (built-in to Apach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DF8-E1B1-40C8-8BB2-E0B1F6198C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F56C-D600-4EA5-94AF-16EB8660D2E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Apach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apache\conf\httpd.con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dd the following LoadModule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adModule  php4_module  c:/php/sapi/php4apache.d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the section of the file with the AddModule statements and add the two 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Module mod_php4.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Type application/x-httpd-php  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Type application/x-httpd-php-source .ph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tells apache to treat files with the php extension as executable by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139-E51E-48BB-8D2F-B0FA68DB59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319A-F853-464B-9EF5-A1EF6774074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Apach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art or start Apache so that the modifications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d.con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ll be re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command window you should s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pache/1.3.29 (Win32) PHP/4.3.7 ru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ndicates that PHP has been properly installed as an Apach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FC4-0FCF-49BC-8ED5-8A7012EFA8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1B14D-BDE3-41A4-A69F-F5EC5DB840F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-Apache Integ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91320" y="2057400"/>
            <a:ext cx="6709320" cy="3733920"/>
            <a:chOff x="1291320" y="2057400"/>
            <a:chExt cx="6709320" cy="3733920"/>
          </a:xfrm>
        </p:grpSpPr>
        <p:sp>
          <p:nvSpPr>
            <p:cNvPr id="140" name=""/>
            <p:cNvSpPr/>
            <p:nvPr/>
          </p:nvSpPr>
          <p:spPr>
            <a:xfrm>
              <a:off x="1371600" y="2057400"/>
              <a:ext cx="2514600" cy="373392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3733920"/>
                <a:gd name="textAreaBottom" fmla="*/ 3611160 h 3733920"/>
              </a:gdLst>
              <a:ahLst/>
              <a:rect l="textAreaLeft" t="textAreaTop" r="textAreaRight" b="textAreaBottom"/>
              <a:pathLst>
                <a:path w="21600" h="32072">
                  <a:moveTo>
                    <a:pt x="3600" y="0"/>
                  </a:moveTo>
                  <a:arcTo wR="3600" hR="3600" stAng="16200000" swAng="-5400000"/>
                  <a:lnTo>
                    <a:pt x="0" y="28472"/>
                  </a:lnTo>
                  <a:arcTo wR="3600" hR="3600" stAng="10800000" swAng="-5400000"/>
                  <a:lnTo>
                    <a:pt x="18000" y="320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3880" y="312408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P 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Document"/>
            <p:cNvSpPr/>
            <p:nvPr/>
          </p:nvSpPr>
          <p:spPr>
            <a:xfrm rot="10800000">
              <a:off x="2209320" y="4114440"/>
              <a:ext cx="762120" cy="10666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2960" y="2297160"/>
              <a:ext cx="158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a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2438280"/>
              <a:ext cx="2210040" cy="2819520"/>
            </a:xfrm>
            <a:custGeom>
              <a:avLst/>
              <a:gdLst>
                <a:gd name="textAreaLeft" fmla="*/ 107640 w 2210040"/>
                <a:gd name="textAreaRight" fmla="*/ 2102400 w 2210040"/>
                <a:gd name="textAreaTop" fmla="*/ 107640 h 2819520"/>
                <a:gd name="textAreaBottom" fmla="*/ 2711880 h 2819520"/>
              </a:gdLst>
              <a:ahLst/>
              <a:rect l="textAreaLeft" t="textAreaTop" r="textAreaRight" b="textAreaBottom"/>
              <a:pathLst>
                <a:path w="21600" h="27556">
                  <a:moveTo>
                    <a:pt x="3600" y="0"/>
                  </a:moveTo>
                  <a:arcTo wR="3600" hR="3600" stAng="16200000" swAng="-5400000"/>
                  <a:lnTo>
                    <a:pt x="0" y="23956"/>
                  </a:lnTo>
                  <a:arcTo wR="3600" hR="3600" stAng="10800000" swAng="-5400000"/>
                  <a:lnTo>
                    <a:pt x="18000" y="27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14960" y="2666880"/>
              <a:ext cx="12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69160" y="3581280"/>
              <a:ext cx="14954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792400">
              <a:off x="1342080" y="3482280"/>
              <a:ext cx="482040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537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5379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2803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d 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495288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124080" y="4266360"/>
              <a:ext cx="48765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809000" y="3858480"/>
              <a:ext cx="799560" cy="53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89" y="1440"/>
                  </a:moveTo>
                  <a:arcTo wR="10800" hR="10800" stAng="-3604100" swAng="74414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89" y="1440"/>
                  </a:moveTo>
                  <a:arcTo wR="10800" hR="10800" stAng="-3604100" swAng="744146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Document"/>
            <p:cNvSpPr/>
            <p:nvPr/>
          </p:nvSpPr>
          <p:spPr>
            <a:xfrm rot="10800000">
              <a:off x="6257880" y="3733560"/>
              <a:ext cx="905040" cy="9046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9DD-9994-4A74-8AC4-2F231A8D58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BAA32-1E8C-4C0E-83EC-55C00CDF67F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s of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 Incompat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follow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it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apache\htdocs\test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UR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ocalhost/testphp/hello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057400"/>
            <a:ext cx="67057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Hello Script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PHP World!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810-0678-43A5-A1D4-A04FE5F194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9EA71-6BED-4A26-82FD-3DE36B8CEDD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oes PHP cod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t-in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code can be standalone (like Perl) or embedded in HTML code (like AS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script tags are used to distinguish PHP code from HTML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&lt;?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PHP code goes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tags are XML compliant and should always be used for fully portable PHP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does PHP code g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3271680"/>
            <a:ext cx="2438640" cy="613080"/>
          </a:xfrm>
          <a:prstGeom prst="wedgeEllipseCallout">
            <a:avLst>
              <a:gd name="adj1" fmla="val -172527"/>
              <a:gd name="adj2" fmla="val 2720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 PHP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5600" y="4497480"/>
            <a:ext cx="2511720" cy="612720"/>
          </a:xfrm>
          <a:prstGeom prst="wedgeEllipseCallout">
            <a:avLst>
              <a:gd name="adj1" fmla="val -188685"/>
              <a:gd name="adj2" fmla="val -1087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d PHP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BCB-5447-47A1-8FC1-86F6BB9384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BD528-D90E-4FE2-A10E-58DA5D17CBFC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 Data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are scalar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, floating point (double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re structured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an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re special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, 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654-6766-4875-821E-A494F4A6B6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31126-5DAE-4E32-A2D0-6362849C7DA8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ing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types are not decla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s type of value currently assig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variables begin with a dollar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character is a letter or unders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are letters, underscore or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191120"/>
            <a:ext cx="4038480" cy="21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pri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45.50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big_n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1.2345E23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ucce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876920"/>
            <a:ext cx="1752480" cy="761760"/>
          </a:xfrm>
          <a:prstGeom prst="wedgeRoundRectCallout">
            <a:avLst>
              <a:gd name="adj1" fmla="val -167300"/>
              <a:gd name="adj2" fmla="val 101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3D9-11A2-41DD-A7C8-27AC437810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E8FBC-9E1F-414C-8C9B-01D7A34DF08C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conven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vention in PHP (coming from C) is that the underscore character is used to simulate a space in variable na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number_of_file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different from the uppercase convention that is used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umberOfFile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C66-D5DA-46B2-B0F4-5C7CDF280F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6FF9A-261D-49F2-B2BA-DC78A193DB6D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s are defined using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and do not begin with a dollar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vention is to use all uppercase letters and _ for names of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COURSE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Internet Tool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CM_TO_INCH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2.5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M_TO_IN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fer to these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B6B-9A7F-48F8-B372-151240A841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41CE0-B5FF-49B4-9A5E-7E4DCBDDA22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ensi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is a weird mixture of case sensitivity and case insensi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and constant names are case 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ean values TRUE and FALSE are not case sensi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names are not case 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be they will fix this in a future ver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62F-45F7-48DB-B142-17CAD73486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A5AEC-EAA3-428A-A4B5-306A83F35AE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kinds of 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, Java style multi-line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/* This is a multi-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++, Java single line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// a single line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x shell script and Per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# a single line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057-BD85-4C0D-AE16-66A017F7F4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50728-81D5-4A92-A8D6-5117E75F44E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ls and Str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er literal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 point liter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.23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4.5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.34E-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wo kinds of string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quotes: 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hello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quotes: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wo boolean liter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98-4CA7-4D28-9D7F-59598CC8A4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A5371-C03E-45C0-9123-A8EF210E108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Time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smus Lerdorf's Personal Home Page tools,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 recursively renamed t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pertex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1.0, June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2.0, April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3.0, June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using version 4.3.7 (June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85E-BDDE-4644-A0E5-30D3FEBAA5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303C2-F1A3-4B27-8298-BB92A520516A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Interpol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olation takes place inside doubly quoted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at variables are replaced by their values and special control sequence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ke eff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olation does not take place inside singly quoted strings s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just two charac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similar to interpolation in Per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3EB-23A3-4C44-BD24-4835E55F0E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E44ED-F402-42B0-ADFF-A5A5ECBEB6B3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Interpol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Hello $name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 F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Hello $name'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 $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\$name = $name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name = F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last case the escape charact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used to specify that the firs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literal charac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22D-86B9-44AA-9F4D-BCE94501F5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ED2BF-396D-4D82-B175-E44184F08DA8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ing string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displays text on the standard 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 $name\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is similar but parentheses are not needed and several arguments can be suppl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$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\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C-styl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that produces formatted outp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EBF-A9F6-4754-9477-8D49453178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5FDA8-E8FD-4704-9DA1-74EE45D44FC0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ing string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_r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which displays a string representation of a variable such as a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var_dump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output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_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var_export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a string representation of a variable. Can be used in a print statement (like toString in 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562-F812-41C6-BEF5-27C54A591B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AE9AA-6FDF-453D-AA0D-945C54D4320A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ca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ype of a variable can be changed using the typecasting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nte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floa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re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bool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boole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tring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......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098-2F2F-48EC-99CA-A925D35BB1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92D9E-4EFF-467B-9B9B-0846E14C43E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sual operators a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lways a floating point div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nteger divide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int)(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mainder (mod) operator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 if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ve integer values then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remainder when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divided by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s ar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we ha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so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9FE-CB74-453B-9E1C-B995599A2C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84E52-97CE-4887-B1E0-24596EFEBB4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false in PH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conversion to boolean only the following are considered to be fal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oolean valu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g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loating point nu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mpty string 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"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string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0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with no elements (lik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(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ject with no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ecial valu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LL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n unset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570-9BE3-4EAF-BA4E-68C4705AF4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A0FAC-52E1-4BC6-BF57-D1DB43B05BF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al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has the usual C and Java style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gical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gical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different precedence ver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gical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gical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3D8-2477-4047-ADF8-A214F4CB03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DF95A-B71B-4023-9E4B-A7C2DA2399CB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has the usual C and Java style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, &lt;=, ==, !=, &gt;, &gt;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operators perform type conversions if necessary before the 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the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operators compare value and type so no type conversion is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operators are also used for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72A-09B3-40E7-A01C-19126E181E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95E4C-A55E-4889-A7B2-76053A8020C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== and ===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a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an inte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rue since both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aluate to false b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alse sinc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E93-94E9-4E14-ADC1-C52744E0F0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E31B-1F7D-4644-94EE-65A72532C975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rtant PHP Featur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from beginning as a server-side web scripting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s on all major operating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t-in support for several relational databases such as 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t-in support for session management using cookies and / or URL rewri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be used for command-line scrip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6D1-B322-4DD4-9A91-6CAF41739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A1F92-0811-4849-87AF-ED3700A9AEF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ditional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f statement is similar to C and Java excep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used instead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gt;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2546280"/>
            <a:ext cx="4647960" cy="35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anExpression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se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Expression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05C-EF05-4DF9-BADC-254CC3A45A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ED09C-85A2-4518-BF08-5E7BC85B3F2A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ty(vari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variable is set and has an empty value (for example, 0, ' '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sset(vari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the variable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se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s_null(vari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an existing variable has the nul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837-032E-4883-8D50-B5F095D806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B77D6-94EE-4716-BFC4-48CF61FB653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ty / isset (from manua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var = 0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Evaluates to true because $var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mpty($var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echo '$var is either 0, empty, or not set at all'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Evaluates as true because $var is 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isset($var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echo '$var is set even though it is empty'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E75-2C2E-43B7-B57A-CCFF5F2D7C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90B6B-207E-495E-A6FB-0807A7EAC28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math constants in PHP. For example      i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M_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      i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M_SQRT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h func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38280" y="1959120"/>
                <a:ext cx="45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914400" y="3343680"/>
            <a:ext cx="6867360" cy="222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rad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ci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2.0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M_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rad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are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M_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rad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$rad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  <a:ea typeface="Courier New"/>
              </a:rPr>
              <a:t>"Circumference is $circ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  <a:ea typeface="Courier New"/>
              </a:rPr>
              <a:t>"Area is $area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289480" y="1844640"/>
                <a:ext cx="577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010-9E2E-456F-B366-0547FEE9AC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C8A5-0AB7-4CF7-9D1F-32F57CB7008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math functions in PH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b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q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i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o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si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co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ta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tan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xp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xpm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o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og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ra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i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any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h func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E0E-EA48-4A56-95C2-7B6464AFB9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6FB5-7CF5-46EF-ABB6-662D5DB97C0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s and String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interpo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or double quotes as delimi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s are not interpolated in singly quoted string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clude a single quote it is necessary to use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\'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to include a backslash use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\\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s are interpolated in doubly quoted strings and escape sequences such as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\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$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{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[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\]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F63-1A6E-45A3-9126-86C8674B6A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33049-B584-408C-8243-47E7D806DCA9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oper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ot operator is used to concatenate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 " . "World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ame a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 World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rint_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var_dum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s display strings on standard 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ngth of a string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le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character of string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A2C-EEB7-4C9C-8A6A-60B7A7BCB6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3BC9E-32AE-4740-9A85-E67F03C8788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oper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ing whitespace from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m whitespace at left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trimmed_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tri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m whitespace at right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trimmed_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rtri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m whitespace at both 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trimmed_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ri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8A9-6970-407C-8291-0DA77455C5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FC878-C847-4FF3-A18C-427E64595A87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operat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upper case or lower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to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to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first character of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upper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upper_firs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cfirs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first character of every word in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upper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upper_w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cword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8CD-E864-4D77-A5B9-3BC843D2D9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DDBE7-636B-4619-B63D-084E53FAC6A0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rtant PHP Featur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ly typed langu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can hold a value of any type at different stages in its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d in a non object-oriented style or an object-oriented style or a mixture of bo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the most popular web script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2F1-CA52-4CBA-BBB7-183CD53CB4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57B3-F025-46E1-A942-848E80E976A7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TML en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HTML character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ve special entitie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amp;amp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so they can be used in HTML documents as ordinary characters without special mea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mlspecialcha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can be used to do this.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&lt;p&gt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htmlspecialchar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s the value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&amp;lt;p&amp;gt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222-DCC6-4B47-8039-B15EC922D3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D7CF1-1545-4C73-B838-2D6B5533658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en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query strings and database fields need to be encoded. The encodings can depend on the particular data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andard encoding is to precede single quotes, double quotes, NUL bytes and backslashes by a backsl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slas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performs the encoding and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ipslas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performs the de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820-3BC9-4809-A302-0FE1ECDA18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0D6EE-3E73-47A9-BBA2-95D2E7FBE1A0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comparis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the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't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Unexpected results for mixed comparisons of numbers and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=== and !== to compare 2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394160"/>
            <a:ext cx="46479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tr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tr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trings are equa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A46-9D2A-4AB8-9C8F-598B1124AD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D676F-AD9F-4C2A-806D-9CAC1751DF55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comparis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mpare two strings as strings its best to use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cm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(similar to C, Ja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cm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tu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integer i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eced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ger i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llow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s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casecm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do case insensitive 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other comparison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4B7-C50A-4F42-8618-47EE5CDE0F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C757A-C0FE-4910-A2A3-EE8F88FBEF70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strings, re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tring, sta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substring of string beginning at index start and continuing to end of th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tring, start, leng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substring of string beginning at index start and consisting of length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functions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_repl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re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_repe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_p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ED1-B972-4B3F-97CD-7B512C3892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58FCB-9984-4EEA-B9F3-0CE3B5CC6EC3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loding a st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xplod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parator, st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an array of substrings using the characters in separator as field sepa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n array of the three strings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123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Tahoma"/>
              </a:rPr>
              <a:t>"Jack Sprat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cc00cc"/>
                </a:solidFill>
                <a:latin typeface="Tahoma"/>
              </a:rPr>
              <a:t>"45.50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581280"/>
            <a:ext cx="556272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123:Jack Sprat:45.5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pl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: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C24-767A-48E3-BC90-F28D10D3D7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F4F50-D9FD-4EEC-961D-1922AAD0764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oding a st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mplod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parator, 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e of explode: makes a single string from the strings in an array using separator string between each string in th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w contains the string</a:t>
            </a:r>
            <a:br>
              <a:rPr sz="3200"/>
            </a:b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123:Jack Sprat:45.50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809880"/>
            <a:ext cx="70102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array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1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ck Spra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45.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mpl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: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970-CBDB-4680-8075-729942FF169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1F0C-298D-449B-8FE6-FF253A4DC9E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string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po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tring, targ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position of first occurrence of target string in string. If target not found false is returned but if target is found at position 0 then 0 is returned and this would also be false, YUK. Therefore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check if string wasn't f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267080"/>
            <a:ext cx="7010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po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tring to search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tr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= fals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string wasn't fo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string was found at position $po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114-FCF8-4235-9FD5-F42655E41CC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408CD-6274-4359-8FFC-E03629AB58F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string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ther string searching functions are bizarre and probably should never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rp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nds the last occurrence of a character but won't find the last occurrence of a multi-character string. To find last occurrence us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re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po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get these functions and use regular expres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974-D15F-4F94-BD23-ECEFEA8169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8E110-9601-4B43-8379-5C2D86B49896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Expressions in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rtant PHP featur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figured as a CGI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ineffici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parate process is needed for each connection to the web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configured as an Apach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effici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nstance of the PHP interpreter remains running as long as the web server is run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9E9-68F6-4E5E-8C8D-3CCED03BE9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B9D9-DCB5-401D-B009-285FD15542B6}" type="datetime1">
              <a:rPr lang="en-US"/>
              <a:t>07/30/26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expressions provide a powerful way to do pattern matching: finding one pattern in an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mplest patterns are fixed strings like those in the searching function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trp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 patterns can represent complex classes of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for validating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29F-A1D7-408C-98FF-A7A0016293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81952-BFAF-45B3-B3FA-097631D6CF0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at, s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match for pattern was found in st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rg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case insensitiv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reg_replac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at, replace, s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currence of pattern match in string is replaced by the replace string. Result is returned as a new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rgi_repl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case insensitiv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D39-7428-4202-960B-BD9850008A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DA59C-9731-4B59-8669-907B5B22226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attern, st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s string into substrings using pattern as the delimiter. The substrings are returned as a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8FD-32CA-47E2-800B-9B564480F08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A4756-A686-45B2-B224-9970E2CACCD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Reg Exp Examp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ing strings containing only dig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^[0-9]+$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2342123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2124s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^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tches the beginning of the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tches the end of the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[0-9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ecifies a range for a charac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ans 1 or more occur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1DE-97C9-42F1-AB63-7F3EFB461D2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26CB3-0110-426E-B43E-55FDD045AB1D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Reg Exp Examp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ing phone numbers of the form</a:t>
            </a:r>
            <a:br>
              <a:rPr sz="3200"/>
            </a:br>
            <a:r>
              <a:rPr b="0" lang="en-US" sz="3200" spc="-1" strike="noStrike">
                <a:solidFill>
                  <a:srgbClr val="cc00cc"/>
                </a:solidFill>
                <a:latin typeface="Tahoma"/>
              </a:rPr>
              <a:t>"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ddd-ddd-ddd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^[0-9]{3}-[0-9]{3}-[0-9]{4}$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hyphen is a literal character and </a:t>
            </a:r>
            <a:r>
              <a:rPr b="0" lang="en-US" sz="3200" spc="-1" strike="noStrike">
                <a:solidFill>
                  <a:srgbClr val="cc00cc"/>
                </a:solidFill>
                <a:latin typeface="Tahoma"/>
              </a:rPr>
              <a:t>{3}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dicates exactly three occurrences of the preceding charact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EBD-A4EA-4E32-8C83-9C51956872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1752B-EF89-421D-8B68-79ED7675D8E1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Reg Exp exampl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 file names with php extension in directories simple or forms, for exa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imple/test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ms/temp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represents any character so to get a literal . it is necessary to use \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...|...) is alternation: simple 'or' test in this c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3048120"/>
            <a:ext cx="7772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^(simple|forms)/[0-9a-zA-Z_]+\.php$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imple/tes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CB8-B012-4CE4-BDE3-088620EF52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838FF-60EE-4751-A423-45ED43D3C26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 Regular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PCRE (Perl Compatible Regular Expressions) versions of thes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match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attern, st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repla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attern, replace, st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attern, st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miters are needed in the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  /...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few vari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match_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gr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CAC-F4FD-46B5-92C5-6A1C3F6863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730AD-261C-44D5-BDD8-93973F833E0A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 Reg Exp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 names containing letters, hyphens and apostrophe'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^[a-zA-Z\-\']+$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e delimiters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eded for Per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note that 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c00cc"/>
                </a:solidFill>
                <a:latin typeface="Courier New"/>
              </a:rPr>
              <a:t>'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escaped since they are spe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to validate a name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g_match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896-A727-42E7-AD0A-AFE668457F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6226D-CD59-46A4-8E3E-A6DEA36A61B9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 in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ypes of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ed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dices are 0, 1, 2, .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like arrays in C, Java, or Pe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es are strings (ke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similar to hashes in Perl or HashMap'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values can be stored in an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2C4-B6E4-4614-9A77-8A400D0661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F1F3F-6EEE-46F4-AD65-AE986D7A2897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 incompat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test versions 4.1 and above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mpatible with earlier versions 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gister_glob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et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w the default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hp.i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l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highly recommended to leave it off for security reasons. We will assume th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ns that values in certain global arrays are no longer mapped to variables in PH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this when we do web apps in 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162920" y="1697040"/>
            <a:ext cx="1523880" cy="893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A38-2C21-4A51-BE4B-DC1AF76E5D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2B2C-730A-48C5-8985-EF7FE04784E8}" type="datetime1">
              <a:rPr lang="en-US"/>
              <a:t>07/30/26</a:t>
            </a:fld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indexed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d initializing an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rray(10, 20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p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10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20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2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p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ing the array dynam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 = 30;  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// this is $a[3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 array by autoviv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] = 10;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1] = 20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p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// next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 = 30; 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// next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E8F-EFFC-4B56-B3F5-80BAFB102C5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653A7-8030-497D-9A35-8D30CEF809CF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ed arrays from 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digit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ang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0,9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digit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0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digit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1,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ang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a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'z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a'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letter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b'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383-C02E-4B46-A7A4-95B9B2A3D8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63F35-384D-4B53-B2A7-1C14C22C2C20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ed array list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ion is quite useful for making multiple assignments from an indexed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only works for indexed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022560"/>
            <a:ext cx="7238880" cy="225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23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o-name P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4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escri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id = $id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description = $description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price = $price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2E0-5E25-4AAD-AA7A-6A75310651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91467-4B66-491E-904A-88794FC884B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ed array sl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ray_slic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, offset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leng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a subarray with length elements of array begining at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ct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5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14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lic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0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slic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9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708360"/>
            <a:ext cx="79246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an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z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l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_sl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lett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5,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C4A-21DA-41D8-86AB-F4DB5FFC40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A473A-A752-4E33-A70F-97EBAA3785C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ve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ssociative array is a table of key-value pairs. Here the names are the keys and the values are the 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124080"/>
            <a:ext cx="8001000" cy="225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array(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37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l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17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ob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Fred's age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'Fred'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65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red is now a sen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Fred's age is {$age['Fred']}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5486400"/>
            <a:ext cx="2286000" cy="990720"/>
          </a:xfrm>
          <a:prstGeom prst="wedgeEllipseCallout">
            <a:avLst>
              <a:gd name="adj1" fmla="val -53750"/>
              <a:gd name="adj2" fmla="val -655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braces needed f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BB2-1489-4BF3-AD00-B324C6389D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972CD-F8D3-4177-A2EC-BBB6CCDB7EA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ve arrays as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ssociative array can represent a record in a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971800"/>
            <a:ext cx="8001000" cy="271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array(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umb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12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'Fred'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lan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450.5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ccount balance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lan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lan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+= 100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eposit 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New balance is {$account['balance']}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DA9-C0E1-414C-9352-4FCC8FD061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BBC1A-989A-438D-A28A-5A961087B40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ve arrays of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alues can be an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alues here are arrays each containing the red, green blue components of a 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336760"/>
            <a:ext cx="79246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array(255,0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ree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array(0,255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lu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array(0,0,25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yello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array(255,255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row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array(128,64,0) 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yell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yello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yellow array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yello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0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ed part of 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6A9-CCB9-4DE9-A204-BE7FBBA64D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2D540-1EB7-4AA1-BA44-570E8398F10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ve array ke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ray_key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the keys of the given associative array into an indexed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color_name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red'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color_name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4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brown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3200400"/>
            <a:ext cx="579132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_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array_keys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6DE-EF7C-4AD8-B24B-9EC3E7452D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6442C-5998-4633-BA3A-042E891F126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ing for key existenc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ray_key_exist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key, 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the given key exists in the array. If the key exists it may or may not be nu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"key exists" is displayed (also see is_nu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3098880"/>
            <a:ext cx="67820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1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'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pr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=&gt; 2.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_key_exis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key exist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key does not exis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C1A-ABC5-4EE4-9CDA-2B7A36C59C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F72E6-355B-462C-815E-2873C43BE01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ing for key existen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['key'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the given key exists in the array and is not 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"key does not exist or is null" is displa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022560"/>
            <a:ext cx="67820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1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r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.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key exists and is not null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key does not exist or is null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687-117D-4EA4-B1F3-C904FEDBB72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92F9E-ABB4-491A-A015-48008E80778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PHP Installation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--&gt; variables (extrac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x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converts an array to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reates the variab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bal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the valu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5.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n inverse function calle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2793960"/>
            <a:ext cx="800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umb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123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a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'Fred'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lan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45.50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tra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c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EXTR_PREFIX_SAME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m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7FA-29E1-4125-B672-81B0D13635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3E6B-8D11-4397-ADA2-B49CF5DC7A2C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copy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HP array assignment is a copy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very different than Java where array assignment simply makes a new reference to the same array. To test this 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rd's age is still 23 in th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708360"/>
            <a:ext cx="37339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_cop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_cop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55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r_du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r_du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_cop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75E-E1EE-48B6-B8CA-D8A1DB5178F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097EB-75A2-4BE7-B19F-5C521CA9EB88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_array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lement, array)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_array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lement, array,TR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if the given element is found in the given array (TRUE option for same typ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ray_search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lement, array)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ray_search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lement, array,TR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he key of the element if found, else returns false (TRUE option for same typ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499-1846-4324-A2F5-B3CDFD2738A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62004-152F-4AE9-A0DE-E9D75F84353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rt(array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sort(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 array in ascending alphabetical or numerical order or reverse alphabetical or numerical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048120"/>
            <a:ext cx="769644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rney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'Barney','Fred','Gord','Te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_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s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'Ted','Gord','Fred','Barney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_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62F-DDF3-4F74-8BF9-5F06EA2228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58E5F-8F72-4FA9-B257-BDEC61A30A5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so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so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 associative array by values in ascending or descend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der is increasing order of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3048120"/>
            <a:ext cx="769644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 =&gt; 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ed' =&gt; 4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rney' =&gt; 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ord' =&gt; 1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s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'Gord','Barney,'Fred','Te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_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2DD-E7FE-4393-B362-889DA73B8F9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DD5E2-3D00-42DB-9132-C1EC08D8DBE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rting array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kso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krso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 associative array by keys in ascending or descend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der is ascending alphabetical order of the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048120"/>
            <a:ext cx="769644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 =&gt; 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ed' =&gt; 4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Barney' =&gt; 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Gord' =&gt; 1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s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'Barney','Fred','Gord','Te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_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0E3-1A15-4129-902E-F613F2D0D89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D416E-F272-407F-BED1-7BB42BFF483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array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other array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ing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ing multiple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-defined s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_wal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_re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ging two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perations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operations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shi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A0E-8460-4AAB-AE34-D4AE339157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4EC12-0AD8-45BF-AFB7-80C6B1188D2F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C and Ja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2286000"/>
            <a:ext cx="7848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1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= 1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" y="4165560"/>
            <a:ext cx="784836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4, 45, 56, 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3D3-4FC5-464F-B88E-9253DB77CA7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8AC89-76D7-47F3-9E63-A2902626FD18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reach loo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for indexed arrays when the loop index is not needed as in preceding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cessively takes on the array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ea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kes a copy of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666880"/>
            <a:ext cx="495288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4, 45, 56, 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ach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 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878-DA39-4492-BB2D-E63590A95A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6427A-03A7-4970-AA8B-A0A8CEFD94E2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oreach loo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for processing associative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k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successively the keys and values in th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2514600"/>
            <a:ext cx="784836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3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o-name P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r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549.9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ach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Key = $key, Value = $value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E88-86FA-4579-AFA0-57AF88818E0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BF7EC-EAA4-41BF-927A-8F24EBB01048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ing PHP for Win X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we give only a brief description of 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mplete details are available on the course CD-ROM or online 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37560" y="4191120"/>
            <a:ext cx="76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laurentian.ca/badams/c2206/install-notes/php/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C90-8BC0-4BD7-AC6D-3E98772F84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502FA-F389-4861-9ED0-54855905793A}" type="datetime1">
              <a:rPr lang="en-US"/>
              <a:t>07/30/26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hile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C and Jav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be used with iterator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th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ea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nce a copy of the array is not made (see next sli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2514600"/>
            <a:ext cx="784836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3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o-name P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r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549.9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a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Key = $key, Value = $value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180-AAD9-4AB0-91CD-C02862BD03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55AE4-B0F7-40C3-A1F1-6467ACC78713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</a:t>
            </a: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eac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arra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ach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itially returns the associative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0 =&gt; 'id', 1 =&gt; 23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'key' =&gt; 'id', 'value' =&gt; 23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rray can be used either as an indexed or an associative array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2057400"/>
            <a:ext cx="7848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rodu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23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des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o-name P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r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&gt; 549.9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94B-1450-46D8-8CC1-6ADA505914D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4C99-075D-4CE0-96DE-31EEACCE9817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p iterator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op iterator functions for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urr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rese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e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ach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ke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rr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F54-DF65-4FC0-A0A8-A02E934DCE12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2656F-D03B-447D-B8C6-94E50E77643A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 while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C and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297080" y="2357280"/>
            <a:ext cx="5029200" cy="25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(cond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A90-DDE1-4773-A112-EFCF5BE80B8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A1914-FABB-4EBE-AA04-7348572E583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-defined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unctions have the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2357280"/>
            <a:ext cx="6551640" cy="25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rg_li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573-8195-4C6C-BC22-AC7F4E78AF3C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330F0-790B-4A89-8D6B-0094A9E37133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sc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scoping is very simple in 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s defined inside functions are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s defined outside functions are global variables not available inside a function unless declared as global inside a function using the global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 few predefined superglobal variables available any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C1F-D73B-4A55-A473-BF5D0D5CE96B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47D54-B433-4B60-A388-3D1D6BE43924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scop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that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defined outside any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839880" y="2514600"/>
            <a:ext cx="57895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lobal $name not available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9880" y="4343400"/>
            <a:ext cx="57895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lobal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lobal $name is available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2920" y="2590920"/>
            <a:ext cx="1752480" cy="1981080"/>
          </a:xfrm>
          <a:prstGeom prst="wedgeEllipseCallout">
            <a:avLst>
              <a:gd name="adj1" fmla="val -72101"/>
              <a:gd name="adj2" fmla="val 259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Use Glob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9F9-B438-43A3-853C-D5B5F060583A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7647-C75E-44D7-82D6-DBB66A7004DC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c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ariables are local to a function but initialized only once, when the function is called the firs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3124080"/>
            <a:ext cx="60962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tatic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unt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5013360"/>
            <a:ext cx="6096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isplays 0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isplay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A9F-C921-4EFF-8F64-02B00951EED2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90FA1-BBE8-4F57-A0FD-2636FDA3F3FD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max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the max of two numer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839880" y="2514600"/>
            <a:ext cx="578952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5003640"/>
            <a:ext cx="5789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max of 2 and 3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,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DC2-19F3-487B-BDF8-191335C0840F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95B2F-D808-4910-A705-8269EB77729F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s by val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y each element of an array by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2057400"/>
            <a:ext cx="59418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s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2 * $a[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1981080"/>
            <a:ext cx="1600200" cy="1600200"/>
          </a:xfrm>
          <a:prstGeom prst="wedgeRoundRectCallout">
            <a:avLst>
              <a:gd name="adj1" fmla="val -100000"/>
              <a:gd name="adj2" fmla="val 3839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7080" y="4879800"/>
            <a:ext cx="777240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,2,3,4,5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imes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 var_ex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/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1,2,3,4,5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 var_ex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/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2,4,6,8,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030-E3B0-417D-AC71-61FD6CA58B52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7CABF-EB02-4807-B1A8-80864E8A20EE}" type="datetime1">
              <a:rPr lang="en-US"/>
              <a:t>07/30/26</a:t>
            </a:fld>
          </a:p>
        </p:txBody>
      </p:sp>
    </p:spTree>
  </p:cSld>
  <p:transition>
    <p:cover dir="l"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6-28T12:44:19Z</dcterms:modified>
  <cp:revision>101</cp:revision>
  <dc:subject>Introduction to PHP language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